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8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11.wmf" ContentType="image/x-wmf"/>
  <Override PartName="/ppt/media/image35.wmf" ContentType="image/x-wmf"/>
  <Override PartName="/ppt/media/image37.png" ContentType="image/png"/>
  <Override PartName="/ppt/media/image40.wmf" ContentType="image/x-wmf"/>
  <Override PartName="/ppt/media/image13.wmf" ContentType="image/x-wmf"/>
  <Override PartName="/ppt/media/image5.png" ContentType="image/png"/>
  <Override PartName="/ppt/media/image38.png" ContentType="image/png"/>
  <Override PartName="/ppt/media/image41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39.png" ContentType="image/png"/>
  <Override PartName="/ppt/media/image42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33.jpeg" ContentType="image/jpeg"/>
  <Override PartName="/ppt/media/image30.wmf" ContentType="image/x-wmf"/>
  <Override PartName="/ppt/media/image7.wmf" ContentType="image/x-wmf"/>
  <Override PartName="/ppt/media/image10.wmf" ContentType="image/x-wmf"/>
  <Override PartName="/ppt/media/image25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16D-83D5-4825-B2F7-C27DB5AE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AE1-7BDF-4FF5-A3E5-01FD9DC6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50F-4E39-491C-A1C2-205085F0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331-B2BC-467B-A736-285AA595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5FE-2A19-47C2-87EF-63B9662F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789-BB67-4F50-99F8-DF058C9E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86B-1225-4EE8-AB17-A24A9C52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62F-F3A5-45DA-8994-30496E51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41F-17E8-48C8-8ED7-AB26260D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775-F525-4F14-B9E7-A761B95C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A23-515D-4FAD-AD48-4E9D4CE0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5CB-8455-4568-9635-386D6A5E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E225-FCAF-4D5D-93BD-E6A13ACD7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hyperlink" Target="http://www.receita.fazenda.gov.br/" TargetMode="External"/><Relationship Id="rId4" Type="http://schemas.openxmlformats.org/officeDocument/2006/relationships/hyperlink" Target="http://www.receita.fazenda.gov.br/" TargetMode="Externa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hyperlink" Target="http://www.receita.fazenda.gov.br/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14400"/>
            <a:ext cx="8886960" cy="290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e de Pontos por Funçã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a Aplicação na Gestão de Projetos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43480" y="5105520"/>
            <a:ext cx="5603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66"/>
                </a:solidFill>
                <a:latin typeface="Times New Roman"/>
              </a:rPr>
              <a:t>Claudia Hazan, MSc, CF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Times New Roman"/>
              </a:rPr>
              <a:t>claudinhah@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4038480" cy="3325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9760" y="1392120"/>
            <a:ext cx="78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SM -Practical Software 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 Black"/>
              </a:rPr>
              <a:t>P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2286000"/>
            <a:ext cx="7696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a abordagem para o gerenciamento a partir de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a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stinada aos gerentes de projetos de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 Black"/>
              </a:rPr>
              <a:t>P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219320"/>
            <a:ext cx="6878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O que é o P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600200"/>
            <a:ext cx="81313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2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SM utiliza dois modelos integr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Informação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para Mediç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nece um caminho para a seleção das medidas a serem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3501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o Proces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de Med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 de guia para a implementação do P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914400"/>
            <a:ext cx="687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Como Funciona o P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 Black"/>
              </a:rPr>
              <a:t>P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05360" cy="4586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66680" y="304920"/>
            <a:ext cx="687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delo de Inform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228600"/>
            <a:ext cx="687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delo de Proces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83818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684520"/>
            <a:ext cx="7010280" cy="2438280"/>
          </a:xfrm>
          <a:prstGeom prst="ellipse">
            <a:avLst/>
          </a:prstGeom>
          <a:solidFill>
            <a:srgbClr val="0099ff">
              <a:alpha val="50000"/>
            </a:srgbClr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39040" y="2836800"/>
            <a:ext cx="65250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ntos de Função (P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 uma medida de dimensionamento de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ravés da funcionalidade implementada em 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, sob o ponto de vista do usuá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391520" y="4665600"/>
          <a:ext cx="144756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665600"/>
                    <a:ext cx="14475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80880" y="1389240"/>
            <a:ext cx="1371600" cy="112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56680" y="1770120"/>
            <a:ext cx="249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dc0081"/>
                </a:solidFill>
                <a:latin typeface="Times New Roman"/>
              </a:rPr>
              <a:t>=  1000 P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0880" y="4724280"/>
          <a:ext cx="190512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4724280"/>
                    <a:ext cx="1905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010280" y="1514520"/>
          <a:ext cx="1676520" cy="1322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10280" y="1514520"/>
                    <a:ext cx="167652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305800" y="22860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nálise de Pontos por Fu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905120" y="1600200"/>
            <a:ext cx="4991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Objetivos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942840" y="2819520"/>
            <a:ext cx="457200" cy="45720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29720" y="2666880"/>
            <a:ext cx="563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edir a funcionalidade requisit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 recebida pelo usuá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8320" y="4311720"/>
            <a:ext cx="457200" cy="45720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57720" y="4159080"/>
            <a:ext cx="628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edir Projetos de Desenvolvimento 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anutenção independentemente 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ecnologia uti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840" y="5911920"/>
            <a:ext cx="85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Publicado como Padrão Internacional - ISO/IEC  20926</a:t>
            </a:r>
            <a:r>
              <a:rPr b="1" i="1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05800" y="22860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nálise de Pontos por Fu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98520" y="1371600"/>
            <a:ext cx="732204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7b00e4"/>
                </a:solidFill>
                <a:latin typeface="Times New Roman"/>
              </a:rPr>
              <a:t>APF relata diretamente os requisitos do negócio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063de8"/>
                </a:solidFill>
                <a:latin typeface="Times New Roman"/>
              </a:rPr>
              <a:t>APF é independente da tecnologia utiliz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767900"/>
                </a:solidFill>
                <a:latin typeface="Times New Roman"/>
              </a:rPr>
              <a:t>APF torna possível as estimativas nas fases inici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767900"/>
                </a:solidFill>
                <a:latin typeface="Times New Roman"/>
              </a:rPr>
              <a:t>do processo de desenvolvimento de softw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006b61"/>
                </a:solidFill>
                <a:latin typeface="Times New Roman"/>
              </a:rPr>
              <a:t>APF fornece facilidade para uma reestimat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ad6900"/>
                </a:solidFill>
                <a:latin typeface="Times New Roman"/>
              </a:rPr>
              <a:t>APF fornece suporte ao gerenciamento do Projet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600" spc="-1" strike="noStrike">
                <a:solidFill>
                  <a:srgbClr val="336699"/>
                </a:solidFill>
                <a:latin typeface="Times New Roman"/>
              </a:rPr>
              <a:t>APF apoia a análise de produtividade e qualida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5640" y="1674720"/>
            <a:ext cx="291960" cy="2923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7b00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25640" y="2320920"/>
            <a:ext cx="291960" cy="2919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25640" y="3083040"/>
            <a:ext cx="291960" cy="2919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1000" y="4226040"/>
            <a:ext cx="292320" cy="291960"/>
          </a:xfrm>
          <a:prstGeom prst="rightArrow">
            <a:avLst>
              <a:gd name="adj1" fmla="val 50000"/>
              <a:gd name="adj2" fmla="val 50066"/>
            </a:avLst>
          </a:prstGeom>
          <a:solidFill>
            <a:srgbClr val="006b6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25640" y="4911840"/>
            <a:ext cx="291960" cy="2919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19160" y="5521320"/>
            <a:ext cx="291960" cy="2919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05800" y="22860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nálise de Pontos por Fu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1496880"/>
            <a:ext cx="8839080" cy="4757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85800" y="1033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são Ge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5800" y="22860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nálise de Pontos por Fu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286000"/>
            <a:ext cx="9144000" cy="45720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43000" y="1143000"/>
            <a:ext cx="692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cedimento de Contagem</a:t>
            </a:r>
            <a:endParaRPr b="0" lang="en-US" sz="4800" spc="1" strike="noStrike">
              <a:ln w="1908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4646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46465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388476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388476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502776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586584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43419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808440"/>
            <a:ext cx="0" cy="12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257800" y="380844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543800" y="502776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434196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0" y="4114800"/>
            <a:ext cx="1447920" cy="1066680"/>
            <a:chOff x="0" y="4114800"/>
            <a:chExt cx="1447920" cy="1066680"/>
          </a:xfrm>
        </p:grpSpPr>
        <p:sp>
          <p:nvSpPr>
            <p:cNvPr id="191" name=""/>
            <p:cNvSpPr/>
            <p:nvPr/>
          </p:nvSpPr>
          <p:spPr>
            <a:xfrm>
              <a:off x="0" y="4114800"/>
              <a:ext cx="1447920" cy="1066680"/>
            </a:xfrm>
            <a:prstGeom prst="cube">
              <a:avLst>
                <a:gd name="adj" fmla="val 893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80" y="4191120"/>
              <a:ext cx="132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termin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p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ag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676880" y="3581280"/>
            <a:ext cx="1488600" cy="2133720"/>
            <a:chOff x="1676880" y="3581280"/>
            <a:chExt cx="1488600" cy="2133720"/>
          </a:xfrm>
        </p:grpSpPr>
        <p:sp>
          <p:nvSpPr>
            <p:cNvPr id="194" name=""/>
            <p:cNvSpPr/>
            <p:nvPr/>
          </p:nvSpPr>
          <p:spPr>
            <a:xfrm>
              <a:off x="1752480" y="3581280"/>
              <a:ext cx="1413000" cy="2133720"/>
            </a:xfrm>
            <a:prstGeom prst="cube">
              <a:avLst>
                <a:gd name="adj" fmla="val 8930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880" y="3809880"/>
              <a:ext cx="142128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dentifica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scopo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agem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ronteira 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44800" y="3276720"/>
            <a:ext cx="1413000" cy="1066680"/>
            <a:chOff x="3844800" y="3276720"/>
            <a:chExt cx="1413000" cy="1066680"/>
          </a:xfrm>
        </p:grpSpPr>
        <p:sp>
          <p:nvSpPr>
            <p:cNvPr id="197" name=""/>
            <p:cNvSpPr/>
            <p:nvPr/>
          </p:nvSpPr>
          <p:spPr>
            <a:xfrm>
              <a:off x="3844800" y="3276720"/>
              <a:ext cx="1413000" cy="1066680"/>
            </a:xfrm>
            <a:prstGeom prst="cube">
              <a:avLst>
                <a:gd name="adj" fmla="val 893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54960" y="3352680"/>
              <a:ext cx="107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a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unç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 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703680" y="4495680"/>
            <a:ext cx="1552320" cy="1067040"/>
            <a:chOff x="3703680" y="4495680"/>
            <a:chExt cx="1552320" cy="1067040"/>
          </a:xfrm>
        </p:grpSpPr>
        <p:sp>
          <p:nvSpPr>
            <p:cNvPr id="200" name=""/>
            <p:cNvSpPr/>
            <p:nvPr/>
          </p:nvSpPr>
          <p:spPr>
            <a:xfrm>
              <a:off x="3809880" y="4495680"/>
              <a:ext cx="1413000" cy="1067040"/>
            </a:xfrm>
            <a:prstGeom prst="cube">
              <a:avLst>
                <a:gd name="adj" fmla="val 8930"/>
              </a:avLst>
            </a:prstGeom>
            <a:solidFill>
              <a:srgbClr val="00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03680" y="457056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a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unç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ansaciona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315200" y="4341960"/>
            <a:ext cx="228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944680" y="3733920"/>
            <a:ext cx="1370520" cy="1067760"/>
            <a:chOff x="5944680" y="3733920"/>
            <a:chExt cx="1370520" cy="1067760"/>
          </a:xfrm>
        </p:grpSpPr>
        <p:sp>
          <p:nvSpPr>
            <p:cNvPr id="204" name=""/>
            <p:cNvSpPr/>
            <p:nvPr/>
          </p:nvSpPr>
          <p:spPr>
            <a:xfrm>
              <a:off x="6019920" y="3733920"/>
              <a:ext cx="1295280" cy="1066680"/>
            </a:xfrm>
            <a:prstGeom prst="cube">
              <a:avLst>
                <a:gd name="adj" fmla="val 8930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4680" y="3884760"/>
              <a:ext cx="132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termin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s PF N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jus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315200" y="5865840"/>
            <a:ext cx="228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944680" y="5257800"/>
            <a:ext cx="1370520" cy="1066680"/>
            <a:chOff x="5944680" y="5257800"/>
            <a:chExt cx="1370520" cy="1066680"/>
          </a:xfrm>
        </p:grpSpPr>
        <p:sp>
          <p:nvSpPr>
            <p:cNvPr id="208" name=""/>
            <p:cNvSpPr/>
            <p:nvPr/>
          </p:nvSpPr>
          <p:spPr>
            <a:xfrm>
              <a:off x="5978520" y="5257800"/>
              <a:ext cx="1336680" cy="1066680"/>
            </a:xfrm>
            <a:prstGeom prst="cube">
              <a:avLst>
                <a:gd name="adj" fmla="val 893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44680" y="5332320"/>
              <a:ext cx="132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termin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 Fato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jus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832520" y="4495680"/>
            <a:ext cx="1159200" cy="1067040"/>
            <a:chOff x="7832520" y="4495680"/>
            <a:chExt cx="1159200" cy="1067040"/>
          </a:xfrm>
        </p:grpSpPr>
        <p:sp>
          <p:nvSpPr>
            <p:cNvPr id="211" name=""/>
            <p:cNvSpPr/>
            <p:nvPr/>
          </p:nvSpPr>
          <p:spPr>
            <a:xfrm>
              <a:off x="7848720" y="4495680"/>
              <a:ext cx="1143000" cy="1067040"/>
            </a:xfrm>
            <a:prstGeom prst="cube">
              <a:avLst>
                <a:gd name="adj" fmla="val 8930"/>
              </a:avLst>
            </a:prstGeom>
            <a:solidFill>
              <a:srgbClr val="33cc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32520" y="4572000"/>
              <a:ext cx="11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cula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s 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jus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181480" y="5105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44000" y="15228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600200"/>
            <a:ext cx="381240" cy="38088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80160" y="151452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440" y="2386080"/>
            <a:ext cx="380880" cy="38088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3200" y="2300400"/>
            <a:ext cx="33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çõe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209760"/>
            <a:ext cx="380880" cy="38124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03480" y="31240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álise de Pontos por Fu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48200"/>
            <a:ext cx="380880" cy="38088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05280" y="3962520"/>
            <a:ext cx="58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enciamento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824360"/>
            <a:ext cx="380880" cy="38088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03840" y="473868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2640" y="5662440"/>
            <a:ext cx="381240" cy="381240"/>
          </a:xfrm>
          <a:prstGeom prst="cube">
            <a:avLst>
              <a:gd name="adj" fmla="val 25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82960" y="557676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920" y="990720"/>
            <a:ext cx="1676160" cy="1066680"/>
          </a:xfrm>
          <a:prstGeom prst="cube">
            <a:avLst>
              <a:gd name="adj" fmla="val 8930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12193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POS DE CÁLCULO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NTOS DE FU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2428920"/>
            <a:ext cx="85471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gem de PF de Projetos de 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F associados com a instalação inicial de um software no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gem de PF de Projetos de Manut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F associados com a melhoria de um software já ex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clui funcionalidade que é adicionada, modificada ou excluí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gem de PF de Apl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F associados com uma aplicação instal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uncionalidade da aplicação no ponto de vista d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1960" y="106668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r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p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1066680"/>
            <a:ext cx="1413000" cy="1828800"/>
          </a:xfrm>
          <a:prstGeom prst="cube">
            <a:avLst>
              <a:gd name="adj" fmla="val 8930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1880" y="1293840"/>
            <a:ext cx="14212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co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gem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eira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l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3581280"/>
            <a:ext cx="6933960" cy="2514600"/>
          </a:xfrm>
          <a:prstGeom prst="rect">
            <a:avLst/>
          </a:prstGeom>
          <a:solidFill>
            <a:srgbClr val="ccff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 a interface conceitual entre a aplicação “Interna” e o mundo do usuário “exter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to de vista do usuá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ada na funcionalidade do negócio,              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N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 implementação tecn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990720"/>
            <a:ext cx="65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ronteira é determinada baseada na visão do usuá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foco é no que o usuário pode entender e descre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4952880" y="914400"/>
            <a:ext cx="3733560" cy="1450080"/>
            <a:chOff x="4952880" y="914400"/>
            <a:chExt cx="3733560" cy="1450080"/>
          </a:xfrm>
        </p:grpSpPr>
        <p:sp>
          <p:nvSpPr>
            <p:cNvPr id="230" name=""/>
            <p:cNvSpPr/>
            <p:nvPr/>
          </p:nvSpPr>
          <p:spPr>
            <a:xfrm>
              <a:off x="6324480" y="914400"/>
              <a:ext cx="99036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96080" y="914400"/>
              <a:ext cx="99036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2880" y="914400"/>
              <a:ext cx="99036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14480" y="1904760"/>
              <a:ext cx="256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utras Aplicaç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209680" y="990720"/>
            <a:ext cx="2057400" cy="1913040"/>
            <a:chOff x="2209680" y="990720"/>
            <a:chExt cx="2057400" cy="191304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2209680" y="990720"/>
              <a:ext cx="205740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637000" y="244404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uá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496880" y="5486400"/>
            <a:ext cx="7188840" cy="1142640"/>
            <a:chOff x="1496880" y="5486400"/>
            <a:chExt cx="7188840" cy="1142640"/>
          </a:xfrm>
        </p:grpSpPr>
        <p:sp>
          <p:nvSpPr>
            <p:cNvPr id="238" name=""/>
            <p:cNvSpPr/>
            <p:nvPr/>
          </p:nvSpPr>
          <p:spPr>
            <a:xfrm>
              <a:off x="2726640" y="5553360"/>
              <a:ext cx="867960" cy="94140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96880" y="5486400"/>
              <a:ext cx="650880" cy="100836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28760" y="5688000"/>
              <a:ext cx="795960" cy="672120"/>
            </a:xfrm>
            <a:prstGeom prst="flowChartMagneticTap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6520" y="5754960"/>
              <a:ext cx="723600" cy="605160"/>
            </a:xfrm>
            <a:prstGeom prst="flowChartProcess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03600" y="5754960"/>
              <a:ext cx="289440" cy="201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1920" y="5754960"/>
              <a:ext cx="723600" cy="6051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89000" y="5956560"/>
              <a:ext cx="216720" cy="201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57320" y="5620680"/>
              <a:ext cx="13021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55000" y="5553360"/>
              <a:ext cx="109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ó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30400" y="5594040"/>
              <a:ext cx="125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sul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 Cl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1523880" y="3200400"/>
            <a:ext cx="3276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xter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724280" y="2590920"/>
            <a:ext cx="3810240" cy="2590560"/>
            <a:chOff x="4724280" y="2590920"/>
            <a:chExt cx="3810240" cy="2590560"/>
          </a:xfrm>
        </p:grpSpPr>
        <p:sp>
          <p:nvSpPr>
            <p:cNvPr id="250" name=""/>
            <p:cNvSpPr/>
            <p:nvPr/>
          </p:nvSpPr>
          <p:spPr>
            <a:xfrm>
              <a:off x="4724280" y="2590920"/>
              <a:ext cx="3810240" cy="259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5001480" y="3200040"/>
              <a:ext cx="242424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Inter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87480" y="3809880"/>
              <a:ext cx="969480" cy="1218600"/>
            </a:xfrm>
            <a:prstGeom prst="flowChartMagneticDisk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79400" y="2590920"/>
              <a:ext cx="295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APLICAÇÃ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52280" y="914400"/>
            <a:ext cx="1413000" cy="1828800"/>
          </a:xfrm>
          <a:prstGeom prst="cube">
            <a:avLst>
              <a:gd name="adj" fmla="val 8930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1880" y="1141560"/>
            <a:ext cx="14212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co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gem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eira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l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133720" y="3505320"/>
            <a:ext cx="213336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7120" y="3733920"/>
            <a:ext cx="13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çõ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3276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10080" y="2666880"/>
            <a:ext cx="2210040" cy="1219320"/>
          </a:xfrm>
          <a:prstGeom prst="flowChartMagneticDisk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4240" y="3048120"/>
            <a:ext cx="20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quivos 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0080" y="4191120"/>
            <a:ext cx="2210040" cy="1218960"/>
          </a:xfrm>
          <a:prstGeom prst="flowChartMagneticDisk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74520" y="4572000"/>
            <a:ext cx="211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quiv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609560" y="1295280"/>
            <a:ext cx="7305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dentificar Funções de Dado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9" name=""/>
          <p:cNvSpPr/>
          <p:nvPr/>
        </p:nvSpPr>
        <p:spPr>
          <a:xfrm>
            <a:off x="76320" y="990720"/>
            <a:ext cx="1412640" cy="1066680"/>
          </a:xfrm>
          <a:prstGeom prst="cube">
            <a:avLst>
              <a:gd name="adj" fmla="val 8930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6120" y="1066680"/>
            <a:ext cx="10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63520" y="1143000"/>
            <a:ext cx="1413000" cy="1066680"/>
          </a:xfrm>
          <a:prstGeom prst="cube">
            <a:avLst>
              <a:gd name="adj" fmla="val 8930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3320" y="1219320"/>
            <a:ext cx="10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2041560"/>
            <a:ext cx="74959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resentam a funcionalidade fornecida par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 usuário relativa aos requisitos  de dad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Times New Roman"/>
              </a:rPr>
              <a:t>Interno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000" spc="-1" strike="noStrike">
                <a:solidFill>
                  <a:srgbClr val="ff33cc"/>
                </a:solidFill>
                <a:latin typeface="Times New Roman"/>
              </a:rPr>
              <a:t>Arquivos Lógicos Interno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Externo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Arquivos de Interface Exter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 Aplicaçã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066680" y="4572000"/>
            <a:ext cx="7854120" cy="1676520"/>
            <a:chOff x="1066680" y="4572000"/>
            <a:chExt cx="7854120" cy="1676520"/>
          </a:xfrm>
        </p:grpSpPr>
        <p:sp>
          <p:nvSpPr>
            <p:cNvPr id="277" name=""/>
            <p:cNvSpPr/>
            <p:nvPr/>
          </p:nvSpPr>
          <p:spPr>
            <a:xfrm>
              <a:off x="1066680" y="4572000"/>
              <a:ext cx="7772400" cy="1676520"/>
            </a:xfrm>
            <a:prstGeom prst="rect">
              <a:avLst/>
            </a:prstGeom>
            <a:noFill/>
            <a:ln w="316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59920" y="4722840"/>
              <a:ext cx="7760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ff"/>
                  </a:solidFill>
                  <a:latin typeface="Arial"/>
                </a:rPr>
                <a:t>Arquivo refere-se a um grupo de dado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ff"/>
                  </a:solidFill>
                  <a:latin typeface="Arial"/>
                </a:rPr>
                <a:t>logicamente relacionados e não n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ff"/>
                  </a:solidFill>
                  <a:latin typeface="Arial"/>
                </a:rPr>
                <a:t>implementação física deste grupo de dados.</a:t>
              </a:r>
              <a:r>
                <a:rPr b="0" lang="en-US" sz="2800" spc="-1" strike="noStrike">
                  <a:solidFill>
                    <a:srgbClr val="00cc99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573280" y="1219320"/>
            <a:ext cx="44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unções de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286000" y="2057400"/>
            <a:ext cx="48578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quivos Lógicos Internos   X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quivos de Interface Extern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5334120"/>
            <a:ext cx="990720" cy="83808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886200"/>
            <a:ext cx="1066680" cy="91440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3733920"/>
            <a:ext cx="19051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0400" y="3962520"/>
            <a:ext cx="53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quivo Lógico Interno é mantido p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licação que está sendo Con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8120" y="5410080"/>
            <a:ext cx="62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quivo de Interface Externa NÃO é mant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la Aplicação que está sendo Cont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14400" y="5943600"/>
            <a:ext cx="838080" cy="30492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5257800"/>
            <a:ext cx="1295280" cy="152388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5257800"/>
            <a:ext cx="1218960" cy="16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" y="57294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l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7760" y="47242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l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7600" y="609588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u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pl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3520" y="838080"/>
            <a:ext cx="1413000" cy="1067040"/>
          </a:xfrm>
          <a:prstGeom prst="cube">
            <a:avLst>
              <a:gd name="adj" fmla="val 8930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3320" y="914400"/>
            <a:ext cx="10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6840" y="990720"/>
            <a:ext cx="44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unções de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44792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Tahoma"/>
              </a:rPr>
              <a:t>Arquivos Lógicos Inte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3520" y="1143000"/>
            <a:ext cx="1413000" cy="1066680"/>
          </a:xfrm>
          <a:prstGeom prst="cube">
            <a:avLst>
              <a:gd name="adj" fmla="val 8930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20" y="1219320"/>
            <a:ext cx="10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14840" y="2705040"/>
            <a:ext cx="9219600" cy="1371600"/>
            <a:chOff x="114840" y="2705040"/>
            <a:chExt cx="9219600" cy="1371600"/>
          </a:xfrm>
        </p:grpSpPr>
        <p:sp>
          <p:nvSpPr>
            <p:cNvPr id="303" name=""/>
            <p:cNvSpPr/>
            <p:nvPr/>
          </p:nvSpPr>
          <p:spPr>
            <a:xfrm>
              <a:off x="228600" y="2705040"/>
              <a:ext cx="8763120" cy="1371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4840" y="2781360"/>
              <a:ext cx="921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ão grupos de dados ou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nformações de control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specificados pelo usuário logicamente relacionado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uja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anutençã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é efetuada dentro da fronteira da aplicação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04920" y="5181480"/>
            <a:ext cx="8610480" cy="1066680"/>
            <a:chOff x="304920" y="5181480"/>
            <a:chExt cx="8610480" cy="1066680"/>
          </a:xfrm>
        </p:grpSpPr>
        <p:sp>
          <p:nvSpPr>
            <p:cNvPr id="306" name=""/>
            <p:cNvSpPr/>
            <p:nvPr/>
          </p:nvSpPr>
          <p:spPr>
            <a:xfrm>
              <a:off x="304920" y="5181480"/>
              <a:ext cx="8610480" cy="1066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240" y="5295600"/>
              <a:ext cx="780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mazenar dados mantidos através de um ou ma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cessos elementa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da aplicação sendo contad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 txBox="1"/>
          <p:nvPr/>
        </p:nvSpPr>
        <p:spPr>
          <a:xfrm>
            <a:off x="2590920" y="4457880"/>
            <a:ext cx="3324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tivo Princip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581280" y="2095560"/>
            <a:ext cx="1809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efinição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3716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ahoma"/>
              </a:rPr>
              <a:t>Arquivos de Interface</a:t>
            </a:r>
            <a:r>
              <a:rPr b="1" lang="en-US" sz="40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99ff"/>
                </a:solidFill>
                <a:latin typeface="Tahoma"/>
              </a:rPr>
              <a:t>Exte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7200" y="1143000"/>
            <a:ext cx="1413000" cy="1066680"/>
          </a:xfrm>
          <a:prstGeom prst="cube">
            <a:avLst>
              <a:gd name="adj" fmla="val 8930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7360" y="1219320"/>
            <a:ext cx="10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8800" y="2781360"/>
            <a:ext cx="9334080" cy="1371600"/>
            <a:chOff x="28800" y="2781360"/>
            <a:chExt cx="9334080" cy="1371600"/>
          </a:xfrm>
        </p:grpSpPr>
        <p:sp>
          <p:nvSpPr>
            <p:cNvPr id="316" name=""/>
            <p:cNvSpPr/>
            <p:nvPr/>
          </p:nvSpPr>
          <p:spPr>
            <a:xfrm>
              <a:off x="171360" y="2781360"/>
              <a:ext cx="8763120" cy="1371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800" y="2857680"/>
              <a:ext cx="933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ão grupos de dados ou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nformações de control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specificados pelo usuário logicamente relacionados, cu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anutençã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é efetuada dentro da fronteira de outra aplicaçã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47680" y="5181480"/>
            <a:ext cx="8610480" cy="1066680"/>
            <a:chOff x="247680" y="5181480"/>
            <a:chExt cx="8610480" cy="1066680"/>
          </a:xfrm>
        </p:grpSpPr>
        <p:sp>
          <p:nvSpPr>
            <p:cNvPr id="319" name=""/>
            <p:cNvSpPr/>
            <p:nvPr/>
          </p:nvSpPr>
          <p:spPr>
            <a:xfrm>
              <a:off x="247680" y="5181480"/>
              <a:ext cx="8610480" cy="1066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760" y="5295600"/>
              <a:ext cx="818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mazenar dados referenciados através de um ou ma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cessos elementa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da aplicação sendo contad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 txBox="1"/>
          <p:nvPr/>
        </p:nvSpPr>
        <p:spPr>
          <a:xfrm>
            <a:off x="2533680" y="4457880"/>
            <a:ext cx="3324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tivo Princip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524400" y="2171880"/>
            <a:ext cx="1809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efinição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67000" y="1676520"/>
            <a:ext cx="7372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lassificar Funções de Dado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2819520"/>
            <a:ext cx="7543800" cy="401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Classificação das Funções - de acordo com o número de Registros Lógicos e Itens de D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001"/>
              </a:spcAft>
              <a:buClr>
                <a:srgbClr val="1488c8"/>
              </a:buClr>
              <a:buSzPct val="75000"/>
              <a:buFont typeface="Monotype Sorts" charset="2"/>
              <a:buChar char="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001"/>
              </a:spcAft>
              <a:buClr>
                <a:srgbClr val="1488c8"/>
              </a:buClr>
              <a:buSzPct val="75000"/>
              <a:buFont typeface="Monotype Sorts" charset="2"/>
              <a:buChar char="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001"/>
              </a:spcAft>
              <a:buClr>
                <a:srgbClr val="1488c8"/>
              </a:buClr>
              <a:buSzPct val="75000"/>
              <a:buFont typeface="Monotype Sorts" charset="2"/>
              <a:buChar char="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mplex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41400" y="1219320"/>
            <a:ext cx="1413000" cy="1066680"/>
          </a:xfrm>
          <a:prstGeom prst="cube">
            <a:avLst>
              <a:gd name="adj" fmla="val 8930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840" y="1295280"/>
            <a:ext cx="10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253044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r do Número de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Registros 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r do Número de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Itens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996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ar  a Complexidade Func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25240" y="5334120"/>
            <a:ext cx="8539920" cy="1233360"/>
            <a:chOff x="525240" y="5334120"/>
            <a:chExt cx="8539920" cy="1233360"/>
          </a:xfrm>
        </p:grpSpPr>
        <p:sp>
          <p:nvSpPr>
            <p:cNvPr id="334" name=""/>
            <p:cNvSpPr/>
            <p:nvPr/>
          </p:nvSpPr>
          <p:spPr>
            <a:xfrm>
              <a:off x="2664000" y="53341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99"/>
                  </a:solidFill>
                  <a:latin typeface="Times New Roman"/>
                </a:rPr>
                <a:t>Itens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5240" y="5742000"/>
              <a:ext cx="853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ão campos reconhecidos pelo usuário como únicos e não repetido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cluindo atributos de chave estrangeira, mantidos no arquiv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85800" y="3494160"/>
            <a:ext cx="8153280" cy="1937880"/>
            <a:chOff x="685800" y="3494160"/>
            <a:chExt cx="8153280" cy="1937880"/>
          </a:xfrm>
        </p:grpSpPr>
        <p:sp>
          <p:nvSpPr>
            <p:cNvPr id="337" name=""/>
            <p:cNvSpPr/>
            <p:nvPr/>
          </p:nvSpPr>
          <p:spPr>
            <a:xfrm>
              <a:off x="2819520" y="3494160"/>
              <a:ext cx="247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99"/>
                  </a:solidFill>
                  <a:latin typeface="Times New Roman"/>
                </a:rPr>
                <a:t>Registros Lóg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800" y="3875040"/>
              <a:ext cx="8153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ão subgrupos de  dados contidos dentro de um Arquivo Lógico Interno ou Arquivo de Interface Externa. Subgrupos são tipicamente representados em um DER como entidades de Subtipo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 txBox="1"/>
          <p:nvPr/>
        </p:nvSpPr>
        <p:spPr>
          <a:xfrm>
            <a:off x="1523880" y="1143000"/>
            <a:ext cx="737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lassificar Funções de Dado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14400"/>
            <a:ext cx="1413000" cy="1066680"/>
          </a:xfrm>
          <a:prstGeom prst="cube">
            <a:avLst>
              <a:gd name="adj" fmla="val 8930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880" y="990720"/>
            <a:ext cx="10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5604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01800" y="15228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143000"/>
            <a:ext cx="8839080" cy="45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ndústria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inua lidando com projetos mal sucedidos. O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OS Report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2003 apresentou as seguintes estatísticas:</a:t>
            </a:r>
            <a:r>
              <a:rPr b="0" lang="pt-BR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%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 projetos são bem sucedid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 projetos foram cancelad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%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 o erro médio em relação ao orçamento do projeto daqueles que foram complet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%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s características (requisitos não funcionais) e funcionalidades são entregues no produto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6000" y="4946760"/>
            <a:ext cx="183168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4038480"/>
            <a:ext cx="3733920" cy="23623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93560" y="137160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ONTAGEM DE ARQUIVOS LÓGICOS - 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2133720"/>
            <a:ext cx="8305920" cy="4419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7080" y="2209680"/>
            <a:ext cx="62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álogo de CD de Música: Informação de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4600" y="266688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D: Cantor, Grupo, Gravadora, Nome, Data e Mus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2800" y="3276720"/>
            <a:ext cx="80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Musicas: Nome de Musica, Compositor e Tempo de D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00800" y="4267080"/>
            <a:ext cx="2209680" cy="2057400"/>
          </a:xfrm>
          <a:prstGeom prst="ellipse">
            <a:avLst/>
          </a:prstGeom>
          <a:solidFill>
            <a:srgbClr val="ccffff">
              <a:alpha val="50000"/>
            </a:srgbClr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86600" y="4952880"/>
            <a:ext cx="762120" cy="7621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8840" y="4495680"/>
            <a:ext cx="290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onclusão: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1 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2 R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8 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720" y="51055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Mu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6440" y="4282920"/>
            <a:ext cx="170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 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990720"/>
            <a:ext cx="1413000" cy="1066680"/>
          </a:xfrm>
          <a:prstGeom prst="cube">
            <a:avLst>
              <a:gd name="adj" fmla="val 8930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880" y="1066680"/>
            <a:ext cx="10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47920" y="10666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TABELA DE COMPLEX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800" y="1982880"/>
            <a:ext cx="7772400" cy="4798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4920" y="838080"/>
            <a:ext cx="1413000" cy="1067040"/>
          </a:xfrm>
          <a:prstGeom prst="cube">
            <a:avLst>
              <a:gd name="adj" fmla="val 8930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9800" y="914400"/>
            <a:ext cx="10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845640" y="1981080"/>
            <a:ext cx="7727400" cy="2209680"/>
            <a:chOff x="845640" y="1981080"/>
            <a:chExt cx="7727400" cy="2209680"/>
          </a:xfrm>
        </p:grpSpPr>
        <p:sp>
          <p:nvSpPr>
            <p:cNvPr id="366" name=""/>
            <p:cNvSpPr/>
            <p:nvPr/>
          </p:nvSpPr>
          <p:spPr>
            <a:xfrm>
              <a:off x="1143000" y="2590560"/>
              <a:ext cx="7086600" cy="1600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15160" y="2768400"/>
              <a:ext cx="173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MP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81280" y="28191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É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42640" y="2819160"/>
              <a:ext cx="22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MPLEX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43000" y="3428640"/>
              <a:ext cx="7086600" cy="0"/>
            </a:xfrm>
            <a:prstGeom prst="line">
              <a:avLst/>
            </a:prstGeom>
            <a:ln w="11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31680" y="358128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6120" y="3581280"/>
              <a:ext cx="10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38080" y="3581280"/>
              <a:ext cx="10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5640" y="1981080"/>
              <a:ext cx="772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99"/>
                  </a:solidFill>
                  <a:latin typeface="Times New Roman"/>
                </a:rPr>
                <a:t>PONTUAÇÃO DOS ARQUIVOS LÓGICOS INTER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70160" y="4419720"/>
            <a:ext cx="8489520" cy="2209680"/>
            <a:chOff x="470160" y="4419720"/>
            <a:chExt cx="8489520" cy="2209680"/>
          </a:xfrm>
        </p:grpSpPr>
        <p:sp>
          <p:nvSpPr>
            <p:cNvPr id="376" name=""/>
            <p:cNvSpPr/>
            <p:nvPr/>
          </p:nvSpPr>
          <p:spPr>
            <a:xfrm>
              <a:off x="1066680" y="5029200"/>
              <a:ext cx="7086600" cy="1600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38840" y="5207040"/>
              <a:ext cx="173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MP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05320" y="52578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É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66320" y="5257800"/>
              <a:ext cx="22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MPLEX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66680" y="5867640"/>
              <a:ext cx="7086600" cy="0"/>
            </a:xfrm>
            <a:prstGeom prst="line">
              <a:avLst/>
            </a:prstGeom>
            <a:ln w="11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55360" y="601992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89080" y="601992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62120" y="6019920"/>
              <a:ext cx="105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0160" y="4419720"/>
              <a:ext cx="84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PONTUAÇÃO DOS ARQUIVOS DE INTERFACE EXTE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ontuação das Funções de 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920" y="838080"/>
            <a:ext cx="1413000" cy="1067040"/>
          </a:xfrm>
          <a:prstGeom prst="cube">
            <a:avLst>
              <a:gd name="adj" fmla="val 8930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9800" y="914400"/>
            <a:ext cx="10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8000" y="1068480"/>
            <a:ext cx="141300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00" y="114300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685880" y="1295280"/>
            <a:ext cx="7305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dentificar Funções Transacionai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3" name=""/>
          <p:cNvSpPr/>
          <p:nvPr/>
        </p:nvSpPr>
        <p:spPr>
          <a:xfrm>
            <a:off x="5472000" y="4419720"/>
            <a:ext cx="1371600" cy="76176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86400" y="2590920"/>
            <a:ext cx="1371600" cy="761760"/>
          </a:xfrm>
          <a:prstGeom prst="roundRect">
            <a:avLst>
              <a:gd name="adj" fmla="val 16667"/>
            </a:avLst>
          </a:prstGeom>
          <a:solidFill>
            <a:srgbClr val="ffccff">
              <a:alpha val="5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72000" y="3505320"/>
            <a:ext cx="1371600" cy="761760"/>
          </a:xfrm>
          <a:prstGeom prst="roundRect">
            <a:avLst>
              <a:gd name="adj" fmla="val 16667"/>
            </a:avLst>
          </a:prstGeom>
          <a:solidFill>
            <a:srgbClr val="ccffff">
              <a:alpha val="50000"/>
            </a:srgbClr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5640" y="3200400"/>
            <a:ext cx="213336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96360" y="3429000"/>
            <a:ext cx="201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çõ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2900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38840" y="2895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3884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3884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00960" y="3505320"/>
            <a:ext cx="10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24640" y="2666880"/>
            <a:ext cx="108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47600" y="4479840"/>
            <a:ext cx="115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8000" y="839880"/>
            <a:ext cx="141300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00" y="91440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28600" y="2705040"/>
            <a:ext cx="8763120" cy="1371600"/>
            <a:chOff x="228600" y="2705040"/>
            <a:chExt cx="8763120" cy="1371600"/>
          </a:xfrm>
        </p:grpSpPr>
        <p:sp>
          <p:nvSpPr>
            <p:cNvPr id="410" name=""/>
            <p:cNvSpPr/>
            <p:nvPr/>
          </p:nvSpPr>
          <p:spPr>
            <a:xfrm>
              <a:off x="228600" y="2705040"/>
              <a:ext cx="8763120" cy="1371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9240" y="2787480"/>
              <a:ext cx="834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ma Entrada Externa é um processo elementar qu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a dados ou informações de controle que ve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 lado de fora da fronteira da aplicação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04920" y="5029200"/>
            <a:ext cx="8610480" cy="1066680"/>
            <a:chOff x="304920" y="5029200"/>
            <a:chExt cx="8610480" cy="1066680"/>
          </a:xfrm>
        </p:grpSpPr>
        <p:sp>
          <p:nvSpPr>
            <p:cNvPr id="413" name=""/>
            <p:cNvSpPr/>
            <p:nvPr/>
          </p:nvSpPr>
          <p:spPr>
            <a:xfrm>
              <a:off x="304920" y="5029200"/>
              <a:ext cx="8610480" cy="1066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2000" y="5146560"/>
              <a:ext cx="692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ter um ou mais Arquivo Lógico Intern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/ou alterar o comportamento do sistem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 txBox="1"/>
          <p:nvPr/>
        </p:nvSpPr>
        <p:spPr>
          <a:xfrm>
            <a:off x="2590920" y="4305240"/>
            <a:ext cx="3324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tivo Princip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81280" y="2095560"/>
            <a:ext cx="1809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efinição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ahoma"/>
              </a:rPr>
              <a:t>Entrad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76320" y="2612880"/>
          <a:ext cx="883908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12880"/>
                    <a:ext cx="883908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0" y="3114720"/>
            <a:ext cx="9144000" cy="628560"/>
            <a:chOff x="0" y="3114720"/>
            <a:chExt cx="9144000" cy="628560"/>
          </a:xfrm>
        </p:grpSpPr>
        <p:sp>
          <p:nvSpPr>
            <p:cNvPr id="423" name=""/>
            <p:cNvSpPr/>
            <p:nvPr/>
          </p:nvSpPr>
          <p:spPr>
            <a:xfrm>
              <a:off x="0" y="3114720"/>
              <a:ext cx="91440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3114720"/>
              <a:ext cx="2857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2031840"/>
            <a:ext cx="2789280" cy="6350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4419360" y="1905120"/>
            <a:ext cx="46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receita.fazenda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8000" y="838080"/>
            <a:ext cx="1413000" cy="106704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00" y="9129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43040" y="1081080"/>
            <a:ext cx="64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EMPLO: ENTRAD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08000" y="992160"/>
            <a:ext cx="141300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800" y="10666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ahoma"/>
              </a:rPr>
              <a:t>Saíd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28600" y="2438280"/>
            <a:ext cx="8767440" cy="990720"/>
            <a:chOff x="228600" y="2438280"/>
            <a:chExt cx="8767440" cy="990720"/>
          </a:xfrm>
        </p:grpSpPr>
        <p:sp>
          <p:nvSpPr>
            <p:cNvPr id="436" name=""/>
            <p:cNvSpPr/>
            <p:nvPr/>
          </p:nvSpPr>
          <p:spPr>
            <a:xfrm>
              <a:off x="228600" y="2438280"/>
              <a:ext cx="8763120" cy="990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8520" y="2513160"/>
              <a:ext cx="868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ma Saída Externa é um processo elementar que envia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 informação de controle para fora da fronteira da aplicação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28600" y="4495680"/>
            <a:ext cx="8610480" cy="2133720"/>
            <a:chOff x="228600" y="4495680"/>
            <a:chExt cx="8610480" cy="2133720"/>
          </a:xfrm>
        </p:grpSpPr>
        <p:sp>
          <p:nvSpPr>
            <p:cNvPr id="439" name=""/>
            <p:cNvSpPr/>
            <p:nvPr/>
          </p:nvSpPr>
          <p:spPr>
            <a:xfrm>
              <a:off x="228600" y="4495680"/>
              <a:ext cx="8610480" cy="2133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8600" y="4572000"/>
              <a:ext cx="8381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resentar informação para um usuário através de processamento lógico adicional a recuperação de dados ou informação de controle. O processamento lógico deve conter no mínimo uma fórmula matemática ou cálculo, ou criar de dados derivado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 txBox="1"/>
          <p:nvPr/>
        </p:nvSpPr>
        <p:spPr>
          <a:xfrm>
            <a:off x="2514600" y="3809880"/>
            <a:ext cx="3324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tivo Princip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581280" y="1790640"/>
            <a:ext cx="1809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efinição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8000" y="1068480"/>
            <a:ext cx="141300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00" y="114300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ahoma"/>
              </a:rPr>
              <a:t>Saíd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743200" y="2476440"/>
            <a:ext cx="3324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servaçã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62120" y="3124080"/>
            <a:ext cx="8153280" cy="1523880"/>
            <a:chOff x="762120" y="3124080"/>
            <a:chExt cx="8153280" cy="1523880"/>
          </a:xfrm>
        </p:grpSpPr>
        <p:sp>
          <p:nvSpPr>
            <p:cNvPr id="450" name=""/>
            <p:cNvSpPr/>
            <p:nvPr/>
          </p:nvSpPr>
          <p:spPr>
            <a:xfrm>
              <a:off x="762120" y="3124080"/>
              <a:ext cx="8153280" cy="1523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32760" y="3215880"/>
              <a:ext cx="7940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Uma Saída Externa PODE também manter u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ou mais Arquivos Lógicos Internos  e/ou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lterar o comportamento do sistem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965240" y="10047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EMPLO: SAÍD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1679400"/>
            <a:ext cx="8915400" cy="51786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990720" y="1706400"/>
            <a:ext cx="71625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Gráfico de Distribuição das Fun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8000" y="914400"/>
            <a:ext cx="141300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00" y="99072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08000" y="992160"/>
            <a:ext cx="141300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00" y="10666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6668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ahoma"/>
              </a:rPr>
              <a:t>Consult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666880" y="4000680"/>
            <a:ext cx="3248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tivo Princip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276720" y="2209680"/>
            <a:ext cx="2114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efinição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28600" y="2743200"/>
            <a:ext cx="8763120" cy="838080"/>
            <a:chOff x="228600" y="2743200"/>
            <a:chExt cx="8763120" cy="838080"/>
          </a:xfrm>
        </p:grpSpPr>
        <p:sp>
          <p:nvSpPr>
            <p:cNvPr id="467" name=""/>
            <p:cNvSpPr/>
            <p:nvPr/>
          </p:nvSpPr>
          <p:spPr>
            <a:xfrm>
              <a:off x="228600" y="2743200"/>
              <a:ext cx="8763120" cy="838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8600" y="2743200"/>
              <a:ext cx="853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sulta Externa é um processo elementar que envia dados ou informação de controle para fora da fronteira da aplicação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-609480" y="4535640"/>
            <a:ext cx="9753480" cy="2477880"/>
            <a:chOff x="-609480" y="4535640"/>
            <a:chExt cx="9753480" cy="2477880"/>
          </a:xfrm>
        </p:grpSpPr>
        <p:grpSp>
          <p:nvGrpSpPr>
            <p:cNvPr id="470" name=""/>
            <p:cNvGrpSpPr/>
            <p:nvPr/>
          </p:nvGrpSpPr>
          <p:grpSpPr>
            <a:xfrm>
              <a:off x="304920" y="4535640"/>
              <a:ext cx="8610480" cy="2171160"/>
              <a:chOff x="304920" y="4535640"/>
              <a:chExt cx="8610480" cy="2171160"/>
            </a:xfrm>
          </p:grpSpPr>
          <p:sp>
            <p:nvSpPr>
              <p:cNvPr id="471" name=""/>
              <p:cNvSpPr/>
              <p:nvPr/>
            </p:nvSpPr>
            <p:spPr>
              <a:xfrm>
                <a:off x="304920" y="4535640"/>
                <a:ext cx="8610480" cy="217116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1280" y="4652640"/>
                <a:ext cx="10951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lvl="2" marL="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2" marL="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2" marL="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-609480" y="4573440"/>
              <a:ext cx="975348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presentar informação para o usuário através da recuperação de dados ou informação de controle de um ALI ou AIE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 processamento Lógico NÃO contém fórmulas matemáticas ou cálculos, NÃO cria dados derivados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lém disso, NÃO mantém Arquivos Lógicos Internos durante o processamento, nem altera o comportamento do sistema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01800" y="15228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MOTIV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60" y="1295280"/>
            <a:ext cx="9091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principais problemas que afetam os projetos de software não são tecnológicos. Estes problemas são gerenciais, refletindo as dificuldades na implantação de processos gerenciais efetiv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ncipal preocupação da indústria refere-se à previsibilidade de prazo e de custo dos projetos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4572000"/>
            <a:ext cx="2133720" cy="1752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31760" y="6248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5320" y="6172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733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ionalidades, Atributos da Qu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0" y="3103560"/>
          <a:ext cx="914400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03560"/>
                    <a:ext cx="914400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239920"/>
            <a:ext cx="2789280" cy="6350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419360" y="2189160"/>
            <a:ext cx="46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receita.fazenda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8000" y="1046160"/>
            <a:ext cx="141300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43040" y="1365120"/>
            <a:ext cx="64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EMPLO: CONSULTA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00" y="11206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2459160"/>
            <a:ext cx="9144000" cy="45511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58040" y="1995480"/>
            <a:ext cx="30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FALE CONO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5886360" y="1219320"/>
            <a:ext cx="3181320" cy="7048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5031360" y="190512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stn.fazenda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8000" y="914400"/>
            <a:ext cx="141300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00" y="98892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1523880" y="1066680"/>
            <a:ext cx="7305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lassificar Funções Transacionai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133720"/>
            <a:ext cx="7543800" cy="352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Classificação das Funções - de acordo com o número Arquivos Referenciados e Itens de D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001"/>
              </a:spcAft>
              <a:buClr>
                <a:srgbClr val="1488c8"/>
              </a:buClr>
              <a:buSzPct val="75000"/>
              <a:buFont typeface="Monotype Sorts" charset="2"/>
              <a:buChar char="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001"/>
              </a:spcAft>
              <a:buClr>
                <a:srgbClr val="1488c8"/>
              </a:buClr>
              <a:buSzPct val="75000"/>
              <a:buFont typeface="Monotype Sorts" charset="2"/>
              <a:buChar char="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001"/>
              </a:spcAft>
              <a:buClr>
                <a:srgbClr val="1488c8"/>
              </a:buClr>
              <a:buSzPct val="75000"/>
              <a:buFont typeface="Monotype Sorts" charset="2"/>
              <a:buChar char="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mplex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-44280" y="990720"/>
            <a:ext cx="141264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-150840" y="10652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457200" y="2298600"/>
            <a:ext cx="2556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1600" y="2298600"/>
            <a:ext cx="79200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402760" y="2527200"/>
            <a:ext cx="252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402760" y="2527200"/>
            <a:ext cx="252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02760" y="2538360"/>
            <a:ext cx="25200" cy="392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" y="6243480"/>
            <a:ext cx="2556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" y="6243480"/>
            <a:ext cx="2556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416800" y="6472080"/>
            <a:ext cx="2556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402760" y="6483240"/>
            <a:ext cx="252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02760" y="6472080"/>
            <a:ext cx="252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402760" y="6472080"/>
            <a:ext cx="252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7720" y="2514600"/>
            <a:ext cx="49320" cy="3957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747720" y="2513520"/>
            <a:ext cx="7672320" cy="745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62320" y="2514600"/>
            <a:ext cx="7779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 a 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059440" y="2558880"/>
            <a:ext cx="81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a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27680" y="2558880"/>
            <a:ext cx="130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ou m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25840" y="2862360"/>
            <a:ext cx="16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ns 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89640" y="2862360"/>
            <a:ext cx="16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ns 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532560" y="2862360"/>
            <a:ext cx="16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ns 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05040" y="3164040"/>
            <a:ext cx="15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67400" y="3164040"/>
            <a:ext cx="15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10320" y="3164040"/>
            <a:ext cx="15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89240" y="353700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55520" y="3840120"/>
            <a:ext cx="93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u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00520" y="3840120"/>
            <a:ext cx="1174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63960" y="3840120"/>
            <a:ext cx="117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64200" y="3840120"/>
            <a:ext cx="908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47720" y="4114800"/>
            <a:ext cx="145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89240" y="451656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96840" y="4818240"/>
            <a:ext cx="10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u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00520" y="4818240"/>
            <a:ext cx="1174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21280" y="4818240"/>
            <a:ext cx="90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69000" y="4818240"/>
            <a:ext cx="145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03440" y="5121360"/>
            <a:ext cx="15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98560" y="5494320"/>
            <a:ext cx="117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ou m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96840" y="5797440"/>
            <a:ext cx="10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u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57480" y="5797440"/>
            <a:ext cx="90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26080" y="5797440"/>
            <a:ext cx="145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69000" y="5797440"/>
            <a:ext cx="145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3440" y="6099120"/>
            <a:ext cx="15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747720" y="6476400"/>
            <a:ext cx="7672320" cy="745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367840" y="2590920"/>
            <a:ext cx="48960" cy="3957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47720" y="3505320"/>
            <a:ext cx="7620120" cy="0"/>
          </a:xfrm>
          <a:prstGeom prst="line">
            <a:avLst/>
          </a:prstGeom>
          <a:ln w="14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47720" y="4495680"/>
            <a:ext cx="7620120" cy="0"/>
          </a:xfrm>
          <a:prstGeom prst="line">
            <a:avLst/>
          </a:prstGeom>
          <a:ln w="14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47720" y="5486400"/>
            <a:ext cx="7620120" cy="0"/>
          </a:xfrm>
          <a:prstGeom prst="line">
            <a:avLst/>
          </a:prstGeom>
          <a:ln w="14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00200" y="2590920"/>
            <a:ext cx="0" cy="3962160"/>
          </a:xfrm>
          <a:prstGeom prst="line">
            <a:avLst/>
          </a:prstGeom>
          <a:ln w="11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05320" y="2590920"/>
            <a:ext cx="0" cy="3962160"/>
          </a:xfrm>
          <a:prstGeom prst="line">
            <a:avLst/>
          </a:prstGeom>
          <a:ln w="11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386400" y="2590920"/>
            <a:ext cx="0" cy="3962160"/>
          </a:xfrm>
          <a:prstGeom prst="line">
            <a:avLst/>
          </a:prstGeom>
          <a:ln w="11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52640" y="19051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TABELA DE COMPLEX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21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ahoma"/>
              </a:rPr>
              <a:t>Entrad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8000" y="914400"/>
            <a:ext cx="141300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00" y="10652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668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ahoma"/>
              </a:rPr>
              <a:t>Saíd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8000" y="990720"/>
            <a:ext cx="141300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00" y="10652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6680" y="19810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BELA DE COMPLEX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848720" cy="4114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5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06668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ahoma"/>
              </a:rPr>
              <a:t>Consult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320" y="914400"/>
            <a:ext cx="141264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00" y="10652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66680" y="19810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BELA DE COMPLEX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848360" cy="4114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6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76320" y="914400"/>
            <a:ext cx="1412640" cy="1066680"/>
          </a:xfrm>
          <a:prstGeom prst="cube">
            <a:avLst>
              <a:gd name="adj" fmla="val 8930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00" y="10652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981080" y="5257800"/>
            <a:ext cx="6858000" cy="1371600"/>
            <a:chOff x="1981080" y="5257800"/>
            <a:chExt cx="6858000" cy="1371600"/>
          </a:xfrm>
        </p:grpSpPr>
        <p:sp>
          <p:nvSpPr>
            <p:cNvPr id="570" name=""/>
            <p:cNvSpPr/>
            <p:nvPr/>
          </p:nvSpPr>
          <p:spPr>
            <a:xfrm>
              <a:off x="1981080" y="5257800"/>
              <a:ext cx="6858000" cy="1371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18680" y="5410080"/>
              <a:ext cx="173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MP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40880" y="5453640"/>
              <a:ext cx="15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É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99640" y="5453640"/>
              <a:ext cx="22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MPLEX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81080" y="5976000"/>
              <a:ext cx="6858000" cy="0"/>
            </a:xfrm>
            <a:prstGeom prst="line">
              <a:avLst/>
            </a:prstGeom>
            <a:ln w="11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33040" y="610668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8360" y="610668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84360" y="610668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057400" y="3505320"/>
            <a:ext cx="6781680" cy="1351080"/>
            <a:chOff x="2057400" y="3505320"/>
            <a:chExt cx="6781680" cy="1351080"/>
          </a:xfrm>
        </p:grpSpPr>
        <p:sp>
          <p:nvSpPr>
            <p:cNvPr id="579" name=""/>
            <p:cNvSpPr/>
            <p:nvPr/>
          </p:nvSpPr>
          <p:spPr>
            <a:xfrm>
              <a:off x="2057400" y="3505320"/>
              <a:ext cx="6781680" cy="134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78440" y="3654360"/>
              <a:ext cx="173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MP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90920" y="3698280"/>
              <a:ext cx="153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É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13320" y="3698280"/>
              <a:ext cx="22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MPLEX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57400" y="4209120"/>
              <a:ext cx="6781680" cy="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94960" y="433584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38320" y="433584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8760" y="433584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981080" y="1828800"/>
            <a:ext cx="6858000" cy="1321920"/>
            <a:chOff x="1981080" y="1828800"/>
            <a:chExt cx="6858000" cy="1321920"/>
          </a:xfrm>
        </p:grpSpPr>
        <p:sp>
          <p:nvSpPr>
            <p:cNvPr id="588" name=""/>
            <p:cNvSpPr/>
            <p:nvPr/>
          </p:nvSpPr>
          <p:spPr>
            <a:xfrm>
              <a:off x="1981080" y="1828800"/>
              <a:ext cx="6858000" cy="129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17240" y="1972440"/>
              <a:ext cx="173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MP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0880" y="2014920"/>
              <a:ext cx="15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É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99640" y="2014920"/>
              <a:ext cx="22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MPLEX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81080" y="2507040"/>
              <a:ext cx="6858000" cy="0"/>
            </a:xfrm>
            <a:prstGeom prst="line">
              <a:avLst/>
            </a:prstGeom>
            <a:ln w="11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33040" y="263016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98360" y="263016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84360" y="2630160"/>
              <a:ext cx="8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 txBox="1"/>
          <p:nvPr/>
        </p:nvSpPr>
        <p:spPr>
          <a:xfrm>
            <a:off x="419040" y="2114640"/>
            <a:ext cx="1467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tradas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xternas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0880" y="3733920"/>
            <a:ext cx="1467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aídas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xternas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5467320"/>
            <a:ext cx="14666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sultas</a:t>
            </a:r>
            <a:endParaRPr b="0" lang="en-US" sz="32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xternas</a:t>
            </a:r>
            <a:endParaRPr b="0" lang="en-US" sz="32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9" name=""/>
          <p:cNvSpPr/>
          <p:nvPr/>
        </p:nvSpPr>
        <p:spPr>
          <a:xfrm>
            <a:off x="1295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Pontuação das Funções Transaciona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1080" y="762120"/>
            <a:ext cx="1370520" cy="1067760"/>
            <a:chOff x="1080" y="762120"/>
            <a:chExt cx="1370520" cy="1067760"/>
          </a:xfrm>
        </p:grpSpPr>
        <p:sp>
          <p:nvSpPr>
            <p:cNvPr id="603" name=""/>
            <p:cNvSpPr/>
            <p:nvPr/>
          </p:nvSpPr>
          <p:spPr>
            <a:xfrm>
              <a:off x="76320" y="762120"/>
              <a:ext cx="1295280" cy="1066680"/>
            </a:xfrm>
            <a:prstGeom prst="cube">
              <a:avLst>
                <a:gd name="adj" fmla="val 8930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80" y="912960"/>
              <a:ext cx="132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termin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s PF N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jus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457200" y="1828800"/>
            <a:ext cx="8610480" cy="5029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2720" y="1927080"/>
            <a:ext cx="27000" cy="48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48080" y="1955880"/>
            <a:ext cx="27000" cy="46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95960" y="1955880"/>
            <a:ext cx="27000" cy="46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30960" y="1955880"/>
            <a:ext cx="27000" cy="46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985240" y="1955880"/>
            <a:ext cx="27000" cy="46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2720" y="2425680"/>
            <a:ext cx="44640" cy="381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985240" y="2468520"/>
            <a:ext cx="44640" cy="377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720" y="6248520"/>
            <a:ext cx="936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48080" y="2468520"/>
            <a:ext cx="44280" cy="377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95960" y="2468520"/>
            <a:ext cx="44280" cy="377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230960" y="2468520"/>
            <a:ext cx="44640" cy="377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985240" y="6218280"/>
            <a:ext cx="27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47640" y="1927080"/>
            <a:ext cx="836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6720" y="2425680"/>
            <a:ext cx="836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6720" y="3182760"/>
            <a:ext cx="836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66720" y="3938760"/>
            <a:ext cx="836460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6720" y="4694400"/>
            <a:ext cx="836460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66720" y="5450040"/>
            <a:ext cx="836460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6720" y="6205680"/>
            <a:ext cx="836460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7640" y="6656400"/>
            <a:ext cx="836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061640" y="1905120"/>
            <a:ext cx="945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TIPO 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45160" y="1905120"/>
            <a:ext cx="1715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COMPLEXID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837400" y="1905120"/>
            <a:ext cx="8175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TO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82040" y="1905120"/>
            <a:ext cx="8175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TO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28520" y="2147760"/>
            <a:ext cx="99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FUNÇÃ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98600" y="2147760"/>
            <a:ext cx="13035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FUNC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02680" y="2147760"/>
            <a:ext cx="1177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COMPLEX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266600" y="2147760"/>
            <a:ext cx="1494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TIPO FUNÇÃ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77080" y="2417760"/>
            <a:ext cx="238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15680" y="2430360"/>
            <a:ext cx="2234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S      X   7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072120" y="2430360"/>
            <a:ext cx="38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91080" y="2438280"/>
            <a:ext cx="10720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QUIV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ÓG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514600" y="2673360"/>
            <a:ext cx="2225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          X  10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19640" y="2916360"/>
            <a:ext cx="219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A  X  15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916760" y="2916360"/>
            <a:ext cx="38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15680" y="3186000"/>
            <a:ext cx="2234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S      X   5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145200" y="3186000"/>
            <a:ext cx="28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64360" y="3200400"/>
            <a:ext cx="13888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QUIVO 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TER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13520" y="3429000"/>
            <a:ext cx="227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          X  7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19640" y="3672000"/>
            <a:ext cx="219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A  X  10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989840" y="367200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15680" y="3943440"/>
            <a:ext cx="2234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S      X  3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72120" y="3943440"/>
            <a:ext cx="38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73800" y="4038480"/>
            <a:ext cx="111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TER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13520" y="4184640"/>
            <a:ext cx="2277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          X  4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145200" y="4184640"/>
            <a:ext cx="28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18920" y="4427640"/>
            <a:ext cx="2199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A  X  6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72120" y="4427640"/>
            <a:ext cx="38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916760" y="4427640"/>
            <a:ext cx="38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16040" y="4699080"/>
            <a:ext cx="218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S      X   4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72120" y="4699080"/>
            <a:ext cx="38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16200" y="4800600"/>
            <a:ext cx="109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TER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513880" y="4940280"/>
            <a:ext cx="2227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          X  5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518920" y="5183280"/>
            <a:ext cx="2199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A  X  7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916760" y="5183280"/>
            <a:ext cx="38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16040" y="5454720"/>
            <a:ext cx="218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S      X  3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45200" y="545472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92440" y="5562720"/>
            <a:ext cx="1239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SUL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TERN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13880" y="5695920"/>
            <a:ext cx="2227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          X  4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45200" y="5695920"/>
            <a:ext cx="282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18920" y="5938920"/>
            <a:ext cx="2199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A  X  6   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916760" y="5938920"/>
            <a:ext cx="38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3640" y="6318360"/>
            <a:ext cx="668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* * * TOTAL DE PONTOS DE FUNÇÃO NÃO - AJUSTADOS 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666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ahoma"/>
              </a:rPr>
              <a:t>Tabela de Cálc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3787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apas de Conta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4876920"/>
            <a:ext cx="8915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ribui-se um peso de 0 a 5  para cada caracterís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- Nenhuma Influência       3- Influência Mé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 Influência Mínima         4- Influência Signific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 Influência Moderada      5- Grande Influê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213372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omunicação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rocessamento Distribuí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Utilização do Equip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Volume de Trans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Entrada de dados “on-li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Eficiência do Usuári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48320" y="20574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Atualização “on-li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Processamento Comple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Reutilização de Cód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. Facilidade de Impla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. Facilidade 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. Múltiplos Loc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. Facilidade de Mudanç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838080" y="1371600"/>
            <a:ext cx="7305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álculo do Fator de Ajust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996920" y="5257800"/>
            <a:ext cx="4480200" cy="685800"/>
          </a:xfrm>
          <a:prstGeom prst="rect">
            <a:avLst/>
          </a:prstGeom>
          <a:solidFill>
            <a:srgbClr val="ffffff"/>
          </a:solidFill>
          <a:ln w="11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49200" y="5334120"/>
            <a:ext cx="429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 = ( NIT * 0,01 ) + 0,6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91440" y="1981080"/>
            <a:ext cx="609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ível de Influência Total (NI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64000" y="4419720"/>
            <a:ext cx="502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TOR DE AJUSTE (F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17440" y="2895480"/>
            <a:ext cx="7340760" cy="685800"/>
          </a:xfrm>
          <a:prstGeom prst="rect">
            <a:avLst/>
          </a:prstGeom>
          <a:solidFill>
            <a:srgbClr val="ffffff"/>
          </a:solidFill>
          <a:ln w="11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95200" y="2971800"/>
            <a:ext cx="732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T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racterísticas Gerais do Sist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7010280" y="4818240"/>
            <a:ext cx="1676520" cy="154908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1080" y="990720"/>
            <a:ext cx="1370520" cy="1066680"/>
            <a:chOff x="1080" y="990720"/>
            <a:chExt cx="1370520" cy="1066680"/>
          </a:xfrm>
        </p:grpSpPr>
        <p:sp>
          <p:nvSpPr>
            <p:cNvPr id="685" name=""/>
            <p:cNvSpPr/>
            <p:nvPr/>
          </p:nvSpPr>
          <p:spPr>
            <a:xfrm>
              <a:off x="34920" y="990720"/>
              <a:ext cx="1336680" cy="1066680"/>
            </a:xfrm>
            <a:prstGeom prst="cube">
              <a:avLst>
                <a:gd name="adj" fmla="val 893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80" y="1065240"/>
              <a:ext cx="132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termin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 Fato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jus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1523880" y="83808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Tahoma"/>
              </a:rPr>
              <a:t>Cálculo do Fator de Aju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08036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Times New Roman"/>
              </a:rPr>
              <a:t>POR QUE MEDI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14600" y="2568600"/>
          <a:ext cx="336240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68600"/>
                    <a:ext cx="336240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85800" y="1905120"/>
            <a:ext cx="74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ão se pode gerenciar o que não se pode medi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87520" y="152280"/>
            <a:ext cx="44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MEDIÇÕE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60120" y="914400"/>
            <a:ext cx="1159200" cy="1066680"/>
            <a:chOff x="60120" y="914400"/>
            <a:chExt cx="1159200" cy="1066680"/>
          </a:xfrm>
        </p:grpSpPr>
        <p:sp>
          <p:nvSpPr>
            <p:cNvPr id="691" name=""/>
            <p:cNvSpPr/>
            <p:nvPr/>
          </p:nvSpPr>
          <p:spPr>
            <a:xfrm>
              <a:off x="76320" y="914400"/>
              <a:ext cx="1143000" cy="1066680"/>
            </a:xfrm>
            <a:prstGeom prst="cube">
              <a:avLst>
                <a:gd name="adj" fmla="val 8930"/>
              </a:avLst>
            </a:prstGeom>
            <a:solidFill>
              <a:srgbClr val="33cc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120" y="990360"/>
              <a:ext cx="11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cula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s 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jus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668600" y="4479840"/>
            <a:ext cx="6339240" cy="1616040"/>
            <a:chOff x="1668600" y="4479840"/>
            <a:chExt cx="6339240" cy="1616040"/>
          </a:xfrm>
        </p:grpSpPr>
        <p:sp>
          <p:nvSpPr>
            <p:cNvPr id="694" name=""/>
            <p:cNvSpPr/>
            <p:nvPr/>
          </p:nvSpPr>
          <p:spPr>
            <a:xfrm>
              <a:off x="1747440" y="4479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68600" y="4479840"/>
              <a:ext cx="6198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 Cálculo de PF de um Projeto de Manuten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69200" y="5059080"/>
              <a:ext cx="60386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F_MANUTENÇÃO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(PF_INCLUÍDO + PF_ALTERADO)* FA_ATUAL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 (PF_EXCLUÍDO*FA_ANTERI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15920" y="4954320"/>
              <a:ext cx="0" cy="11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35480" y="4954320"/>
              <a:ext cx="0" cy="11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17360" y="6095880"/>
              <a:ext cx="601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917360" y="4952880"/>
              <a:ext cx="601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745640" y="2133720"/>
            <a:ext cx="6793200" cy="1539720"/>
            <a:chOff x="1745640" y="2133720"/>
            <a:chExt cx="6793200" cy="1539720"/>
          </a:xfrm>
        </p:grpSpPr>
        <p:sp>
          <p:nvSpPr>
            <p:cNvPr id="702" name=""/>
            <p:cNvSpPr/>
            <p:nvPr/>
          </p:nvSpPr>
          <p:spPr>
            <a:xfrm>
              <a:off x="1745640" y="2133720"/>
              <a:ext cx="6793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 Cálculo de PF de um Projeto de Desenvolvi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26160" y="2789280"/>
              <a:ext cx="4946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F_DESENVOLVIMENTO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F_NÃO_AJUSTADO * FATOR_AJUS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94040" y="2684520"/>
              <a:ext cx="0" cy="9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99200" y="2684520"/>
              <a:ext cx="0" cy="9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95480" y="3673440"/>
              <a:ext cx="51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995480" y="2683080"/>
              <a:ext cx="51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1523880" y="76212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Tahoma"/>
              </a:rPr>
              <a:t>Cálculo de PFs Ajust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60120" y="838080"/>
            <a:ext cx="1159200" cy="1067040"/>
            <a:chOff x="60120" y="838080"/>
            <a:chExt cx="1159200" cy="1067040"/>
          </a:xfrm>
        </p:grpSpPr>
        <p:sp>
          <p:nvSpPr>
            <p:cNvPr id="712" name=""/>
            <p:cNvSpPr/>
            <p:nvPr/>
          </p:nvSpPr>
          <p:spPr>
            <a:xfrm>
              <a:off x="76320" y="838080"/>
              <a:ext cx="1143000" cy="1067040"/>
            </a:xfrm>
            <a:prstGeom prst="cube">
              <a:avLst>
                <a:gd name="adj" fmla="val 8930"/>
              </a:avLst>
            </a:prstGeom>
            <a:solidFill>
              <a:srgbClr val="33cc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120" y="914400"/>
              <a:ext cx="11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cula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s 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jus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371600" y="68580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Tahoma"/>
              </a:rPr>
              <a:t>Cálculo de PFs Ajust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3800" y="2057400"/>
            <a:ext cx="652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álculo de PF de uma Aplicação já Impla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122840" y="2620800"/>
            <a:ext cx="4946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F_APLICAÇÃO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F_NÃO_AJUSTADO * FATOR_AJU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90720" y="25160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95880" y="25160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92160" y="3429000"/>
            <a:ext cx="510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2160" y="2514600"/>
            <a:ext cx="510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628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1280" y="3505320"/>
            <a:ext cx="892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 Cálculo de PF de uma Aplicação a partir de um  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0320" y="4145040"/>
            <a:ext cx="7974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F_APLICAÇÃO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F_DESENVOLVIMENTO - (PF_CONVERSÃO * FATOR_AJUS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5600" y="396396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526600" y="396396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27040" y="4876920"/>
            <a:ext cx="799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33520" y="3962520"/>
            <a:ext cx="799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28600" y="5105520"/>
            <a:ext cx="891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 Cálculo de PF de uma Aplicação após um Projeto de Manut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2960" y="5668920"/>
            <a:ext cx="7968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F_APLICAÇÃO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F_NÃO_AJUSTADO + PF_INCLUÍDO + PF_ALTERADO_A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PF_ALTERADO_ANTERIOR - PF_EXCLUÍDO) * FA_A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17520" y="5564160"/>
            <a:ext cx="144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18520" y="5564160"/>
            <a:ext cx="144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8960" y="6781680"/>
            <a:ext cx="8028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8960" y="5562720"/>
            <a:ext cx="802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11160" y="638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15000" y="152280"/>
            <a:ext cx="31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GEM DE P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991160" y="1666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Gestão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676520" y="1284120"/>
            <a:ext cx="6248160" cy="54216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 rot="19299000">
            <a:off x="2743200" y="2895120"/>
            <a:ext cx="2133720" cy="1295640"/>
          </a:xfrm>
          <a:prstGeom prst="leftArrow">
            <a:avLst>
              <a:gd name="adj1" fmla="val 50000"/>
              <a:gd name="adj2" fmla="val 41171"/>
            </a:avLst>
          </a:prstGeom>
          <a:solidFill>
            <a:srgbClr val="ffe5e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cu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19997400">
            <a:off x="2693880" y="1963440"/>
            <a:ext cx="1797120" cy="1454040"/>
          </a:xfrm>
          <a:prstGeom prst="leftArrow">
            <a:avLst>
              <a:gd name="adj1" fmla="val 50000"/>
              <a:gd name="adj2" fmla="val 30899"/>
            </a:avLst>
          </a:prstGeom>
          <a:solidFill>
            <a:srgbClr val="f4ffdd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esfor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00600" y="1600200"/>
            <a:ext cx="1752480" cy="1371600"/>
          </a:xfrm>
          <a:prstGeom prst="rightArrow">
            <a:avLst>
              <a:gd name="adj1" fmla="val 50000"/>
              <a:gd name="adj2" fmla="val 3194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20679600">
            <a:off x="4951080" y="1066680"/>
            <a:ext cx="1523880" cy="1067040"/>
          </a:xfrm>
          <a:prstGeom prst="rightArrow">
            <a:avLst>
              <a:gd name="adj1" fmla="val 50000"/>
              <a:gd name="adj2" fmla="val 35703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pr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71800" y="1523880"/>
            <a:ext cx="1523880" cy="990720"/>
          </a:xfrm>
          <a:prstGeom prst="leftArrow">
            <a:avLst>
              <a:gd name="adj1" fmla="val 50000"/>
              <a:gd name="adj2" fmla="val 38454"/>
            </a:avLst>
          </a:prstGeom>
          <a:solidFill>
            <a:srgbClr val="cc99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0080"/>
                </a:solidFill>
                <a:latin typeface="Arial"/>
              </a:rPr>
              <a:t>ris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2438280" y="1303200"/>
            <a:ext cx="6248520" cy="54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84600" y="4344840"/>
            <a:ext cx="23760" cy="2088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13"/>
                </a:moveTo>
                <a:lnTo>
                  <a:pt x="4" y="9"/>
                </a:lnTo>
                <a:lnTo>
                  <a:pt x="8" y="5"/>
                </a:lnTo>
                <a:lnTo>
                  <a:pt x="10" y="3"/>
                </a:lnTo>
                <a:lnTo>
                  <a:pt x="13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2" y="3"/>
                </a:lnTo>
                <a:lnTo>
                  <a:pt x="8" y="5"/>
                </a:lnTo>
                <a:lnTo>
                  <a:pt x="4" y="9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892760" y="1386000"/>
            <a:ext cx="682560" cy="631800"/>
          </a:xfrm>
          <a:custGeom>
            <a:avLst/>
            <a:gdLst/>
            <a:ahLst/>
            <a:rect l="l" t="t" r="r" b="b"/>
            <a:pathLst>
              <a:path w="430" h="398">
                <a:moveTo>
                  <a:pt x="430" y="299"/>
                </a:moveTo>
                <a:lnTo>
                  <a:pt x="185" y="398"/>
                </a:lnTo>
                <a:lnTo>
                  <a:pt x="0" y="383"/>
                </a:lnTo>
                <a:lnTo>
                  <a:pt x="4" y="277"/>
                </a:lnTo>
                <a:lnTo>
                  <a:pt x="30" y="258"/>
                </a:lnTo>
                <a:lnTo>
                  <a:pt x="55" y="241"/>
                </a:lnTo>
                <a:lnTo>
                  <a:pt x="81" y="222"/>
                </a:lnTo>
                <a:lnTo>
                  <a:pt x="107" y="206"/>
                </a:lnTo>
                <a:lnTo>
                  <a:pt x="133" y="187"/>
                </a:lnTo>
                <a:lnTo>
                  <a:pt x="159" y="170"/>
                </a:lnTo>
                <a:lnTo>
                  <a:pt x="183" y="153"/>
                </a:lnTo>
                <a:lnTo>
                  <a:pt x="210" y="135"/>
                </a:lnTo>
                <a:lnTo>
                  <a:pt x="236" y="118"/>
                </a:lnTo>
                <a:lnTo>
                  <a:pt x="262" y="101"/>
                </a:lnTo>
                <a:lnTo>
                  <a:pt x="288" y="84"/>
                </a:lnTo>
                <a:lnTo>
                  <a:pt x="314" y="67"/>
                </a:lnTo>
                <a:lnTo>
                  <a:pt x="340" y="51"/>
                </a:lnTo>
                <a:lnTo>
                  <a:pt x="366" y="34"/>
                </a:lnTo>
                <a:lnTo>
                  <a:pt x="392" y="17"/>
                </a:lnTo>
                <a:lnTo>
                  <a:pt x="419" y="0"/>
                </a:lnTo>
                <a:lnTo>
                  <a:pt x="424" y="73"/>
                </a:lnTo>
                <a:lnTo>
                  <a:pt x="426" y="148"/>
                </a:lnTo>
                <a:lnTo>
                  <a:pt x="426" y="224"/>
                </a:lnTo>
                <a:lnTo>
                  <a:pt x="430" y="2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05440" y="1652760"/>
            <a:ext cx="607680" cy="74520"/>
          </a:xfrm>
          <a:custGeom>
            <a:avLst/>
            <a:gdLst/>
            <a:ahLst/>
            <a:rect l="l" t="t" r="r" b="b"/>
            <a:pathLst>
              <a:path w="383" h="47">
                <a:moveTo>
                  <a:pt x="383" y="21"/>
                </a:moveTo>
                <a:lnTo>
                  <a:pt x="360" y="26"/>
                </a:lnTo>
                <a:lnTo>
                  <a:pt x="336" y="30"/>
                </a:lnTo>
                <a:lnTo>
                  <a:pt x="314" y="34"/>
                </a:lnTo>
                <a:lnTo>
                  <a:pt x="289" y="38"/>
                </a:lnTo>
                <a:lnTo>
                  <a:pt x="267" y="40"/>
                </a:lnTo>
                <a:lnTo>
                  <a:pt x="243" y="43"/>
                </a:lnTo>
                <a:lnTo>
                  <a:pt x="218" y="45"/>
                </a:lnTo>
                <a:lnTo>
                  <a:pt x="194" y="45"/>
                </a:lnTo>
                <a:lnTo>
                  <a:pt x="170" y="47"/>
                </a:lnTo>
                <a:lnTo>
                  <a:pt x="146" y="47"/>
                </a:lnTo>
                <a:lnTo>
                  <a:pt x="121" y="47"/>
                </a:lnTo>
                <a:lnTo>
                  <a:pt x="97" y="47"/>
                </a:lnTo>
                <a:lnTo>
                  <a:pt x="73" y="45"/>
                </a:lnTo>
                <a:lnTo>
                  <a:pt x="49" y="43"/>
                </a:lnTo>
                <a:lnTo>
                  <a:pt x="24" y="41"/>
                </a:lnTo>
                <a:lnTo>
                  <a:pt x="0" y="38"/>
                </a:lnTo>
                <a:lnTo>
                  <a:pt x="21" y="28"/>
                </a:lnTo>
                <a:lnTo>
                  <a:pt x="43" y="19"/>
                </a:lnTo>
                <a:lnTo>
                  <a:pt x="65" y="12"/>
                </a:lnTo>
                <a:lnTo>
                  <a:pt x="90" y="8"/>
                </a:lnTo>
                <a:lnTo>
                  <a:pt x="112" y="4"/>
                </a:lnTo>
                <a:lnTo>
                  <a:pt x="136" y="0"/>
                </a:lnTo>
                <a:lnTo>
                  <a:pt x="161" y="0"/>
                </a:lnTo>
                <a:lnTo>
                  <a:pt x="187" y="0"/>
                </a:lnTo>
                <a:lnTo>
                  <a:pt x="211" y="0"/>
                </a:lnTo>
                <a:lnTo>
                  <a:pt x="235" y="2"/>
                </a:lnTo>
                <a:lnTo>
                  <a:pt x="259" y="4"/>
                </a:lnTo>
                <a:lnTo>
                  <a:pt x="286" y="8"/>
                </a:lnTo>
                <a:lnTo>
                  <a:pt x="310" y="10"/>
                </a:lnTo>
                <a:lnTo>
                  <a:pt x="334" y="13"/>
                </a:lnTo>
                <a:lnTo>
                  <a:pt x="358" y="17"/>
                </a:lnTo>
                <a:lnTo>
                  <a:pt x="383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624560" y="2670120"/>
            <a:ext cx="1149120" cy="858960"/>
          </a:xfrm>
          <a:custGeom>
            <a:avLst/>
            <a:gdLst/>
            <a:ahLst/>
            <a:rect l="l" t="t" r="r" b="b"/>
            <a:pathLst>
              <a:path w="724" h="541">
                <a:moveTo>
                  <a:pt x="722" y="170"/>
                </a:moveTo>
                <a:lnTo>
                  <a:pt x="724" y="170"/>
                </a:lnTo>
                <a:lnTo>
                  <a:pt x="647" y="541"/>
                </a:lnTo>
                <a:lnTo>
                  <a:pt x="0" y="209"/>
                </a:lnTo>
                <a:lnTo>
                  <a:pt x="9" y="0"/>
                </a:lnTo>
                <a:lnTo>
                  <a:pt x="722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174840" y="2684520"/>
            <a:ext cx="1049400" cy="1479600"/>
          </a:xfrm>
          <a:custGeom>
            <a:avLst/>
            <a:gdLst/>
            <a:ahLst/>
            <a:rect l="l" t="t" r="r" b="b"/>
            <a:pathLst>
              <a:path w="661" h="932">
                <a:moveTo>
                  <a:pt x="114" y="932"/>
                </a:moveTo>
                <a:lnTo>
                  <a:pt x="0" y="527"/>
                </a:lnTo>
                <a:lnTo>
                  <a:pt x="646" y="0"/>
                </a:lnTo>
                <a:lnTo>
                  <a:pt x="661" y="217"/>
                </a:lnTo>
                <a:lnTo>
                  <a:pt x="655" y="224"/>
                </a:lnTo>
                <a:lnTo>
                  <a:pt x="638" y="247"/>
                </a:lnTo>
                <a:lnTo>
                  <a:pt x="612" y="280"/>
                </a:lnTo>
                <a:lnTo>
                  <a:pt x="579" y="325"/>
                </a:lnTo>
                <a:lnTo>
                  <a:pt x="539" y="377"/>
                </a:lnTo>
                <a:lnTo>
                  <a:pt x="495" y="435"/>
                </a:lnTo>
                <a:lnTo>
                  <a:pt x="446" y="499"/>
                </a:lnTo>
                <a:lnTo>
                  <a:pt x="398" y="564"/>
                </a:lnTo>
                <a:lnTo>
                  <a:pt x="347" y="629"/>
                </a:lnTo>
                <a:lnTo>
                  <a:pt x="299" y="695"/>
                </a:lnTo>
                <a:lnTo>
                  <a:pt x="252" y="754"/>
                </a:lnTo>
                <a:lnTo>
                  <a:pt x="211" y="809"/>
                </a:lnTo>
                <a:lnTo>
                  <a:pt x="174" y="855"/>
                </a:lnTo>
                <a:lnTo>
                  <a:pt x="146" y="894"/>
                </a:lnTo>
                <a:lnTo>
                  <a:pt x="125" y="919"/>
                </a:lnTo>
                <a:lnTo>
                  <a:pt x="114" y="9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855880" y="2438280"/>
            <a:ext cx="5675400" cy="3957840"/>
          </a:xfrm>
          <a:custGeom>
            <a:avLst/>
            <a:gdLst/>
            <a:ahLst/>
            <a:rect l="l" t="t" r="r" b="b"/>
            <a:pathLst>
              <a:path w="3575" h="2493">
                <a:moveTo>
                  <a:pt x="3004" y="69"/>
                </a:moveTo>
                <a:lnTo>
                  <a:pt x="3017" y="69"/>
                </a:lnTo>
                <a:lnTo>
                  <a:pt x="3032" y="69"/>
                </a:lnTo>
                <a:lnTo>
                  <a:pt x="3045" y="71"/>
                </a:lnTo>
                <a:lnTo>
                  <a:pt x="3057" y="73"/>
                </a:lnTo>
                <a:lnTo>
                  <a:pt x="3068" y="79"/>
                </a:lnTo>
                <a:lnTo>
                  <a:pt x="3079" y="84"/>
                </a:lnTo>
                <a:lnTo>
                  <a:pt x="3088" y="93"/>
                </a:lnTo>
                <a:lnTo>
                  <a:pt x="3096" y="105"/>
                </a:lnTo>
                <a:lnTo>
                  <a:pt x="3107" y="121"/>
                </a:lnTo>
                <a:lnTo>
                  <a:pt x="3113" y="138"/>
                </a:lnTo>
                <a:lnTo>
                  <a:pt x="3114" y="159"/>
                </a:lnTo>
                <a:lnTo>
                  <a:pt x="3113" y="179"/>
                </a:lnTo>
                <a:lnTo>
                  <a:pt x="3124" y="191"/>
                </a:lnTo>
                <a:lnTo>
                  <a:pt x="3135" y="204"/>
                </a:lnTo>
                <a:lnTo>
                  <a:pt x="3146" y="215"/>
                </a:lnTo>
                <a:lnTo>
                  <a:pt x="3156" y="226"/>
                </a:lnTo>
                <a:lnTo>
                  <a:pt x="3165" y="237"/>
                </a:lnTo>
                <a:lnTo>
                  <a:pt x="3172" y="250"/>
                </a:lnTo>
                <a:lnTo>
                  <a:pt x="3174" y="267"/>
                </a:lnTo>
                <a:lnTo>
                  <a:pt x="3174" y="284"/>
                </a:lnTo>
                <a:lnTo>
                  <a:pt x="3174" y="316"/>
                </a:lnTo>
                <a:lnTo>
                  <a:pt x="3170" y="347"/>
                </a:lnTo>
                <a:lnTo>
                  <a:pt x="3165" y="377"/>
                </a:lnTo>
                <a:lnTo>
                  <a:pt x="3157" y="405"/>
                </a:lnTo>
                <a:lnTo>
                  <a:pt x="3146" y="433"/>
                </a:lnTo>
                <a:lnTo>
                  <a:pt x="3135" y="459"/>
                </a:lnTo>
                <a:lnTo>
                  <a:pt x="3122" y="486"/>
                </a:lnTo>
                <a:lnTo>
                  <a:pt x="3107" y="512"/>
                </a:lnTo>
                <a:lnTo>
                  <a:pt x="3122" y="553"/>
                </a:lnTo>
                <a:lnTo>
                  <a:pt x="3137" y="592"/>
                </a:lnTo>
                <a:lnTo>
                  <a:pt x="3154" y="633"/>
                </a:lnTo>
                <a:lnTo>
                  <a:pt x="3170" y="672"/>
                </a:lnTo>
                <a:lnTo>
                  <a:pt x="3189" y="711"/>
                </a:lnTo>
                <a:lnTo>
                  <a:pt x="3212" y="749"/>
                </a:lnTo>
                <a:lnTo>
                  <a:pt x="3236" y="784"/>
                </a:lnTo>
                <a:lnTo>
                  <a:pt x="3266" y="820"/>
                </a:lnTo>
                <a:lnTo>
                  <a:pt x="3284" y="848"/>
                </a:lnTo>
                <a:lnTo>
                  <a:pt x="3305" y="876"/>
                </a:lnTo>
                <a:lnTo>
                  <a:pt x="3327" y="904"/>
                </a:lnTo>
                <a:lnTo>
                  <a:pt x="3350" y="932"/>
                </a:lnTo>
                <a:lnTo>
                  <a:pt x="3372" y="960"/>
                </a:lnTo>
                <a:lnTo>
                  <a:pt x="3394" y="990"/>
                </a:lnTo>
                <a:lnTo>
                  <a:pt x="3411" y="1018"/>
                </a:lnTo>
                <a:lnTo>
                  <a:pt x="3426" y="1049"/>
                </a:lnTo>
                <a:lnTo>
                  <a:pt x="3424" y="1074"/>
                </a:lnTo>
                <a:lnTo>
                  <a:pt x="3417" y="1098"/>
                </a:lnTo>
                <a:lnTo>
                  <a:pt x="3406" y="1119"/>
                </a:lnTo>
                <a:lnTo>
                  <a:pt x="3393" y="1137"/>
                </a:lnTo>
                <a:lnTo>
                  <a:pt x="3376" y="1156"/>
                </a:lnTo>
                <a:lnTo>
                  <a:pt x="3361" y="1175"/>
                </a:lnTo>
                <a:lnTo>
                  <a:pt x="3344" y="1191"/>
                </a:lnTo>
                <a:lnTo>
                  <a:pt x="3327" y="1208"/>
                </a:lnTo>
                <a:lnTo>
                  <a:pt x="3327" y="1234"/>
                </a:lnTo>
                <a:lnTo>
                  <a:pt x="3329" y="1262"/>
                </a:lnTo>
                <a:lnTo>
                  <a:pt x="3333" y="1288"/>
                </a:lnTo>
                <a:lnTo>
                  <a:pt x="3346" y="1311"/>
                </a:lnTo>
                <a:lnTo>
                  <a:pt x="3376" y="1316"/>
                </a:lnTo>
                <a:lnTo>
                  <a:pt x="3404" y="1322"/>
                </a:lnTo>
                <a:lnTo>
                  <a:pt x="3434" y="1330"/>
                </a:lnTo>
                <a:lnTo>
                  <a:pt x="3462" y="1335"/>
                </a:lnTo>
                <a:lnTo>
                  <a:pt x="3490" y="1343"/>
                </a:lnTo>
                <a:lnTo>
                  <a:pt x="3518" y="1350"/>
                </a:lnTo>
                <a:lnTo>
                  <a:pt x="3547" y="1358"/>
                </a:lnTo>
                <a:lnTo>
                  <a:pt x="3575" y="1365"/>
                </a:lnTo>
                <a:lnTo>
                  <a:pt x="3557" y="1466"/>
                </a:lnTo>
                <a:lnTo>
                  <a:pt x="3544" y="1589"/>
                </a:lnTo>
                <a:lnTo>
                  <a:pt x="3534" y="1701"/>
                </a:lnTo>
                <a:lnTo>
                  <a:pt x="3534" y="1772"/>
                </a:lnTo>
                <a:lnTo>
                  <a:pt x="3523" y="1785"/>
                </a:lnTo>
                <a:lnTo>
                  <a:pt x="3512" y="1796"/>
                </a:lnTo>
                <a:lnTo>
                  <a:pt x="3499" y="1808"/>
                </a:lnTo>
                <a:lnTo>
                  <a:pt x="3486" y="1819"/>
                </a:lnTo>
                <a:lnTo>
                  <a:pt x="3471" y="1830"/>
                </a:lnTo>
                <a:lnTo>
                  <a:pt x="3460" y="1841"/>
                </a:lnTo>
                <a:lnTo>
                  <a:pt x="3449" y="1854"/>
                </a:lnTo>
                <a:lnTo>
                  <a:pt x="3441" y="1867"/>
                </a:lnTo>
                <a:lnTo>
                  <a:pt x="3421" y="1867"/>
                </a:lnTo>
                <a:lnTo>
                  <a:pt x="3391" y="1867"/>
                </a:lnTo>
                <a:lnTo>
                  <a:pt x="3357" y="1864"/>
                </a:lnTo>
                <a:lnTo>
                  <a:pt x="3322" y="1862"/>
                </a:lnTo>
                <a:lnTo>
                  <a:pt x="3288" y="1858"/>
                </a:lnTo>
                <a:lnTo>
                  <a:pt x="3258" y="1854"/>
                </a:lnTo>
                <a:lnTo>
                  <a:pt x="3236" y="1852"/>
                </a:lnTo>
                <a:lnTo>
                  <a:pt x="3225" y="1850"/>
                </a:lnTo>
                <a:lnTo>
                  <a:pt x="3226" y="1897"/>
                </a:lnTo>
                <a:lnTo>
                  <a:pt x="3226" y="1946"/>
                </a:lnTo>
                <a:lnTo>
                  <a:pt x="3228" y="1996"/>
                </a:lnTo>
                <a:lnTo>
                  <a:pt x="3236" y="2043"/>
                </a:lnTo>
                <a:lnTo>
                  <a:pt x="3256" y="2060"/>
                </a:lnTo>
                <a:lnTo>
                  <a:pt x="3277" y="2076"/>
                </a:lnTo>
                <a:lnTo>
                  <a:pt x="3297" y="2095"/>
                </a:lnTo>
                <a:lnTo>
                  <a:pt x="3316" y="2114"/>
                </a:lnTo>
                <a:lnTo>
                  <a:pt x="3333" y="2132"/>
                </a:lnTo>
                <a:lnTo>
                  <a:pt x="3348" y="2153"/>
                </a:lnTo>
                <a:lnTo>
                  <a:pt x="3361" y="2177"/>
                </a:lnTo>
                <a:lnTo>
                  <a:pt x="3368" y="2201"/>
                </a:lnTo>
                <a:lnTo>
                  <a:pt x="3387" y="2211"/>
                </a:lnTo>
                <a:lnTo>
                  <a:pt x="3398" y="2224"/>
                </a:lnTo>
                <a:lnTo>
                  <a:pt x="3406" y="2241"/>
                </a:lnTo>
                <a:lnTo>
                  <a:pt x="3407" y="2261"/>
                </a:lnTo>
                <a:lnTo>
                  <a:pt x="3396" y="2293"/>
                </a:lnTo>
                <a:lnTo>
                  <a:pt x="3385" y="2325"/>
                </a:lnTo>
                <a:lnTo>
                  <a:pt x="3376" y="2358"/>
                </a:lnTo>
                <a:lnTo>
                  <a:pt x="3368" y="2394"/>
                </a:lnTo>
                <a:lnTo>
                  <a:pt x="3353" y="2403"/>
                </a:lnTo>
                <a:lnTo>
                  <a:pt x="3338" y="2411"/>
                </a:lnTo>
                <a:lnTo>
                  <a:pt x="3322" y="2416"/>
                </a:lnTo>
                <a:lnTo>
                  <a:pt x="3305" y="2418"/>
                </a:lnTo>
                <a:lnTo>
                  <a:pt x="3286" y="2420"/>
                </a:lnTo>
                <a:lnTo>
                  <a:pt x="3267" y="2422"/>
                </a:lnTo>
                <a:lnTo>
                  <a:pt x="3249" y="2422"/>
                </a:lnTo>
                <a:lnTo>
                  <a:pt x="3230" y="2422"/>
                </a:lnTo>
                <a:lnTo>
                  <a:pt x="3219" y="2420"/>
                </a:lnTo>
                <a:lnTo>
                  <a:pt x="3204" y="2418"/>
                </a:lnTo>
                <a:lnTo>
                  <a:pt x="3189" y="2414"/>
                </a:lnTo>
                <a:lnTo>
                  <a:pt x="3180" y="2409"/>
                </a:lnTo>
                <a:lnTo>
                  <a:pt x="3187" y="2396"/>
                </a:lnTo>
                <a:lnTo>
                  <a:pt x="3197" y="2383"/>
                </a:lnTo>
                <a:lnTo>
                  <a:pt x="3206" y="2370"/>
                </a:lnTo>
                <a:lnTo>
                  <a:pt x="3215" y="2358"/>
                </a:lnTo>
                <a:lnTo>
                  <a:pt x="3226" y="2345"/>
                </a:lnTo>
                <a:lnTo>
                  <a:pt x="3236" y="2334"/>
                </a:lnTo>
                <a:lnTo>
                  <a:pt x="3245" y="2321"/>
                </a:lnTo>
                <a:lnTo>
                  <a:pt x="3254" y="2308"/>
                </a:lnTo>
                <a:lnTo>
                  <a:pt x="3239" y="2291"/>
                </a:lnTo>
                <a:lnTo>
                  <a:pt x="3223" y="2274"/>
                </a:lnTo>
                <a:lnTo>
                  <a:pt x="3206" y="2259"/>
                </a:lnTo>
                <a:lnTo>
                  <a:pt x="3187" y="2246"/>
                </a:lnTo>
                <a:lnTo>
                  <a:pt x="3169" y="2235"/>
                </a:lnTo>
                <a:lnTo>
                  <a:pt x="3148" y="2224"/>
                </a:lnTo>
                <a:lnTo>
                  <a:pt x="3128" y="2215"/>
                </a:lnTo>
                <a:lnTo>
                  <a:pt x="3107" y="2207"/>
                </a:lnTo>
                <a:lnTo>
                  <a:pt x="3107" y="2233"/>
                </a:lnTo>
                <a:lnTo>
                  <a:pt x="3101" y="2259"/>
                </a:lnTo>
                <a:lnTo>
                  <a:pt x="3094" y="2284"/>
                </a:lnTo>
                <a:lnTo>
                  <a:pt x="3085" y="2308"/>
                </a:lnTo>
                <a:lnTo>
                  <a:pt x="3075" y="2330"/>
                </a:lnTo>
                <a:lnTo>
                  <a:pt x="3070" y="2355"/>
                </a:lnTo>
                <a:lnTo>
                  <a:pt x="3068" y="2379"/>
                </a:lnTo>
                <a:lnTo>
                  <a:pt x="3072" y="2405"/>
                </a:lnTo>
                <a:lnTo>
                  <a:pt x="3068" y="2420"/>
                </a:lnTo>
                <a:lnTo>
                  <a:pt x="3064" y="2435"/>
                </a:lnTo>
                <a:lnTo>
                  <a:pt x="3060" y="2452"/>
                </a:lnTo>
                <a:lnTo>
                  <a:pt x="3060" y="2470"/>
                </a:lnTo>
                <a:lnTo>
                  <a:pt x="3023" y="2468"/>
                </a:lnTo>
                <a:lnTo>
                  <a:pt x="2986" y="2470"/>
                </a:lnTo>
                <a:lnTo>
                  <a:pt x="2948" y="2476"/>
                </a:lnTo>
                <a:lnTo>
                  <a:pt x="2911" y="2480"/>
                </a:lnTo>
                <a:lnTo>
                  <a:pt x="2876" y="2485"/>
                </a:lnTo>
                <a:lnTo>
                  <a:pt x="2840" y="2487"/>
                </a:lnTo>
                <a:lnTo>
                  <a:pt x="2803" y="2487"/>
                </a:lnTo>
                <a:lnTo>
                  <a:pt x="2767" y="2482"/>
                </a:lnTo>
                <a:lnTo>
                  <a:pt x="2760" y="2472"/>
                </a:lnTo>
                <a:lnTo>
                  <a:pt x="2765" y="2461"/>
                </a:lnTo>
                <a:lnTo>
                  <a:pt x="2775" y="2452"/>
                </a:lnTo>
                <a:lnTo>
                  <a:pt x="2786" y="2444"/>
                </a:lnTo>
                <a:lnTo>
                  <a:pt x="2807" y="2439"/>
                </a:lnTo>
                <a:lnTo>
                  <a:pt x="2825" y="2429"/>
                </a:lnTo>
                <a:lnTo>
                  <a:pt x="2846" y="2418"/>
                </a:lnTo>
                <a:lnTo>
                  <a:pt x="2863" y="2405"/>
                </a:lnTo>
                <a:lnTo>
                  <a:pt x="2881" y="2392"/>
                </a:lnTo>
                <a:lnTo>
                  <a:pt x="2898" y="2377"/>
                </a:lnTo>
                <a:lnTo>
                  <a:pt x="2913" y="2362"/>
                </a:lnTo>
                <a:lnTo>
                  <a:pt x="2928" y="2345"/>
                </a:lnTo>
                <a:lnTo>
                  <a:pt x="2900" y="2327"/>
                </a:lnTo>
                <a:lnTo>
                  <a:pt x="2877" y="2304"/>
                </a:lnTo>
                <a:lnTo>
                  <a:pt x="2859" y="2278"/>
                </a:lnTo>
                <a:lnTo>
                  <a:pt x="2844" y="2250"/>
                </a:lnTo>
                <a:lnTo>
                  <a:pt x="2831" y="2220"/>
                </a:lnTo>
                <a:lnTo>
                  <a:pt x="2818" y="2190"/>
                </a:lnTo>
                <a:lnTo>
                  <a:pt x="2803" y="2160"/>
                </a:lnTo>
                <a:lnTo>
                  <a:pt x="2786" y="2132"/>
                </a:lnTo>
                <a:lnTo>
                  <a:pt x="1879" y="1948"/>
                </a:lnTo>
                <a:lnTo>
                  <a:pt x="1231" y="2493"/>
                </a:lnTo>
                <a:lnTo>
                  <a:pt x="1179" y="2485"/>
                </a:lnTo>
                <a:lnTo>
                  <a:pt x="1860" y="1914"/>
                </a:lnTo>
                <a:lnTo>
                  <a:pt x="2721" y="2084"/>
                </a:lnTo>
                <a:lnTo>
                  <a:pt x="2698" y="2056"/>
                </a:lnTo>
                <a:lnTo>
                  <a:pt x="2683" y="2026"/>
                </a:lnTo>
                <a:lnTo>
                  <a:pt x="2670" y="1994"/>
                </a:lnTo>
                <a:lnTo>
                  <a:pt x="2663" y="1962"/>
                </a:lnTo>
                <a:lnTo>
                  <a:pt x="2655" y="1927"/>
                </a:lnTo>
                <a:lnTo>
                  <a:pt x="2652" y="1893"/>
                </a:lnTo>
                <a:lnTo>
                  <a:pt x="2646" y="1858"/>
                </a:lnTo>
                <a:lnTo>
                  <a:pt x="2642" y="1824"/>
                </a:lnTo>
                <a:lnTo>
                  <a:pt x="2640" y="1662"/>
                </a:lnTo>
                <a:lnTo>
                  <a:pt x="2627" y="1653"/>
                </a:lnTo>
                <a:lnTo>
                  <a:pt x="2612" y="1645"/>
                </a:lnTo>
                <a:lnTo>
                  <a:pt x="2596" y="1639"/>
                </a:lnTo>
                <a:lnTo>
                  <a:pt x="2581" y="1634"/>
                </a:lnTo>
                <a:lnTo>
                  <a:pt x="2564" y="1626"/>
                </a:lnTo>
                <a:lnTo>
                  <a:pt x="2549" y="1621"/>
                </a:lnTo>
                <a:lnTo>
                  <a:pt x="2534" y="1611"/>
                </a:lnTo>
                <a:lnTo>
                  <a:pt x="2521" y="1600"/>
                </a:lnTo>
                <a:lnTo>
                  <a:pt x="2521" y="1570"/>
                </a:lnTo>
                <a:lnTo>
                  <a:pt x="2525" y="1539"/>
                </a:lnTo>
                <a:lnTo>
                  <a:pt x="2523" y="1512"/>
                </a:lnTo>
                <a:lnTo>
                  <a:pt x="2502" y="1498"/>
                </a:lnTo>
                <a:lnTo>
                  <a:pt x="2489" y="1496"/>
                </a:lnTo>
                <a:lnTo>
                  <a:pt x="2476" y="1494"/>
                </a:lnTo>
                <a:lnTo>
                  <a:pt x="2463" y="1494"/>
                </a:lnTo>
                <a:lnTo>
                  <a:pt x="2450" y="1492"/>
                </a:lnTo>
                <a:lnTo>
                  <a:pt x="2437" y="1492"/>
                </a:lnTo>
                <a:lnTo>
                  <a:pt x="2424" y="1488"/>
                </a:lnTo>
                <a:lnTo>
                  <a:pt x="2413" y="1486"/>
                </a:lnTo>
                <a:lnTo>
                  <a:pt x="2402" y="1481"/>
                </a:lnTo>
                <a:lnTo>
                  <a:pt x="2418" y="1460"/>
                </a:lnTo>
                <a:lnTo>
                  <a:pt x="2437" y="1442"/>
                </a:lnTo>
                <a:lnTo>
                  <a:pt x="2459" y="1425"/>
                </a:lnTo>
                <a:lnTo>
                  <a:pt x="2480" y="1408"/>
                </a:lnTo>
                <a:lnTo>
                  <a:pt x="2502" y="1389"/>
                </a:lnTo>
                <a:lnTo>
                  <a:pt x="2525" y="1372"/>
                </a:lnTo>
                <a:lnTo>
                  <a:pt x="2545" y="1352"/>
                </a:lnTo>
                <a:lnTo>
                  <a:pt x="2564" y="1331"/>
                </a:lnTo>
                <a:lnTo>
                  <a:pt x="2571" y="1309"/>
                </a:lnTo>
                <a:lnTo>
                  <a:pt x="2581" y="1285"/>
                </a:lnTo>
                <a:lnTo>
                  <a:pt x="2590" y="1260"/>
                </a:lnTo>
                <a:lnTo>
                  <a:pt x="2601" y="1236"/>
                </a:lnTo>
                <a:lnTo>
                  <a:pt x="2609" y="1212"/>
                </a:lnTo>
                <a:lnTo>
                  <a:pt x="2616" y="1188"/>
                </a:lnTo>
                <a:lnTo>
                  <a:pt x="2622" y="1163"/>
                </a:lnTo>
                <a:lnTo>
                  <a:pt x="2625" y="1139"/>
                </a:lnTo>
                <a:lnTo>
                  <a:pt x="2616" y="1119"/>
                </a:lnTo>
                <a:lnTo>
                  <a:pt x="2609" y="1094"/>
                </a:lnTo>
                <a:lnTo>
                  <a:pt x="2601" y="1063"/>
                </a:lnTo>
                <a:lnTo>
                  <a:pt x="2590" y="1021"/>
                </a:lnTo>
                <a:lnTo>
                  <a:pt x="2584" y="984"/>
                </a:lnTo>
                <a:lnTo>
                  <a:pt x="2583" y="947"/>
                </a:lnTo>
                <a:lnTo>
                  <a:pt x="2583" y="908"/>
                </a:lnTo>
                <a:lnTo>
                  <a:pt x="2584" y="870"/>
                </a:lnTo>
                <a:lnTo>
                  <a:pt x="1728" y="1421"/>
                </a:lnTo>
                <a:lnTo>
                  <a:pt x="0" y="1242"/>
                </a:lnTo>
                <a:lnTo>
                  <a:pt x="1" y="1234"/>
                </a:lnTo>
                <a:lnTo>
                  <a:pt x="3" y="1229"/>
                </a:lnTo>
                <a:lnTo>
                  <a:pt x="5" y="1225"/>
                </a:lnTo>
                <a:lnTo>
                  <a:pt x="9" y="1221"/>
                </a:lnTo>
                <a:lnTo>
                  <a:pt x="1720" y="1391"/>
                </a:lnTo>
                <a:lnTo>
                  <a:pt x="2594" y="827"/>
                </a:lnTo>
                <a:lnTo>
                  <a:pt x="2603" y="771"/>
                </a:lnTo>
                <a:lnTo>
                  <a:pt x="2607" y="713"/>
                </a:lnTo>
                <a:lnTo>
                  <a:pt x="2611" y="657"/>
                </a:lnTo>
                <a:lnTo>
                  <a:pt x="2622" y="601"/>
                </a:lnTo>
                <a:lnTo>
                  <a:pt x="2672" y="514"/>
                </a:lnTo>
                <a:lnTo>
                  <a:pt x="2685" y="521"/>
                </a:lnTo>
                <a:lnTo>
                  <a:pt x="2693" y="534"/>
                </a:lnTo>
                <a:lnTo>
                  <a:pt x="2698" y="549"/>
                </a:lnTo>
                <a:lnTo>
                  <a:pt x="2702" y="564"/>
                </a:lnTo>
                <a:lnTo>
                  <a:pt x="2706" y="577"/>
                </a:lnTo>
                <a:lnTo>
                  <a:pt x="2713" y="588"/>
                </a:lnTo>
                <a:lnTo>
                  <a:pt x="2726" y="592"/>
                </a:lnTo>
                <a:lnTo>
                  <a:pt x="2747" y="586"/>
                </a:lnTo>
                <a:lnTo>
                  <a:pt x="2752" y="609"/>
                </a:lnTo>
                <a:lnTo>
                  <a:pt x="2751" y="635"/>
                </a:lnTo>
                <a:lnTo>
                  <a:pt x="2745" y="661"/>
                </a:lnTo>
                <a:lnTo>
                  <a:pt x="2739" y="687"/>
                </a:lnTo>
                <a:lnTo>
                  <a:pt x="2732" y="706"/>
                </a:lnTo>
                <a:lnTo>
                  <a:pt x="2724" y="725"/>
                </a:lnTo>
                <a:lnTo>
                  <a:pt x="2715" y="743"/>
                </a:lnTo>
                <a:lnTo>
                  <a:pt x="2702" y="760"/>
                </a:lnTo>
                <a:lnTo>
                  <a:pt x="2708" y="786"/>
                </a:lnTo>
                <a:lnTo>
                  <a:pt x="2715" y="812"/>
                </a:lnTo>
                <a:lnTo>
                  <a:pt x="2724" y="837"/>
                </a:lnTo>
                <a:lnTo>
                  <a:pt x="2736" y="863"/>
                </a:lnTo>
                <a:lnTo>
                  <a:pt x="2756" y="857"/>
                </a:lnTo>
                <a:lnTo>
                  <a:pt x="2764" y="838"/>
                </a:lnTo>
                <a:lnTo>
                  <a:pt x="2767" y="816"/>
                </a:lnTo>
                <a:lnTo>
                  <a:pt x="2775" y="797"/>
                </a:lnTo>
                <a:lnTo>
                  <a:pt x="2790" y="775"/>
                </a:lnTo>
                <a:lnTo>
                  <a:pt x="2803" y="753"/>
                </a:lnTo>
                <a:lnTo>
                  <a:pt x="2818" y="728"/>
                </a:lnTo>
                <a:lnTo>
                  <a:pt x="2831" y="706"/>
                </a:lnTo>
                <a:lnTo>
                  <a:pt x="2844" y="683"/>
                </a:lnTo>
                <a:lnTo>
                  <a:pt x="2859" y="661"/>
                </a:lnTo>
                <a:lnTo>
                  <a:pt x="2874" y="639"/>
                </a:lnTo>
                <a:lnTo>
                  <a:pt x="2891" y="616"/>
                </a:lnTo>
                <a:lnTo>
                  <a:pt x="2870" y="594"/>
                </a:lnTo>
                <a:lnTo>
                  <a:pt x="2846" y="579"/>
                </a:lnTo>
                <a:lnTo>
                  <a:pt x="2816" y="571"/>
                </a:lnTo>
                <a:lnTo>
                  <a:pt x="2786" y="564"/>
                </a:lnTo>
                <a:lnTo>
                  <a:pt x="2756" y="557"/>
                </a:lnTo>
                <a:lnTo>
                  <a:pt x="2730" y="543"/>
                </a:lnTo>
                <a:lnTo>
                  <a:pt x="2708" y="525"/>
                </a:lnTo>
                <a:lnTo>
                  <a:pt x="2693" y="495"/>
                </a:lnTo>
                <a:lnTo>
                  <a:pt x="2683" y="456"/>
                </a:lnTo>
                <a:lnTo>
                  <a:pt x="2687" y="413"/>
                </a:lnTo>
                <a:lnTo>
                  <a:pt x="2693" y="372"/>
                </a:lnTo>
                <a:lnTo>
                  <a:pt x="2695" y="327"/>
                </a:lnTo>
                <a:lnTo>
                  <a:pt x="2683" y="323"/>
                </a:lnTo>
                <a:lnTo>
                  <a:pt x="2674" y="318"/>
                </a:lnTo>
                <a:lnTo>
                  <a:pt x="2663" y="312"/>
                </a:lnTo>
                <a:lnTo>
                  <a:pt x="2657" y="303"/>
                </a:lnTo>
                <a:lnTo>
                  <a:pt x="2672" y="276"/>
                </a:lnTo>
                <a:lnTo>
                  <a:pt x="2691" y="250"/>
                </a:lnTo>
                <a:lnTo>
                  <a:pt x="2711" y="228"/>
                </a:lnTo>
                <a:lnTo>
                  <a:pt x="2736" y="206"/>
                </a:lnTo>
                <a:lnTo>
                  <a:pt x="2760" y="185"/>
                </a:lnTo>
                <a:lnTo>
                  <a:pt x="2786" y="168"/>
                </a:lnTo>
                <a:lnTo>
                  <a:pt x="2812" y="151"/>
                </a:lnTo>
                <a:lnTo>
                  <a:pt x="2838" y="138"/>
                </a:lnTo>
                <a:lnTo>
                  <a:pt x="2827" y="108"/>
                </a:lnTo>
                <a:lnTo>
                  <a:pt x="2825" y="77"/>
                </a:lnTo>
                <a:lnTo>
                  <a:pt x="2831" y="45"/>
                </a:lnTo>
                <a:lnTo>
                  <a:pt x="2844" y="17"/>
                </a:lnTo>
                <a:lnTo>
                  <a:pt x="2864" y="6"/>
                </a:lnTo>
                <a:lnTo>
                  <a:pt x="2889" y="0"/>
                </a:lnTo>
                <a:lnTo>
                  <a:pt x="2911" y="0"/>
                </a:lnTo>
                <a:lnTo>
                  <a:pt x="2935" y="6"/>
                </a:lnTo>
                <a:lnTo>
                  <a:pt x="2956" y="15"/>
                </a:lnTo>
                <a:lnTo>
                  <a:pt x="2976" y="30"/>
                </a:lnTo>
                <a:lnTo>
                  <a:pt x="2991" y="49"/>
                </a:lnTo>
                <a:lnTo>
                  <a:pt x="3004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8960" y="4892760"/>
            <a:ext cx="1816200" cy="1384200"/>
          </a:xfrm>
          <a:custGeom>
            <a:avLst/>
            <a:gdLst/>
            <a:ahLst/>
            <a:rect l="l" t="t" r="r" b="b"/>
            <a:pathLst>
              <a:path w="1144" h="872">
                <a:moveTo>
                  <a:pt x="1127" y="222"/>
                </a:moveTo>
                <a:lnTo>
                  <a:pt x="1133" y="232"/>
                </a:lnTo>
                <a:lnTo>
                  <a:pt x="1140" y="237"/>
                </a:lnTo>
                <a:lnTo>
                  <a:pt x="1144" y="243"/>
                </a:lnTo>
                <a:lnTo>
                  <a:pt x="1142" y="252"/>
                </a:lnTo>
                <a:lnTo>
                  <a:pt x="1133" y="258"/>
                </a:lnTo>
                <a:lnTo>
                  <a:pt x="1105" y="276"/>
                </a:lnTo>
                <a:lnTo>
                  <a:pt x="1062" y="306"/>
                </a:lnTo>
                <a:lnTo>
                  <a:pt x="1006" y="342"/>
                </a:lnTo>
                <a:lnTo>
                  <a:pt x="939" y="387"/>
                </a:lnTo>
                <a:lnTo>
                  <a:pt x="864" y="437"/>
                </a:lnTo>
                <a:lnTo>
                  <a:pt x="784" y="489"/>
                </a:lnTo>
                <a:lnTo>
                  <a:pt x="700" y="545"/>
                </a:lnTo>
                <a:lnTo>
                  <a:pt x="616" y="601"/>
                </a:lnTo>
                <a:lnTo>
                  <a:pt x="532" y="655"/>
                </a:lnTo>
                <a:lnTo>
                  <a:pt x="453" y="708"/>
                </a:lnTo>
                <a:lnTo>
                  <a:pt x="381" y="756"/>
                </a:lnTo>
                <a:lnTo>
                  <a:pt x="317" y="797"/>
                </a:lnTo>
                <a:lnTo>
                  <a:pt x="265" y="833"/>
                </a:lnTo>
                <a:lnTo>
                  <a:pt x="226" y="857"/>
                </a:lnTo>
                <a:lnTo>
                  <a:pt x="203" y="872"/>
                </a:lnTo>
                <a:lnTo>
                  <a:pt x="157" y="859"/>
                </a:lnTo>
                <a:lnTo>
                  <a:pt x="1101" y="250"/>
                </a:lnTo>
                <a:lnTo>
                  <a:pt x="11" y="32"/>
                </a:lnTo>
                <a:lnTo>
                  <a:pt x="6" y="24"/>
                </a:lnTo>
                <a:lnTo>
                  <a:pt x="2" y="13"/>
                </a:lnTo>
                <a:lnTo>
                  <a:pt x="0" y="6"/>
                </a:lnTo>
                <a:lnTo>
                  <a:pt x="4" y="0"/>
                </a:lnTo>
                <a:lnTo>
                  <a:pt x="1127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742080" y="2479680"/>
            <a:ext cx="1695240" cy="3854520"/>
            <a:chOff x="6742080" y="2479680"/>
            <a:chExt cx="1695240" cy="3854520"/>
          </a:xfrm>
        </p:grpSpPr>
        <p:sp>
          <p:nvSpPr>
            <p:cNvPr id="754" name=""/>
            <p:cNvSpPr/>
            <p:nvPr/>
          </p:nvSpPr>
          <p:spPr>
            <a:xfrm>
              <a:off x="7405560" y="2479680"/>
              <a:ext cx="441360" cy="655920"/>
            </a:xfrm>
            <a:custGeom>
              <a:avLst/>
              <a:gdLst/>
              <a:ahLst/>
              <a:rect l="l" t="t" r="r" b="b"/>
              <a:pathLst>
                <a:path w="278" h="413">
                  <a:moveTo>
                    <a:pt x="90" y="45"/>
                  </a:moveTo>
                  <a:lnTo>
                    <a:pt x="92" y="54"/>
                  </a:lnTo>
                  <a:lnTo>
                    <a:pt x="97" y="64"/>
                  </a:lnTo>
                  <a:lnTo>
                    <a:pt x="101" y="71"/>
                  </a:lnTo>
                  <a:lnTo>
                    <a:pt x="108" y="77"/>
                  </a:lnTo>
                  <a:lnTo>
                    <a:pt x="122" y="79"/>
                  </a:lnTo>
                  <a:lnTo>
                    <a:pt x="135" y="77"/>
                  </a:lnTo>
                  <a:lnTo>
                    <a:pt x="150" y="75"/>
                  </a:lnTo>
                  <a:lnTo>
                    <a:pt x="161" y="75"/>
                  </a:lnTo>
                  <a:lnTo>
                    <a:pt x="174" y="75"/>
                  </a:lnTo>
                  <a:lnTo>
                    <a:pt x="185" y="79"/>
                  </a:lnTo>
                  <a:lnTo>
                    <a:pt x="194" y="86"/>
                  </a:lnTo>
                  <a:lnTo>
                    <a:pt x="202" y="101"/>
                  </a:lnTo>
                  <a:lnTo>
                    <a:pt x="204" y="127"/>
                  </a:lnTo>
                  <a:lnTo>
                    <a:pt x="204" y="153"/>
                  </a:lnTo>
                  <a:lnTo>
                    <a:pt x="209" y="178"/>
                  </a:lnTo>
                  <a:lnTo>
                    <a:pt x="234" y="189"/>
                  </a:lnTo>
                  <a:lnTo>
                    <a:pt x="263" y="221"/>
                  </a:lnTo>
                  <a:lnTo>
                    <a:pt x="276" y="260"/>
                  </a:lnTo>
                  <a:lnTo>
                    <a:pt x="278" y="301"/>
                  </a:lnTo>
                  <a:lnTo>
                    <a:pt x="276" y="340"/>
                  </a:lnTo>
                  <a:lnTo>
                    <a:pt x="230" y="413"/>
                  </a:lnTo>
                  <a:lnTo>
                    <a:pt x="222" y="405"/>
                  </a:lnTo>
                  <a:lnTo>
                    <a:pt x="222" y="394"/>
                  </a:lnTo>
                  <a:lnTo>
                    <a:pt x="228" y="381"/>
                  </a:lnTo>
                  <a:lnTo>
                    <a:pt x="235" y="366"/>
                  </a:lnTo>
                  <a:lnTo>
                    <a:pt x="243" y="351"/>
                  </a:lnTo>
                  <a:lnTo>
                    <a:pt x="250" y="334"/>
                  </a:lnTo>
                  <a:lnTo>
                    <a:pt x="252" y="318"/>
                  </a:lnTo>
                  <a:lnTo>
                    <a:pt x="247" y="303"/>
                  </a:lnTo>
                  <a:lnTo>
                    <a:pt x="239" y="292"/>
                  </a:lnTo>
                  <a:lnTo>
                    <a:pt x="230" y="284"/>
                  </a:lnTo>
                  <a:lnTo>
                    <a:pt x="220" y="278"/>
                  </a:lnTo>
                  <a:lnTo>
                    <a:pt x="211" y="273"/>
                  </a:lnTo>
                  <a:lnTo>
                    <a:pt x="200" y="269"/>
                  </a:lnTo>
                  <a:lnTo>
                    <a:pt x="189" y="264"/>
                  </a:lnTo>
                  <a:lnTo>
                    <a:pt x="179" y="260"/>
                  </a:lnTo>
                  <a:lnTo>
                    <a:pt x="170" y="254"/>
                  </a:lnTo>
                  <a:lnTo>
                    <a:pt x="151" y="232"/>
                  </a:lnTo>
                  <a:lnTo>
                    <a:pt x="131" y="211"/>
                  </a:lnTo>
                  <a:lnTo>
                    <a:pt x="108" y="191"/>
                  </a:lnTo>
                  <a:lnTo>
                    <a:pt x="88" y="170"/>
                  </a:lnTo>
                  <a:lnTo>
                    <a:pt x="66" y="150"/>
                  </a:lnTo>
                  <a:lnTo>
                    <a:pt x="45" y="129"/>
                  </a:lnTo>
                  <a:lnTo>
                    <a:pt x="23" y="110"/>
                  </a:lnTo>
                  <a:lnTo>
                    <a:pt x="2" y="90"/>
                  </a:lnTo>
                  <a:lnTo>
                    <a:pt x="0" y="66"/>
                  </a:lnTo>
                  <a:lnTo>
                    <a:pt x="4" y="41"/>
                  </a:lnTo>
                  <a:lnTo>
                    <a:pt x="11" y="21"/>
                  </a:lnTo>
                  <a:lnTo>
                    <a:pt x="26" y="2"/>
                  </a:lnTo>
                  <a:lnTo>
                    <a:pt x="38" y="0"/>
                  </a:lnTo>
                  <a:lnTo>
                    <a:pt x="49" y="0"/>
                  </a:lnTo>
                  <a:lnTo>
                    <a:pt x="58" y="4"/>
                  </a:lnTo>
                  <a:lnTo>
                    <a:pt x="67" y="11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6" y="38"/>
                  </a:lnTo>
                  <a:lnTo>
                    <a:pt x="9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54640" y="2698920"/>
              <a:ext cx="574920" cy="682560"/>
            </a:xfrm>
            <a:custGeom>
              <a:avLst/>
              <a:gdLst/>
              <a:ahLst/>
              <a:rect l="l" t="t" r="r" b="b"/>
              <a:pathLst>
                <a:path w="362" h="430">
                  <a:moveTo>
                    <a:pt x="347" y="163"/>
                  </a:moveTo>
                  <a:lnTo>
                    <a:pt x="356" y="172"/>
                  </a:lnTo>
                  <a:lnTo>
                    <a:pt x="362" y="185"/>
                  </a:lnTo>
                  <a:lnTo>
                    <a:pt x="362" y="200"/>
                  </a:lnTo>
                  <a:lnTo>
                    <a:pt x="356" y="213"/>
                  </a:lnTo>
                  <a:lnTo>
                    <a:pt x="343" y="228"/>
                  </a:lnTo>
                  <a:lnTo>
                    <a:pt x="336" y="247"/>
                  </a:lnTo>
                  <a:lnTo>
                    <a:pt x="336" y="269"/>
                  </a:lnTo>
                  <a:lnTo>
                    <a:pt x="341" y="288"/>
                  </a:lnTo>
                  <a:lnTo>
                    <a:pt x="347" y="301"/>
                  </a:lnTo>
                  <a:lnTo>
                    <a:pt x="350" y="316"/>
                  </a:lnTo>
                  <a:lnTo>
                    <a:pt x="352" y="331"/>
                  </a:lnTo>
                  <a:lnTo>
                    <a:pt x="356" y="346"/>
                  </a:lnTo>
                  <a:lnTo>
                    <a:pt x="337" y="359"/>
                  </a:lnTo>
                  <a:lnTo>
                    <a:pt x="321" y="370"/>
                  </a:lnTo>
                  <a:lnTo>
                    <a:pt x="302" y="381"/>
                  </a:lnTo>
                  <a:lnTo>
                    <a:pt x="285" y="391"/>
                  </a:lnTo>
                  <a:lnTo>
                    <a:pt x="268" y="400"/>
                  </a:lnTo>
                  <a:lnTo>
                    <a:pt x="250" y="409"/>
                  </a:lnTo>
                  <a:lnTo>
                    <a:pt x="231" y="419"/>
                  </a:lnTo>
                  <a:lnTo>
                    <a:pt x="212" y="430"/>
                  </a:lnTo>
                  <a:lnTo>
                    <a:pt x="194" y="404"/>
                  </a:lnTo>
                  <a:lnTo>
                    <a:pt x="171" y="389"/>
                  </a:lnTo>
                  <a:lnTo>
                    <a:pt x="145" y="379"/>
                  </a:lnTo>
                  <a:lnTo>
                    <a:pt x="117" y="374"/>
                  </a:lnTo>
                  <a:lnTo>
                    <a:pt x="89" y="370"/>
                  </a:lnTo>
                  <a:lnTo>
                    <a:pt x="63" y="361"/>
                  </a:lnTo>
                  <a:lnTo>
                    <a:pt x="41" y="346"/>
                  </a:lnTo>
                  <a:lnTo>
                    <a:pt x="26" y="320"/>
                  </a:lnTo>
                  <a:lnTo>
                    <a:pt x="20" y="279"/>
                  </a:lnTo>
                  <a:lnTo>
                    <a:pt x="24" y="239"/>
                  </a:lnTo>
                  <a:lnTo>
                    <a:pt x="29" y="200"/>
                  </a:lnTo>
                  <a:lnTo>
                    <a:pt x="29" y="157"/>
                  </a:lnTo>
                  <a:lnTo>
                    <a:pt x="0" y="131"/>
                  </a:lnTo>
                  <a:lnTo>
                    <a:pt x="13" y="111"/>
                  </a:lnTo>
                  <a:lnTo>
                    <a:pt x="28" y="92"/>
                  </a:lnTo>
                  <a:lnTo>
                    <a:pt x="46" y="73"/>
                  </a:lnTo>
                  <a:lnTo>
                    <a:pt x="67" y="56"/>
                  </a:lnTo>
                  <a:lnTo>
                    <a:pt x="87" y="42"/>
                  </a:lnTo>
                  <a:lnTo>
                    <a:pt x="108" y="28"/>
                  </a:lnTo>
                  <a:lnTo>
                    <a:pt x="130" y="13"/>
                  </a:lnTo>
                  <a:lnTo>
                    <a:pt x="151" y="0"/>
                  </a:lnTo>
                  <a:lnTo>
                    <a:pt x="177" y="17"/>
                  </a:lnTo>
                  <a:lnTo>
                    <a:pt x="201" y="40"/>
                  </a:lnTo>
                  <a:lnTo>
                    <a:pt x="224" y="64"/>
                  </a:lnTo>
                  <a:lnTo>
                    <a:pt x="248" y="86"/>
                  </a:lnTo>
                  <a:lnTo>
                    <a:pt x="270" y="111"/>
                  </a:lnTo>
                  <a:lnTo>
                    <a:pt x="294" y="133"/>
                  </a:lnTo>
                  <a:lnTo>
                    <a:pt x="321" y="150"/>
                  </a:lnTo>
                  <a:lnTo>
                    <a:pt x="347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11960" y="278604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39"/>
                  </a:moveTo>
                  <a:lnTo>
                    <a:pt x="52" y="48"/>
                  </a:lnTo>
                  <a:lnTo>
                    <a:pt x="31" y="52"/>
                  </a:lnTo>
                  <a:lnTo>
                    <a:pt x="18" y="43"/>
                  </a:lnTo>
                  <a:lnTo>
                    <a:pt x="9" y="24"/>
                  </a:lnTo>
                  <a:lnTo>
                    <a:pt x="0" y="7"/>
                  </a:lnTo>
                  <a:lnTo>
                    <a:pt x="16" y="0"/>
                  </a:lnTo>
                  <a:lnTo>
                    <a:pt x="31" y="7"/>
                  </a:lnTo>
                  <a:lnTo>
                    <a:pt x="42" y="22"/>
                  </a:lnTo>
                  <a:lnTo>
                    <a:pt x="5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40320" y="3138480"/>
              <a:ext cx="109800" cy="7956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69" y="15"/>
                  </a:moveTo>
                  <a:lnTo>
                    <a:pt x="61" y="24"/>
                  </a:lnTo>
                  <a:lnTo>
                    <a:pt x="52" y="33"/>
                  </a:lnTo>
                  <a:lnTo>
                    <a:pt x="41" y="43"/>
                  </a:lnTo>
                  <a:lnTo>
                    <a:pt x="30" y="50"/>
                  </a:lnTo>
                  <a:lnTo>
                    <a:pt x="2" y="48"/>
                  </a:lnTo>
                  <a:lnTo>
                    <a:pt x="0" y="32"/>
                  </a:lnTo>
                  <a:lnTo>
                    <a:pt x="9" y="22"/>
                  </a:lnTo>
                  <a:lnTo>
                    <a:pt x="22" y="13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929280" y="3313440"/>
              <a:ext cx="1160640" cy="1900080"/>
            </a:xfrm>
            <a:custGeom>
              <a:avLst/>
              <a:gdLst/>
              <a:ahLst/>
              <a:rect l="l" t="t" r="r" b="b"/>
              <a:pathLst>
                <a:path w="731" h="1197">
                  <a:moveTo>
                    <a:pt x="664" y="1186"/>
                  </a:moveTo>
                  <a:lnTo>
                    <a:pt x="640" y="1193"/>
                  </a:lnTo>
                  <a:lnTo>
                    <a:pt x="616" y="1197"/>
                  </a:lnTo>
                  <a:lnTo>
                    <a:pt x="591" y="1195"/>
                  </a:lnTo>
                  <a:lnTo>
                    <a:pt x="567" y="1189"/>
                  </a:lnTo>
                  <a:lnTo>
                    <a:pt x="543" y="1182"/>
                  </a:lnTo>
                  <a:lnTo>
                    <a:pt x="519" y="1176"/>
                  </a:lnTo>
                  <a:lnTo>
                    <a:pt x="494" y="1171"/>
                  </a:lnTo>
                  <a:lnTo>
                    <a:pt x="470" y="1169"/>
                  </a:lnTo>
                  <a:lnTo>
                    <a:pt x="442" y="1156"/>
                  </a:lnTo>
                  <a:lnTo>
                    <a:pt x="414" y="1144"/>
                  </a:lnTo>
                  <a:lnTo>
                    <a:pt x="384" y="1135"/>
                  </a:lnTo>
                  <a:lnTo>
                    <a:pt x="354" y="1128"/>
                  </a:lnTo>
                  <a:lnTo>
                    <a:pt x="323" y="1122"/>
                  </a:lnTo>
                  <a:lnTo>
                    <a:pt x="291" y="1118"/>
                  </a:lnTo>
                  <a:lnTo>
                    <a:pt x="259" y="1115"/>
                  </a:lnTo>
                  <a:lnTo>
                    <a:pt x="229" y="1111"/>
                  </a:lnTo>
                  <a:lnTo>
                    <a:pt x="198" y="1107"/>
                  </a:lnTo>
                  <a:lnTo>
                    <a:pt x="166" y="1102"/>
                  </a:lnTo>
                  <a:lnTo>
                    <a:pt x="136" y="1096"/>
                  </a:lnTo>
                  <a:lnTo>
                    <a:pt x="106" y="1088"/>
                  </a:lnTo>
                  <a:lnTo>
                    <a:pt x="78" y="1077"/>
                  </a:lnTo>
                  <a:lnTo>
                    <a:pt x="50" y="1066"/>
                  </a:lnTo>
                  <a:lnTo>
                    <a:pt x="24" y="1049"/>
                  </a:lnTo>
                  <a:lnTo>
                    <a:pt x="0" y="1031"/>
                  </a:lnTo>
                  <a:lnTo>
                    <a:pt x="2" y="976"/>
                  </a:lnTo>
                  <a:lnTo>
                    <a:pt x="7" y="924"/>
                  </a:lnTo>
                  <a:lnTo>
                    <a:pt x="17" y="874"/>
                  </a:lnTo>
                  <a:lnTo>
                    <a:pt x="28" y="823"/>
                  </a:lnTo>
                  <a:lnTo>
                    <a:pt x="43" y="775"/>
                  </a:lnTo>
                  <a:lnTo>
                    <a:pt x="59" y="726"/>
                  </a:lnTo>
                  <a:lnTo>
                    <a:pt x="76" y="680"/>
                  </a:lnTo>
                  <a:lnTo>
                    <a:pt x="95" y="633"/>
                  </a:lnTo>
                  <a:lnTo>
                    <a:pt x="123" y="652"/>
                  </a:lnTo>
                  <a:lnTo>
                    <a:pt x="153" y="668"/>
                  </a:lnTo>
                  <a:lnTo>
                    <a:pt x="183" y="683"/>
                  </a:lnTo>
                  <a:lnTo>
                    <a:pt x="216" y="694"/>
                  </a:lnTo>
                  <a:lnTo>
                    <a:pt x="248" y="704"/>
                  </a:lnTo>
                  <a:lnTo>
                    <a:pt x="283" y="708"/>
                  </a:lnTo>
                  <a:lnTo>
                    <a:pt x="317" y="709"/>
                  </a:lnTo>
                  <a:lnTo>
                    <a:pt x="352" y="706"/>
                  </a:lnTo>
                  <a:lnTo>
                    <a:pt x="380" y="693"/>
                  </a:lnTo>
                  <a:lnTo>
                    <a:pt x="408" y="678"/>
                  </a:lnTo>
                  <a:lnTo>
                    <a:pt x="435" y="657"/>
                  </a:lnTo>
                  <a:lnTo>
                    <a:pt x="459" y="637"/>
                  </a:lnTo>
                  <a:lnTo>
                    <a:pt x="483" y="612"/>
                  </a:lnTo>
                  <a:lnTo>
                    <a:pt x="506" y="588"/>
                  </a:lnTo>
                  <a:lnTo>
                    <a:pt x="528" y="564"/>
                  </a:lnTo>
                  <a:lnTo>
                    <a:pt x="548" y="540"/>
                  </a:lnTo>
                  <a:lnTo>
                    <a:pt x="547" y="528"/>
                  </a:lnTo>
                  <a:lnTo>
                    <a:pt x="543" y="521"/>
                  </a:lnTo>
                  <a:lnTo>
                    <a:pt x="535" y="515"/>
                  </a:lnTo>
                  <a:lnTo>
                    <a:pt x="526" y="510"/>
                  </a:lnTo>
                  <a:lnTo>
                    <a:pt x="515" y="510"/>
                  </a:lnTo>
                  <a:lnTo>
                    <a:pt x="487" y="543"/>
                  </a:lnTo>
                  <a:lnTo>
                    <a:pt x="457" y="575"/>
                  </a:lnTo>
                  <a:lnTo>
                    <a:pt x="427" y="607"/>
                  </a:lnTo>
                  <a:lnTo>
                    <a:pt x="394" y="633"/>
                  </a:lnTo>
                  <a:lnTo>
                    <a:pt x="358" y="655"/>
                  </a:lnTo>
                  <a:lnTo>
                    <a:pt x="319" y="668"/>
                  </a:lnTo>
                  <a:lnTo>
                    <a:pt x="278" y="674"/>
                  </a:lnTo>
                  <a:lnTo>
                    <a:pt x="231" y="668"/>
                  </a:lnTo>
                  <a:lnTo>
                    <a:pt x="203" y="655"/>
                  </a:lnTo>
                  <a:lnTo>
                    <a:pt x="175" y="635"/>
                  </a:lnTo>
                  <a:lnTo>
                    <a:pt x="149" y="607"/>
                  </a:lnTo>
                  <a:lnTo>
                    <a:pt x="123" y="575"/>
                  </a:lnTo>
                  <a:lnTo>
                    <a:pt x="102" y="541"/>
                  </a:lnTo>
                  <a:lnTo>
                    <a:pt x="84" y="510"/>
                  </a:lnTo>
                  <a:lnTo>
                    <a:pt x="73" y="480"/>
                  </a:lnTo>
                  <a:lnTo>
                    <a:pt x="65" y="457"/>
                  </a:lnTo>
                  <a:lnTo>
                    <a:pt x="59" y="394"/>
                  </a:lnTo>
                  <a:lnTo>
                    <a:pt x="65" y="332"/>
                  </a:lnTo>
                  <a:lnTo>
                    <a:pt x="74" y="271"/>
                  </a:lnTo>
                  <a:lnTo>
                    <a:pt x="84" y="209"/>
                  </a:lnTo>
                  <a:lnTo>
                    <a:pt x="93" y="209"/>
                  </a:lnTo>
                  <a:lnTo>
                    <a:pt x="97" y="228"/>
                  </a:lnTo>
                  <a:lnTo>
                    <a:pt x="101" y="246"/>
                  </a:lnTo>
                  <a:lnTo>
                    <a:pt x="104" y="265"/>
                  </a:lnTo>
                  <a:lnTo>
                    <a:pt x="108" y="284"/>
                  </a:lnTo>
                  <a:lnTo>
                    <a:pt x="114" y="302"/>
                  </a:lnTo>
                  <a:lnTo>
                    <a:pt x="123" y="317"/>
                  </a:lnTo>
                  <a:lnTo>
                    <a:pt x="134" y="332"/>
                  </a:lnTo>
                  <a:lnTo>
                    <a:pt x="151" y="343"/>
                  </a:lnTo>
                  <a:lnTo>
                    <a:pt x="171" y="343"/>
                  </a:lnTo>
                  <a:lnTo>
                    <a:pt x="190" y="338"/>
                  </a:lnTo>
                  <a:lnTo>
                    <a:pt x="209" y="329"/>
                  </a:lnTo>
                  <a:lnTo>
                    <a:pt x="226" y="317"/>
                  </a:lnTo>
                  <a:lnTo>
                    <a:pt x="242" y="302"/>
                  </a:lnTo>
                  <a:lnTo>
                    <a:pt x="257" y="287"/>
                  </a:lnTo>
                  <a:lnTo>
                    <a:pt x="270" y="274"/>
                  </a:lnTo>
                  <a:lnTo>
                    <a:pt x="283" y="259"/>
                  </a:lnTo>
                  <a:lnTo>
                    <a:pt x="302" y="237"/>
                  </a:lnTo>
                  <a:lnTo>
                    <a:pt x="321" y="217"/>
                  </a:lnTo>
                  <a:lnTo>
                    <a:pt x="339" y="198"/>
                  </a:lnTo>
                  <a:lnTo>
                    <a:pt x="358" y="181"/>
                  </a:lnTo>
                  <a:lnTo>
                    <a:pt x="379" y="164"/>
                  </a:lnTo>
                  <a:lnTo>
                    <a:pt x="397" y="147"/>
                  </a:lnTo>
                  <a:lnTo>
                    <a:pt x="420" y="132"/>
                  </a:lnTo>
                  <a:lnTo>
                    <a:pt x="442" y="119"/>
                  </a:lnTo>
                  <a:lnTo>
                    <a:pt x="450" y="121"/>
                  </a:lnTo>
                  <a:lnTo>
                    <a:pt x="463" y="119"/>
                  </a:lnTo>
                  <a:lnTo>
                    <a:pt x="474" y="118"/>
                  </a:lnTo>
                  <a:lnTo>
                    <a:pt x="479" y="116"/>
                  </a:lnTo>
                  <a:lnTo>
                    <a:pt x="472" y="106"/>
                  </a:lnTo>
                  <a:lnTo>
                    <a:pt x="464" y="99"/>
                  </a:lnTo>
                  <a:lnTo>
                    <a:pt x="455" y="91"/>
                  </a:lnTo>
                  <a:lnTo>
                    <a:pt x="446" y="86"/>
                  </a:lnTo>
                  <a:lnTo>
                    <a:pt x="435" y="84"/>
                  </a:lnTo>
                  <a:lnTo>
                    <a:pt x="425" y="82"/>
                  </a:lnTo>
                  <a:lnTo>
                    <a:pt x="416" y="86"/>
                  </a:lnTo>
                  <a:lnTo>
                    <a:pt x="407" y="91"/>
                  </a:lnTo>
                  <a:lnTo>
                    <a:pt x="392" y="104"/>
                  </a:lnTo>
                  <a:lnTo>
                    <a:pt x="377" y="119"/>
                  </a:lnTo>
                  <a:lnTo>
                    <a:pt x="360" y="132"/>
                  </a:lnTo>
                  <a:lnTo>
                    <a:pt x="343" y="149"/>
                  </a:lnTo>
                  <a:lnTo>
                    <a:pt x="326" y="164"/>
                  </a:lnTo>
                  <a:lnTo>
                    <a:pt x="310" y="181"/>
                  </a:lnTo>
                  <a:lnTo>
                    <a:pt x="291" y="200"/>
                  </a:lnTo>
                  <a:lnTo>
                    <a:pt x="274" y="218"/>
                  </a:lnTo>
                  <a:lnTo>
                    <a:pt x="282" y="205"/>
                  </a:lnTo>
                  <a:lnTo>
                    <a:pt x="291" y="189"/>
                  </a:lnTo>
                  <a:lnTo>
                    <a:pt x="300" y="172"/>
                  </a:lnTo>
                  <a:lnTo>
                    <a:pt x="311" y="155"/>
                  </a:lnTo>
                  <a:lnTo>
                    <a:pt x="325" y="136"/>
                  </a:lnTo>
                  <a:lnTo>
                    <a:pt x="336" y="118"/>
                  </a:lnTo>
                  <a:lnTo>
                    <a:pt x="349" y="101"/>
                  </a:lnTo>
                  <a:lnTo>
                    <a:pt x="362" y="84"/>
                  </a:lnTo>
                  <a:lnTo>
                    <a:pt x="507" y="0"/>
                  </a:lnTo>
                  <a:lnTo>
                    <a:pt x="537" y="67"/>
                  </a:lnTo>
                  <a:lnTo>
                    <a:pt x="565" y="136"/>
                  </a:lnTo>
                  <a:lnTo>
                    <a:pt x="593" y="205"/>
                  </a:lnTo>
                  <a:lnTo>
                    <a:pt x="621" y="276"/>
                  </a:lnTo>
                  <a:lnTo>
                    <a:pt x="646" y="349"/>
                  </a:lnTo>
                  <a:lnTo>
                    <a:pt x="668" y="422"/>
                  </a:lnTo>
                  <a:lnTo>
                    <a:pt x="688" y="495"/>
                  </a:lnTo>
                  <a:lnTo>
                    <a:pt x="705" y="569"/>
                  </a:lnTo>
                  <a:lnTo>
                    <a:pt x="718" y="646"/>
                  </a:lnTo>
                  <a:lnTo>
                    <a:pt x="728" y="723"/>
                  </a:lnTo>
                  <a:lnTo>
                    <a:pt x="731" y="799"/>
                  </a:lnTo>
                  <a:lnTo>
                    <a:pt x="729" y="876"/>
                  </a:lnTo>
                  <a:lnTo>
                    <a:pt x="724" y="952"/>
                  </a:lnTo>
                  <a:lnTo>
                    <a:pt x="711" y="1031"/>
                  </a:lnTo>
                  <a:lnTo>
                    <a:pt x="690" y="1107"/>
                  </a:lnTo>
                  <a:lnTo>
                    <a:pt x="664" y="1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62840" y="3384720"/>
              <a:ext cx="85680" cy="206280"/>
            </a:xfrm>
            <a:custGeom>
              <a:avLst/>
              <a:gdLst/>
              <a:ahLst/>
              <a:rect l="l" t="t" r="r" b="b"/>
              <a:pathLst>
                <a:path w="54" h="130">
                  <a:moveTo>
                    <a:pt x="35" y="31"/>
                  </a:moveTo>
                  <a:lnTo>
                    <a:pt x="54" y="33"/>
                  </a:lnTo>
                  <a:lnTo>
                    <a:pt x="52" y="59"/>
                  </a:lnTo>
                  <a:lnTo>
                    <a:pt x="45" y="84"/>
                  </a:lnTo>
                  <a:lnTo>
                    <a:pt x="33" y="108"/>
                  </a:lnTo>
                  <a:lnTo>
                    <a:pt x="22" y="130"/>
                  </a:lnTo>
                  <a:lnTo>
                    <a:pt x="9" y="130"/>
                  </a:lnTo>
                  <a:lnTo>
                    <a:pt x="3" y="121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18" y="0"/>
                  </a:lnTo>
                  <a:lnTo>
                    <a:pt x="22" y="9"/>
                  </a:lnTo>
                  <a:lnTo>
                    <a:pt x="24" y="17"/>
                  </a:lnTo>
                  <a:lnTo>
                    <a:pt x="28" y="24"/>
                  </a:lnTo>
                  <a:lnTo>
                    <a:pt x="3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21520" y="3843360"/>
              <a:ext cx="193680" cy="430200"/>
            </a:xfrm>
            <a:custGeom>
              <a:avLst/>
              <a:gdLst/>
              <a:ahLst/>
              <a:rect l="l" t="t" r="r" b="b"/>
              <a:pathLst>
                <a:path w="122" h="271">
                  <a:moveTo>
                    <a:pt x="122" y="200"/>
                  </a:moveTo>
                  <a:lnTo>
                    <a:pt x="111" y="219"/>
                  </a:lnTo>
                  <a:lnTo>
                    <a:pt x="99" y="235"/>
                  </a:lnTo>
                  <a:lnTo>
                    <a:pt x="84" y="254"/>
                  </a:lnTo>
                  <a:lnTo>
                    <a:pt x="69" y="271"/>
                  </a:lnTo>
                  <a:lnTo>
                    <a:pt x="60" y="237"/>
                  </a:lnTo>
                  <a:lnTo>
                    <a:pt x="53" y="206"/>
                  </a:lnTo>
                  <a:lnTo>
                    <a:pt x="43" y="170"/>
                  </a:lnTo>
                  <a:lnTo>
                    <a:pt x="36" y="136"/>
                  </a:lnTo>
                  <a:lnTo>
                    <a:pt x="27" y="101"/>
                  </a:lnTo>
                  <a:lnTo>
                    <a:pt x="19" y="67"/>
                  </a:lnTo>
                  <a:lnTo>
                    <a:pt x="10" y="34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3"/>
                  </a:lnTo>
                  <a:lnTo>
                    <a:pt x="66" y="67"/>
                  </a:lnTo>
                  <a:lnTo>
                    <a:pt x="84" y="92"/>
                  </a:lnTo>
                  <a:lnTo>
                    <a:pt x="99" y="116"/>
                  </a:lnTo>
                  <a:lnTo>
                    <a:pt x="112" y="144"/>
                  </a:lnTo>
                  <a:lnTo>
                    <a:pt x="120" y="172"/>
                  </a:lnTo>
                  <a:lnTo>
                    <a:pt x="122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153280" y="4557960"/>
              <a:ext cx="271440" cy="115920"/>
            </a:xfrm>
            <a:custGeom>
              <a:avLst/>
              <a:gdLst/>
              <a:ahLst/>
              <a:rect l="l" t="t" r="r" b="b"/>
              <a:pathLst>
                <a:path w="171" h="73">
                  <a:moveTo>
                    <a:pt x="171" y="39"/>
                  </a:moveTo>
                  <a:lnTo>
                    <a:pt x="153" y="62"/>
                  </a:lnTo>
                  <a:lnTo>
                    <a:pt x="134" y="73"/>
                  </a:lnTo>
                  <a:lnTo>
                    <a:pt x="112" y="73"/>
                  </a:lnTo>
                  <a:lnTo>
                    <a:pt x="91" y="67"/>
                  </a:lnTo>
                  <a:lnTo>
                    <a:pt x="69" y="56"/>
                  </a:lnTo>
                  <a:lnTo>
                    <a:pt x="46" y="47"/>
                  </a:lnTo>
                  <a:lnTo>
                    <a:pt x="24" y="37"/>
                  </a:lnTo>
                  <a:lnTo>
                    <a:pt x="3" y="32"/>
                  </a:lnTo>
                  <a:lnTo>
                    <a:pt x="0" y="0"/>
                  </a:lnTo>
                  <a:lnTo>
                    <a:pt x="20" y="6"/>
                  </a:lnTo>
                  <a:lnTo>
                    <a:pt x="42" y="11"/>
                  </a:lnTo>
                  <a:lnTo>
                    <a:pt x="63" y="17"/>
                  </a:lnTo>
                  <a:lnTo>
                    <a:pt x="84" y="23"/>
                  </a:lnTo>
                  <a:lnTo>
                    <a:pt x="106" y="26"/>
                  </a:lnTo>
                  <a:lnTo>
                    <a:pt x="126" y="32"/>
                  </a:lnTo>
                  <a:lnTo>
                    <a:pt x="149" y="36"/>
                  </a:lnTo>
                  <a:lnTo>
                    <a:pt x="171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48440" y="4659480"/>
              <a:ext cx="363600" cy="687240"/>
            </a:xfrm>
            <a:custGeom>
              <a:avLst/>
              <a:gdLst/>
              <a:ahLst/>
              <a:rect l="l" t="t" r="r" b="b"/>
              <a:pathLst>
                <a:path w="229" h="433">
                  <a:moveTo>
                    <a:pt x="218" y="112"/>
                  </a:moveTo>
                  <a:lnTo>
                    <a:pt x="205" y="188"/>
                  </a:lnTo>
                  <a:lnTo>
                    <a:pt x="199" y="268"/>
                  </a:lnTo>
                  <a:lnTo>
                    <a:pt x="196" y="352"/>
                  </a:lnTo>
                  <a:lnTo>
                    <a:pt x="190" y="433"/>
                  </a:lnTo>
                  <a:lnTo>
                    <a:pt x="11" y="422"/>
                  </a:lnTo>
                  <a:lnTo>
                    <a:pt x="9" y="412"/>
                  </a:lnTo>
                  <a:lnTo>
                    <a:pt x="5" y="403"/>
                  </a:lnTo>
                  <a:lnTo>
                    <a:pt x="4" y="395"/>
                  </a:lnTo>
                  <a:lnTo>
                    <a:pt x="0" y="386"/>
                  </a:lnTo>
                  <a:lnTo>
                    <a:pt x="9" y="382"/>
                  </a:lnTo>
                  <a:lnTo>
                    <a:pt x="22" y="379"/>
                  </a:lnTo>
                  <a:lnTo>
                    <a:pt x="33" y="375"/>
                  </a:lnTo>
                  <a:lnTo>
                    <a:pt x="46" y="371"/>
                  </a:lnTo>
                  <a:lnTo>
                    <a:pt x="56" y="367"/>
                  </a:lnTo>
                  <a:lnTo>
                    <a:pt x="65" y="360"/>
                  </a:lnTo>
                  <a:lnTo>
                    <a:pt x="69" y="349"/>
                  </a:lnTo>
                  <a:lnTo>
                    <a:pt x="71" y="336"/>
                  </a:lnTo>
                  <a:lnTo>
                    <a:pt x="82" y="295"/>
                  </a:lnTo>
                  <a:lnTo>
                    <a:pt x="93" y="254"/>
                  </a:lnTo>
                  <a:lnTo>
                    <a:pt x="104" y="211"/>
                  </a:lnTo>
                  <a:lnTo>
                    <a:pt x="115" y="170"/>
                  </a:lnTo>
                  <a:lnTo>
                    <a:pt x="123" y="128"/>
                  </a:lnTo>
                  <a:lnTo>
                    <a:pt x="130" y="85"/>
                  </a:lnTo>
                  <a:lnTo>
                    <a:pt x="132" y="43"/>
                  </a:lnTo>
                  <a:lnTo>
                    <a:pt x="130" y="0"/>
                  </a:lnTo>
                  <a:lnTo>
                    <a:pt x="149" y="7"/>
                  </a:lnTo>
                  <a:lnTo>
                    <a:pt x="170" y="15"/>
                  </a:lnTo>
                  <a:lnTo>
                    <a:pt x="190" y="22"/>
                  </a:lnTo>
                  <a:lnTo>
                    <a:pt x="209" y="33"/>
                  </a:lnTo>
                  <a:lnTo>
                    <a:pt x="222" y="46"/>
                  </a:lnTo>
                  <a:lnTo>
                    <a:pt x="229" y="63"/>
                  </a:lnTo>
                  <a:lnTo>
                    <a:pt x="229" y="85"/>
                  </a:lnTo>
                  <a:lnTo>
                    <a:pt x="218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308800" y="4691160"/>
              <a:ext cx="128520" cy="617760"/>
            </a:xfrm>
            <a:custGeom>
              <a:avLst/>
              <a:gdLst/>
              <a:ahLst/>
              <a:rect l="l" t="t" r="r" b="b"/>
              <a:pathLst>
                <a:path w="81" h="389">
                  <a:moveTo>
                    <a:pt x="58" y="338"/>
                  </a:moveTo>
                  <a:lnTo>
                    <a:pt x="51" y="346"/>
                  </a:lnTo>
                  <a:lnTo>
                    <a:pt x="43" y="351"/>
                  </a:lnTo>
                  <a:lnTo>
                    <a:pt x="36" y="357"/>
                  </a:lnTo>
                  <a:lnTo>
                    <a:pt x="28" y="362"/>
                  </a:lnTo>
                  <a:lnTo>
                    <a:pt x="21" y="368"/>
                  </a:lnTo>
                  <a:lnTo>
                    <a:pt x="14" y="374"/>
                  </a:lnTo>
                  <a:lnTo>
                    <a:pt x="8" y="381"/>
                  </a:lnTo>
                  <a:lnTo>
                    <a:pt x="0" y="389"/>
                  </a:lnTo>
                  <a:lnTo>
                    <a:pt x="4" y="299"/>
                  </a:lnTo>
                  <a:lnTo>
                    <a:pt x="17" y="211"/>
                  </a:lnTo>
                  <a:lnTo>
                    <a:pt x="30" y="123"/>
                  </a:lnTo>
                  <a:lnTo>
                    <a:pt x="43" y="36"/>
                  </a:lnTo>
                  <a:lnTo>
                    <a:pt x="81" y="0"/>
                  </a:lnTo>
                  <a:lnTo>
                    <a:pt x="79" y="88"/>
                  </a:lnTo>
                  <a:lnTo>
                    <a:pt x="68" y="170"/>
                  </a:lnTo>
                  <a:lnTo>
                    <a:pt x="56" y="252"/>
                  </a:lnTo>
                  <a:lnTo>
                    <a:pt x="58" y="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742080" y="4646880"/>
              <a:ext cx="149040" cy="126720"/>
            </a:xfrm>
            <a:custGeom>
              <a:avLst/>
              <a:gdLst/>
              <a:ahLst/>
              <a:rect l="l" t="t" r="r" b="b"/>
              <a:pathLst>
                <a:path w="94" h="80">
                  <a:moveTo>
                    <a:pt x="0" y="71"/>
                  </a:moveTo>
                  <a:lnTo>
                    <a:pt x="94" y="0"/>
                  </a:lnTo>
                  <a:lnTo>
                    <a:pt x="79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15040" y="5100840"/>
              <a:ext cx="703440" cy="1039680"/>
            </a:xfrm>
            <a:custGeom>
              <a:avLst/>
              <a:gdLst/>
              <a:ahLst/>
              <a:rect l="l" t="t" r="r" b="b"/>
              <a:pathLst>
                <a:path w="443" h="655">
                  <a:moveTo>
                    <a:pt x="362" y="76"/>
                  </a:moveTo>
                  <a:lnTo>
                    <a:pt x="443" y="91"/>
                  </a:lnTo>
                  <a:lnTo>
                    <a:pt x="439" y="121"/>
                  </a:lnTo>
                  <a:lnTo>
                    <a:pt x="431" y="149"/>
                  </a:lnTo>
                  <a:lnTo>
                    <a:pt x="422" y="177"/>
                  </a:lnTo>
                  <a:lnTo>
                    <a:pt x="411" y="203"/>
                  </a:lnTo>
                  <a:lnTo>
                    <a:pt x="402" y="231"/>
                  </a:lnTo>
                  <a:lnTo>
                    <a:pt x="392" y="259"/>
                  </a:lnTo>
                  <a:lnTo>
                    <a:pt x="385" y="287"/>
                  </a:lnTo>
                  <a:lnTo>
                    <a:pt x="381" y="317"/>
                  </a:lnTo>
                  <a:lnTo>
                    <a:pt x="381" y="401"/>
                  </a:lnTo>
                  <a:lnTo>
                    <a:pt x="381" y="489"/>
                  </a:lnTo>
                  <a:lnTo>
                    <a:pt x="372" y="575"/>
                  </a:lnTo>
                  <a:lnTo>
                    <a:pt x="347" y="653"/>
                  </a:lnTo>
                  <a:lnTo>
                    <a:pt x="334" y="655"/>
                  </a:lnTo>
                  <a:lnTo>
                    <a:pt x="323" y="653"/>
                  </a:lnTo>
                  <a:lnTo>
                    <a:pt x="312" y="650"/>
                  </a:lnTo>
                  <a:lnTo>
                    <a:pt x="303" y="646"/>
                  </a:lnTo>
                  <a:lnTo>
                    <a:pt x="293" y="640"/>
                  </a:lnTo>
                  <a:lnTo>
                    <a:pt x="284" y="637"/>
                  </a:lnTo>
                  <a:lnTo>
                    <a:pt x="275" y="633"/>
                  </a:lnTo>
                  <a:lnTo>
                    <a:pt x="263" y="633"/>
                  </a:lnTo>
                  <a:lnTo>
                    <a:pt x="234" y="607"/>
                  </a:lnTo>
                  <a:lnTo>
                    <a:pt x="211" y="573"/>
                  </a:lnTo>
                  <a:lnTo>
                    <a:pt x="193" y="538"/>
                  </a:lnTo>
                  <a:lnTo>
                    <a:pt x="178" y="500"/>
                  </a:lnTo>
                  <a:lnTo>
                    <a:pt x="159" y="465"/>
                  </a:lnTo>
                  <a:lnTo>
                    <a:pt x="138" y="431"/>
                  </a:lnTo>
                  <a:lnTo>
                    <a:pt x="109" y="405"/>
                  </a:lnTo>
                  <a:lnTo>
                    <a:pt x="69" y="384"/>
                  </a:lnTo>
                  <a:lnTo>
                    <a:pt x="53" y="360"/>
                  </a:lnTo>
                  <a:lnTo>
                    <a:pt x="40" y="332"/>
                  </a:lnTo>
                  <a:lnTo>
                    <a:pt x="28" y="306"/>
                  </a:lnTo>
                  <a:lnTo>
                    <a:pt x="21" y="276"/>
                  </a:lnTo>
                  <a:lnTo>
                    <a:pt x="13" y="248"/>
                  </a:lnTo>
                  <a:lnTo>
                    <a:pt x="10" y="218"/>
                  </a:lnTo>
                  <a:lnTo>
                    <a:pt x="6" y="188"/>
                  </a:lnTo>
                  <a:lnTo>
                    <a:pt x="2" y="159"/>
                  </a:lnTo>
                  <a:lnTo>
                    <a:pt x="0" y="0"/>
                  </a:lnTo>
                  <a:lnTo>
                    <a:pt x="25" y="4"/>
                  </a:lnTo>
                  <a:lnTo>
                    <a:pt x="47" y="7"/>
                  </a:lnTo>
                  <a:lnTo>
                    <a:pt x="71" y="11"/>
                  </a:lnTo>
                  <a:lnTo>
                    <a:pt x="94" y="13"/>
                  </a:lnTo>
                  <a:lnTo>
                    <a:pt x="118" y="17"/>
                  </a:lnTo>
                  <a:lnTo>
                    <a:pt x="140" y="20"/>
                  </a:lnTo>
                  <a:lnTo>
                    <a:pt x="165" y="24"/>
                  </a:lnTo>
                  <a:lnTo>
                    <a:pt x="187" y="28"/>
                  </a:lnTo>
                  <a:lnTo>
                    <a:pt x="209" y="32"/>
                  </a:lnTo>
                  <a:lnTo>
                    <a:pt x="232" y="37"/>
                  </a:lnTo>
                  <a:lnTo>
                    <a:pt x="254" y="41"/>
                  </a:lnTo>
                  <a:lnTo>
                    <a:pt x="277" y="46"/>
                  </a:lnTo>
                  <a:lnTo>
                    <a:pt x="299" y="54"/>
                  </a:lnTo>
                  <a:lnTo>
                    <a:pt x="319" y="60"/>
                  </a:lnTo>
                  <a:lnTo>
                    <a:pt x="342" y="67"/>
                  </a:lnTo>
                  <a:lnTo>
                    <a:pt x="3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88240" y="5292720"/>
              <a:ext cx="355680" cy="735120"/>
            </a:xfrm>
            <a:custGeom>
              <a:avLst/>
              <a:gdLst/>
              <a:ahLst/>
              <a:rect l="l" t="t" r="r" b="b"/>
              <a:pathLst>
                <a:path w="224" h="463">
                  <a:moveTo>
                    <a:pt x="88" y="258"/>
                  </a:moveTo>
                  <a:lnTo>
                    <a:pt x="108" y="277"/>
                  </a:lnTo>
                  <a:lnTo>
                    <a:pt x="129" y="293"/>
                  </a:lnTo>
                  <a:lnTo>
                    <a:pt x="151" y="310"/>
                  </a:lnTo>
                  <a:lnTo>
                    <a:pt x="170" y="329"/>
                  </a:lnTo>
                  <a:lnTo>
                    <a:pt x="188" y="349"/>
                  </a:lnTo>
                  <a:lnTo>
                    <a:pt x="205" y="370"/>
                  </a:lnTo>
                  <a:lnTo>
                    <a:pt x="216" y="392"/>
                  </a:lnTo>
                  <a:lnTo>
                    <a:pt x="224" y="418"/>
                  </a:lnTo>
                  <a:lnTo>
                    <a:pt x="166" y="463"/>
                  </a:lnTo>
                  <a:lnTo>
                    <a:pt x="147" y="450"/>
                  </a:lnTo>
                  <a:lnTo>
                    <a:pt x="127" y="437"/>
                  </a:lnTo>
                  <a:lnTo>
                    <a:pt x="108" y="426"/>
                  </a:lnTo>
                  <a:lnTo>
                    <a:pt x="88" y="415"/>
                  </a:lnTo>
                  <a:lnTo>
                    <a:pt x="67" y="403"/>
                  </a:lnTo>
                  <a:lnTo>
                    <a:pt x="45" y="396"/>
                  </a:lnTo>
                  <a:lnTo>
                    <a:pt x="24" y="387"/>
                  </a:lnTo>
                  <a:lnTo>
                    <a:pt x="2" y="381"/>
                  </a:lnTo>
                  <a:lnTo>
                    <a:pt x="0" y="333"/>
                  </a:lnTo>
                  <a:lnTo>
                    <a:pt x="2" y="284"/>
                  </a:lnTo>
                  <a:lnTo>
                    <a:pt x="4" y="235"/>
                  </a:lnTo>
                  <a:lnTo>
                    <a:pt x="9" y="185"/>
                  </a:lnTo>
                  <a:lnTo>
                    <a:pt x="17" y="136"/>
                  </a:lnTo>
                  <a:lnTo>
                    <a:pt x="28" y="90"/>
                  </a:lnTo>
                  <a:lnTo>
                    <a:pt x="41" y="43"/>
                  </a:lnTo>
                  <a:lnTo>
                    <a:pt x="58" y="0"/>
                  </a:lnTo>
                  <a:lnTo>
                    <a:pt x="71" y="64"/>
                  </a:lnTo>
                  <a:lnTo>
                    <a:pt x="77" y="129"/>
                  </a:lnTo>
                  <a:lnTo>
                    <a:pt x="80" y="194"/>
                  </a:lnTo>
                  <a:lnTo>
                    <a:pt x="88" y="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16840" y="6016680"/>
              <a:ext cx="177840" cy="212760"/>
            </a:xfrm>
            <a:custGeom>
              <a:avLst/>
              <a:gdLst/>
              <a:ahLst/>
              <a:rect l="l" t="t" r="r" b="b"/>
              <a:pathLst>
                <a:path w="112" h="134">
                  <a:moveTo>
                    <a:pt x="112" y="0"/>
                  </a:moveTo>
                  <a:lnTo>
                    <a:pt x="99" y="18"/>
                  </a:lnTo>
                  <a:lnTo>
                    <a:pt x="91" y="43"/>
                  </a:lnTo>
                  <a:lnTo>
                    <a:pt x="86" y="69"/>
                  </a:lnTo>
                  <a:lnTo>
                    <a:pt x="80" y="95"/>
                  </a:lnTo>
                  <a:lnTo>
                    <a:pt x="71" y="117"/>
                  </a:lnTo>
                  <a:lnTo>
                    <a:pt x="58" y="130"/>
                  </a:lnTo>
                  <a:lnTo>
                    <a:pt x="33" y="134"/>
                  </a:lnTo>
                  <a:lnTo>
                    <a:pt x="0" y="125"/>
                  </a:lnTo>
                  <a:lnTo>
                    <a:pt x="16" y="108"/>
                  </a:lnTo>
                  <a:lnTo>
                    <a:pt x="30" y="89"/>
                  </a:lnTo>
                  <a:lnTo>
                    <a:pt x="39" y="71"/>
                  </a:lnTo>
                  <a:lnTo>
                    <a:pt x="48" y="54"/>
                  </a:lnTo>
                  <a:lnTo>
                    <a:pt x="58" y="37"/>
                  </a:lnTo>
                  <a:lnTo>
                    <a:pt x="71" y="20"/>
                  </a:lnTo>
                  <a:lnTo>
                    <a:pt x="87" y="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94400" y="6170760"/>
              <a:ext cx="266760" cy="163440"/>
            </a:xfrm>
            <a:custGeom>
              <a:avLst/>
              <a:gdLst/>
              <a:ahLst/>
              <a:rect l="l" t="t" r="r" b="b"/>
              <a:pathLst>
                <a:path w="168" h="103">
                  <a:moveTo>
                    <a:pt x="168" y="35"/>
                  </a:moveTo>
                  <a:lnTo>
                    <a:pt x="162" y="84"/>
                  </a:lnTo>
                  <a:lnTo>
                    <a:pt x="0" y="103"/>
                  </a:lnTo>
                  <a:lnTo>
                    <a:pt x="15" y="93"/>
                  </a:lnTo>
                  <a:lnTo>
                    <a:pt x="32" y="82"/>
                  </a:lnTo>
                  <a:lnTo>
                    <a:pt x="46" y="71"/>
                  </a:lnTo>
                  <a:lnTo>
                    <a:pt x="63" y="58"/>
                  </a:lnTo>
                  <a:lnTo>
                    <a:pt x="78" y="45"/>
                  </a:lnTo>
                  <a:lnTo>
                    <a:pt x="93" y="30"/>
                  </a:lnTo>
                  <a:lnTo>
                    <a:pt x="106" y="15"/>
                  </a:lnTo>
                  <a:lnTo>
                    <a:pt x="117" y="0"/>
                  </a:lnTo>
                  <a:lnTo>
                    <a:pt x="125" y="5"/>
                  </a:lnTo>
                  <a:lnTo>
                    <a:pt x="132" y="9"/>
                  </a:lnTo>
                  <a:lnTo>
                    <a:pt x="142" y="9"/>
                  </a:lnTo>
                  <a:lnTo>
                    <a:pt x="151" y="11"/>
                  </a:lnTo>
                  <a:lnTo>
                    <a:pt x="158" y="13"/>
                  </a:lnTo>
                  <a:lnTo>
                    <a:pt x="164" y="17"/>
                  </a:lnTo>
                  <a:lnTo>
                    <a:pt x="168" y="24"/>
                  </a:lnTo>
                  <a:lnTo>
                    <a:pt x="168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609480" y="2305080"/>
            <a:ext cx="2743200" cy="26416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1761120" y="1695600"/>
            <a:ext cx="2491200" cy="5205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rial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754720" y="2533680"/>
            <a:ext cx="3277440" cy="5205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rial"/>
              </a:rPr>
              <a:t>Acompanh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973160" y="3036960"/>
            <a:ext cx="4348440" cy="3704760"/>
            <a:chOff x="1973160" y="3036960"/>
            <a:chExt cx="4348440" cy="3704760"/>
          </a:xfrm>
        </p:grpSpPr>
        <p:sp>
          <p:nvSpPr>
            <p:cNvPr id="773" name=""/>
            <p:cNvSpPr/>
            <p:nvPr/>
          </p:nvSpPr>
          <p:spPr>
            <a:xfrm rot="3057000">
              <a:off x="5298120" y="40410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9740000">
              <a:off x="2209680" y="3892320"/>
              <a:ext cx="3875040" cy="1993680"/>
            </a:xfrm>
            <a:custGeom>
              <a:avLst/>
              <a:gdLst/>
              <a:ahLst/>
              <a:rect l="l" t="t" r="r" b="b"/>
              <a:pathLst>
                <a:path w="2441" h="1256">
                  <a:moveTo>
                    <a:pt x="387" y="541"/>
                  </a:moveTo>
                  <a:lnTo>
                    <a:pt x="387" y="526"/>
                  </a:lnTo>
                  <a:lnTo>
                    <a:pt x="390" y="511"/>
                  </a:lnTo>
                  <a:lnTo>
                    <a:pt x="395" y="498"/>
                  </a:lnTo>
                  <a:lnTo>
                    <a:pt x="402" y="485"/>
                  </a:lnTo>
                  <a:lnTo>
                    <a:pt x="471" y="495"/>
                  </a:lnTo>
                  <a:lnTo>
                    <a:pt x="472" y="509"/>
                  </a:lnTo>
                  <a:lnTo>
                    <a:pt x="472" y="527"/>
                  </a:lnTo>
                  <a:lnTo>
                    <a:pt x="477" y="542"/>
                  </a:lnTo>
                  <a:lnTo>
                    <a:pt x="489" y="546"/>
                  </a:lnTo>
                  <a:lnTo>
                    <a:pt x="489" y="539"/>
                  </a:lnTo>
                  <a:lnTo>
                    <a:pt x="489" y="533"/>
                  </a:lnTo>
                  <a:lnTo>
                    <a:pt x="489" y="527"/>
                  </a:lnTo>
                  <a:lnTo>
                    <a:pt x="486" y="522"/>
                  </a:lnTo>
                  <a:lnTo>
                    <a:pt x="488" y="517"/>
                  </a:lnTo>
                  <a:lnTo>
                    <a:pt x="492" y="512"/>
                  </a:lnTo>
                  <a:lnTo>
                    <a:pt x="496" y="510"/>
                  </a:lnTo>
                  <a:lnTo>
                    <a:pt x="501" y="507"/>
                  </a:lnTo>
                  <a:lnTo>
                    <a:pt x="503" y="498"/>
                  </a:lnTo>
                  <a:lnTo>
                    <a:pt x="505" y="486"/>
                  </a:lnTo>
                  <a:lnTo>
                    <a:pt x="504" y="475"/>
                  </a:lnTo>
                  <a:lnTo>
                    <a:pt x="502" y="464"/>
                  </a:lnTo>
                  <a:lnTo>
                    <a:pt x="499" y="463"/>
                  </a:lnTo>
                  <a:lnTo>
                    <a:pt x="498" y="463"/>
                  </a:lnTo>
                  <a:lnTo>
                    <a:pt x="497" y="463"/>
                  </a:lnTo>
                  <a:lnTo>
                    <a:pt x="498" y="463"/>
                  </a:lnTo>
                  <a:lnTo>
                    <a:pt x="480" y="462"/>
                  </a:lnTo>
                  <a:lnTo>
                    <a:pt x="475" y="469"/>
                  </a:lnTo>
                  <a:lnTo>
                    <a:pt x="475" y="483"/>
                  </a:lnTo>
                  <a:lnTo>
                    <a:pt x="471" y="495"/>
                  </a:lnTo>
                  <a:lnTo>
                    <a:pt x="402" y="485"/>
                  </a:lnTo>
                  <a:lnTo>
                    <a:pt x="322" y="485"/>
                  </a:lnTo>
                  <a:lnTo>
                    <a:pt x="254" y="485"/>
                  </a:lnTo>
                  <a:lnTo>
                    <a:pt x="251" y="486"/>
                  </a:lnTo>
                  <a:lnTo>
                    <a:pt x="241" y="486"/>
                  </a:lnTo>
                  <a:lnTo>
                    <a:pt x="227" y="486"/>
                  </a:lnTo>
                  <a:lnTo>
                    <a:pt x="213" y="486"/>
                  </a:lnTo>
                  <a:lnTo>
                    <a:pt x="198" y="486"/>
                  </a:lnTo>
                  <a:lnTo>
                    <a:pt x="184" y="485"/>
                  </a:lnTo>
                  <a:lnTo>
                    <a:pt x="174" y="485"/>
                  </a:lnTo>
                  <a:lnTo>
                    <a:pt x="171" y="485"/>
                  </a:lnTo>
                  <a:lnTo>
                    <a:pt x="114" y="490"/>
                  </a:lnTo>
                  <a:lnTo>
                    <a:pt x="108" y="488"/>
                  </a:lnTo>
                  <a:lnTo>
                    <a:pt x="104" y="485"/>
                  </a:lnTo>
                  <a:lnTo>
                    <a:pt x="101" y="480"/>
                  </a:lnTo>
                  <a:lnTo>
                    <a:pt x="102" y="474"/>
                  </a:lnTo>
                  <a:lnTo>
                    <a:pt x="96" y="475"/>
                  </a:lnTo>
                  <a:lnTo>
                    <a:pt x="91" y="478"/>
                  </a:lnTo>
                  <a:lnTo>
                    <a:pt x="85" y="479"/>
                  </a:lnTo>
                  <a:lnTo>
                    <a:pt x="77" y="475"/>
                  </a:lnTo>
                  <a:lnTo>
                    <a:pt x="75" y="467"/>
                  </a:lnTo>
                  <a:lnTo>
                    <a:pt x="70" y="458"/>
                  </a:lnTo>
                  <a:lnTo>
                    <a:pt x="64" y="453"/>
                  </a:lnTo>
                  <a:lnTo>
                    <a:pt x="55" y="456"/>
                  </a:lnTo>
                  <a:lnTo>
                    <a:pt x="46" y="446"/>
                  </a:lnTo>
                  <a:lnTo>
                    <a:pt x="37" y="436"/>
                  </a:lnTo>
                  <a:lnTo>
                    <a:pt x="28" y="425"/>
                  </a:lnTo>
                  <a:lnTo>
                    <a:pt x="24" y="411"/>
                  </a:lnTo>
                  <a:lnTo>
                    <a:pt x="16" y="404"/>
                  </a:lnTo>
                  <a:lnTo>
                    <a:pt x="7" y="395"/>
                  </a:lnTo>
                  <a:lnTo>
                    <a:pt x="1" y="386"/>
                  </a:lnTo>
                  <a:lnTo>
                    <a:pt x="0" y="372"/>
                  </a:lnTo>
                  <a:lnTo>
                    <a:pt x="2" y="363"/>
                  </a:lnTo>
                  <a:lnTo>
                    <a:pt x="496" y="366"/>
                  </a:lnTo>
                  <a:lnTo>
                    <a:pt x="496" y="374"/>
                  </a:lnTo>
                  <a:lnTo>
                    <a:pt x="494" y="383"/>
                  </a:lnTo>
                  <a:lnTo>
                    <a:pt x="491" y="390"/>
                  </a:lnTo>
                  <a:lnTo>
                    <a:pt x="485" y="397"/>
                  </a:lnTo>
                  <a:lnTo>
                    <a:pt x="489" y="399"/>
                  </a:lnTo>
                  <a:lnTo>
                    <a:pt x="494" y="403"/>
                  </a:lnTo>
                  <a:lnTo>
                    <a:pt x="501" y="404"/>
                  </a:lnTo>
                  <a:lnTo>
                    <a:pt x="507" y="404"/>
                  </a:lnTo>
                  <a:lnTo>
                    <a:pt x="504" y="399"/>
                  </a:lnTo>
                  <a:lnTo>
                    <a:pt x="502" y="394"/>
                  </a:lnTo>
                  <a:lnTo>
                    <a:pt x="499" y="389"/>
                  </a:lnTo>
                  <a:lnTo>
                    <a:pt x="501" y="383"/>
                  </a:lnTo>
                  <a:lnTo>
                    <a:pt x="509" y="381"/>
                  </a:lnTo>
                  <a:lnTo>
                    <a:pt x="517" y="377"/>
                  </a:lnTo>
                  <a:lnTo>
                    <a:pt x="524" y="371"/>
                  </a:lnTo>
                  <a:lnTo>
                    <a:pt x="530" y="365"/>
                  </a:lnTo>
                  <a:lnTo>
                    <a:pt x="535" y="360"/>
                  </a:lnTo>
                  <a:lnTo>
                    <a:pt x="541" y="354"/>
                  </a:lnTo>
                  <a:lnTo>
                    <a:pt x="548" y="350"/>
                  </a:lnTo>
                  <a:lnTo>
                    <a:pt x="556" y="347"/>
                  </a:lnTo>
                  <a:lnTo>
                    <a:pt x="568" y="338"/>
                  </a:lnTo>
                  <a:lnTo>
                    <a:pt x="560" y="335"/>
                  </a:lnTo>
                  <a:lnTo>
                    <a:pt x="547" y="335"/>
                  </a:lnTo>
                  <a:lnTo>
                    <a:pt x="537" y="333"/>
                  </a:lnTo>
                  <a:lnTo>
                    <a:pt x="534" y="322"/>
                  </a:lnTo>
                  <a:lnTo>
                    <a:pt x="532" y="322"/>
                  </a:lnTo>
                  <a:lnTo>
                    <a:pt x="532" y="317"/>
                  </a:lnTo>
                  <a:lnTo>
                    <a:pt x="534" y="317"/>
                  </a:lnTo>
                  <a:lnTo>
                    <a:pt x="534" y="318"/>
                  </a:lnTo>
                  <a:lnTo>
                    <a:pt x="537" y="312"/>
                  </a:lnTo>
                  <a:lnTo>
                    <a:pt x="542" y="309"/>
                  </a:lnTo>
                  <a:lnTo>
                    <a:pt x="548" y="309"/>
                  </a:lnTo>
                  <a:lnTo>
                    <a:pt x="556" y="309"/>
                  </a:lnTo>
                  <a:lnTo>
                    <a:pt x="562" y="310"/>
                  </a:lnTo>
                  <a:lnTo>
                    <a:pt x="568" y="310"/>
                  </a:lnTo>
                  <a:lnTo>
                    <a:pt x="573" y="308"/>
                  </a:lnTo>
                  <a:lnTo>
                    <a:pt x="577" y="304"/>
                  </a:lnTo>
                  <a:lnTo>
                    <a:pt x="568" y="302"/>
                  </a:lnTo>
                  <a:lnTo>
                    <a:pt x="560" y="303"/>
                  </a:lnTo>
                  <a:lnTo>
                    <a:pt x="551" y="303"/>
                  </a:lnTo>
                  <a:lnTo>
                    <a:pt x="542" y="302"/>
                  </a:lnTo>
                  <a:lnTo>
                    <a:pt x="528" y="302"/>
                  </a:lnTo>
                  <a:lnTo>
                    <a:pt x="514" y="301"/>
                  </a:lnTo>
                  <a:lnTo>
                    <a:pt x="501" y="302"/>
                  </a:lnTo>
                  <a:lnTo>
                    <a:pt x="487" y="302"/>
                  </a:lnTo>
                  <a:lnTo>
                    <a:pt x="473" y="302"/>
                  </a:lnTo>
                  <a:lnTo>
                    <a:pt x="461" y="302"/>
                  </a:lnTo>
                  <a:lnTo>
                    <a:pt x="448" y="301"/>
                  </a:lnTo>
                  <a:lnTo>
                    <a:pt x="435" y="299"/>
                  </a:lnTo>
                  <a:lnTo>
                    <a:pt x="434" y="294"/>
                  </a:lnTo>
                  <a:lnTo>
                    <a:pt x="433" y="291"/>
                  </a:lnTo>
                  <a:lnTo>
                    <a:pt x="432" y="287"/>
                  </a:lnTo>
                  <a:lnTo>
                    <a:pt x="435" y="283"/>
                  </a:lnTo>
                  <a:lnTo>
                    <a:pt x="459" y="282"/>
                  </a:lnTo>
                  <a:lnTo>
                    <a:pt x="482" y="282"/>
                  </a:lnTo>
                  <a:lnTo>
                    <a:pt x="505" y="282"/>
                  </a:lnTo>
                  <a:lnTo>
                    <a:pt x="528" y="282"/>
                  </a:lnTo>
                  <a:lnTo>
                    <a:pt x="548" y="282"/>
                  </a:lnTo>
                  <a:lnTo>
                    <a:pt x="571" y="282"/>
                  </a:lnTo>
                  <a:lnTo>
                    <a:pt x="594" y="282"/>
                  </a:lnTo>
                  <a:lnTo>
                    <a:pt x="616" y="281"/>
                  </a:lnTo>
                  <a:lnTo>
                    <a:pt x="620" y="283"/>
                  </a:lnTo>
                  <a:lnTo>
                    <a:pt x="624" y="283"/>
                  </a:lnTo>
                  <a:lnTo>
                    <a:pt x="626" y="283"/>
                  </a:lnTo>
                  <a:lnTo>
                    <a:pt x="628" y="286"/>
                  </a:lnTo>
                  <a:lnTo>
                    <a:pt x="630" y="292"/>
                  </a:lnTo>
                  <a:lnTo>
                    <a:pt x="627" y="298"/>
                  </a:lnTo>
                  <a:lnTo>
                    <a:pt x="625" y="302"/>
                  </a:lnTo>
                  <a:lnTo>
                    <a:pt x="622" y="307"/>
                  </a:lnTo>
                  <a:lnTo>
                    <a:pt x="628" y="309"/>
                  </a:lnTo>
                  <a:lnTo>
                    <a:pt x="633" y="310"/>
                  </a:lnTo>
                  <a:lnTo>
                    <a:pt x="640" y="310"/>
                  </a:lnTo>
                  <a:lnTo>
                    <a:pt x="646" y="310"/>
                  </a:lnTo>
                  <a:lnTo>
                    <a:pt x="652" y="310"/>
                  </a:lnTo>
                  <a:lnTo>
                    <a:pt x="657" y="312"/>
                  </a:lnTo>
                  <a:lnTo>
                    <a:pt x="662" y="314"/>
                  </a:lnTo>
                  <a:lnTo>
                    <a:pt x="665" y="319"/>
                  </a:lnTo>
                  <a:lnTo>
                    <a:pt x="667" y="328"/>
                  </a:lnTo>
                  <a:lnTo>
                    <a:pt x="662" y="333"/>
                  </a:lnTo>
                  <a:lnTo>
                    <a:pt x="654" y="335"/>
                  </a:lnTo>
                  <a:lnTo>
                    <a:pt x="647" y="335"/>
                  </a:lnTo>
                  <a:lnTo>
                    <a:pt x="643" y="334"/>
                  </a:lnTo>
                  <a:lnTo>
                    <a:pt x="640" y="333"/>
                  </a:lnTo>
                  <a:lnTo>
                    <a:pt x="635" y="334"/>
                  </a:lnTo>
                  <a:lnTo>
                    <a:pt x="631" y="335"/>
                  </a:lnTo>
                  <a:lnTo>
                    <a:pt x="638" y="338"/>
                  </a:lnTo>
                  <a:lnTo>
                    <a:pt x="644" y="340"/>
                  </a:lnTo>
                  <a:lnTo>
                    <a:pt x="651" y="342"/>
                  </a:lnTo>
                  <a:lnTo>
                    <a:pt x="658" y="344"/>
                  </a:lnTo>
                  <a:lnTo>
                    <a:pt x="664" y="346"/>
                  </a:lnTo>
                  <a:lnTo>
                    <a:pt x="670" y="350"/>
                  </a:lnTo>
                  <a:lnTo>
                    <a:pt x="675" y="354"/>
                  </a:lnTo>
                  <a:lnTo>
                    <a:pt x="681" y="357"/>
                  </a:lnTo>
                  <a:lnTo>
                    <a:pt x="688" y="363"/>
                  </a:lnTo>
                  <a:lnTo>
                    <a:pt x="694" y="370"/>
                  </a:lnTo>
                  <a:lnTo>
                    <a:pt x="701" y="376"/>
                  </a:lnTo>
                  <a:lnTo>
                    <a:pt x="707" y="381"/>
                  </a:lnTo>
                  <a:lnTo>
                    <a:pt x="716" y="404"/>
                  </a:lnTo>
                  <a:lnTo>
                    <a:pt x="712" y="408"/>
                  </a:lnTo>
                  <a:lnTo>
                    <a:pt x="706" y="413"/>
                  </a:lnTo>
                  <a:lnTo>
                    <a:pt x="700" y="415"/>
                  </a:lnTo>
                  <a:lnTo>
                    <a:pt x="695" y="418"/>
                  </a:lnTo>
                  <a:lnTo>
                    <a:pt x="692" y="420"/>
                  </a:lnTo>
                  <a:lnTo>
                    <a:pt x="691" y="424"/>
                  </a:lnTo>
                  <a:lnTo>
                    <a:pt x="692" y="429"/>
                  </a:lnTo>
                  <a:lnTo>
                    <a:pt x="695" y="431"/>
                  </a:lnTo>
                  <a:lnTo>
                    <a:pt x="692" y="443"/>
                  </a:lnTo>
                  <a:lnTo>
                    <a:pt x="690" y="457"/>
                  </a:lnTo>
                  <a:lnTo>
                    <a:pt x="689" y="470"/>
                  </a:lnTo>
                  <a:lnTo>
                    <a:pt x="690" y="482"/>
                  </a:lnTo>
                  <a:lnTo>
                    <a:pt x="690" y="494"/>
                  </a:lnTo>
                  <a:lnTo>
                    <a:pt x="696" y="502"/>
                  </a:lnTo>
                  <a:lnTo>
                    <a:pt x="705" y="509"/>
                  </a:lnTo>
                  <a:lnTo>
                    <a:pt x="716" y="512"/>
                  </a:lnTo>
                  <a:lnTo>
                    <a:pt x="717" y="518"/>
                  </a:lnTo>
                  <a:lnTo>
                    <a:pt x="716" y="525"/>
                  </a:lnTo>
                  <a:lnTo>
                    <a:pt x="713" y="530"/>
                  </a:lnTo>
                  <a:lnTo>
                    <a:pt x="710" y="533"/>
                  </a:lnTo>
                  <a:lnTo>
                    <a:pt x="712" y="533"/>
                  </a:lnTo>
                  <a:lnTo>
                    <a:pt x="711" y="541"/>
                  </a:lnTo>
                  <a:lnTo>
                    <a:pt x="723" y="547"/>
                  </a:lnTo>
                  <a:lnTo>
                    <a:pt x="734" y="552"/>
                  </a:lnTo>
                  <a:lnTo>
                    <a:pt x="747" y="557"/>
                  </a:lnTo>
                  <a:lnTo>
                    <a:pt x="759" y="560"/>
                  </a:lnTo>
                  <a:lnTo>
                    <a:pt x="771" y="564"/>
                  </a:lnTo>
                  <a:lnTo>
                    <a:pt x="784" y="568"/>
                  </a:lnTo>
                  <a:lnTo>
                    <a:pt x="796" y="571"/>
                  </a:lnTo>
                  <a:lnTo>
                    <a:pt x="808" y="576"/>
                  </a:lnTo>
                  <a:lnTo>
                    <a:pt x="822" y="584"/>
                  </a:lnTo>
                  <a:lnTo>
                    <a:pt x="836" y="587"/>
                  </a:lnTo>
                  <a:lnTo>
                    <a:pt x="851" y="590"/>
                  </a:lnTo>
                  <a:lnTo>
                    <a:pt x="867" y="590"/>
                  </a:lnTo>
                  <a:lnTo>
                    <a:pt x="883" y="590"/>
                  </a:lnTo>
                  <a:lnTo>
                    <a:pt x="899" y="589"/>
                  </a:lnTo>
                  <a:lnTo>
                    <a:pt x="915" y="589"/>
                  </a:lnTo>
                  <a:lnTo>
                    <a:pt x="931" y="589"/>
                  </a:lnTo>
                  <a:lnTo>
                    <a:pt x="934" y="585"/>
                  </a:lnTo>
                  <a:lnTo>
                    <a:pt x="927" y="581"/>
                  </a:lnTo>
                  <a:lnTo>
                    <a:pt x="920" y="580"/>
                  </a:lnTo>
                  <a:lnTo>
                    <a:pt x="911" y="580"/>
                  </a:lnTo>
                  <a:lnTo>
                    <a:pt x="903" y="581"/>
                  </a:lnTo>
                  <a:lnTo>
                    <a:pt x="897" y="573"/>
                  </a:lnTo>
                  <a:lnTo>
                    <a:pt x="898" y="562"/>
                  </a:lnTo>
                  <a:lnTo>
                    <a:pt x="902" y="549"/>
                  </a:lnTo>
                  <a:lnTo>
                    <a:pt x="902" y="538"/>
                  </a:lnTo>
                  <a:lnTo>
                    <a:pt x="903" y="523"/>
                  </a:lnTo>
                  <a:lnTo>
                    <a:pt x="904" y="489"/>
                  </a:lnTo>
                  <a:lnTo>
                    <a:pt x="903" y="452"/>
                  </a:lnTo>
                  <a:lnTo>
                    <a:pt x="897" y="429"/>
                  </a:lnTo>
                  <a:lnTo>
                    <a:pt x="897" y="424"/>
                  </a:lnTo>
                  <a:lnTo>
                    <a:pt x="898" y="419"/>
                  </a:lnTo>
                  <a:lnTo>
                    <a:pt x="899" y="413"/>
                  </a:lnTo>
                  <a:lnTo>
                    <a:pt x="902" y="409"/>
                  </a:lnTo>
                  <a:lnTo>
                    <a:pt x="909" y="408"/>
                  </a:lnTo>
                  <a:lnTo>
                    <a:pt x="916" y="408"/>
                  </a:lnTo>
                  <a:lnTo>
                    <a:pt x="924" y="408"/>
                  </a:lnTo>
                  <a:lnTo>
                    <a:pt x="931" y="408"/>
                  </a:lnTo>
                  <a:lnTo>
                    <a:pt x="937" y="408"/>
                  </a:lnTo>
                  <a:lnTo>
                    <a:pt x="945" y="408"/>
                  </a:lnTo>
                  <a:lnTo>
                    <a:pt x="952" y="408"/>
                  </a:lnTo>
                  <a:lnTo>
                    <a:pt x="959" y="406"/>
                  </a:lnTo>
                  <a:lnTo>
                    <a:pt x="973" y="388"/>
                  </a:lnTo>
                  <a:lnTo>
                    <a:pt x="977" y="386"/>
                  </a:lnTo>
                  <a:lnTo>
                    <a:pt x="980" y="383"/>
                  </a:lnTo>
                  <a:lnTo>
                    <a:pt x="983" y="379"/>
                  </a:lnTo>
                  <a:lnTo>
                    <a:pt x="984" y="376"/>
                  </a:lnTo>
                  <a:lnTo>
                    <a:pt x="978" y="374"/>
                  </a:lnTo>
                  <a:lnTo>
                    <a:pt x="972" y="376"/>
                  </a:lnTo>
                  <a:lnTo>
                    <a:pt x="966" y="376"/>
                  </a:lnTo>
                  <a:lnTo>
                    <a:pt x="961" y="377"/>
                  </a:lnTo>
                  <a:lnTo>
                    <a:pt x="955" y="377"/>
                  </a:lnTo>
                  <a:lnTo>
                    <a:pt x="951" y="376"/>
                  </a:lnTo>
                  <a:lnTo>
                    <a:pt x="947" y="372"/>
                  </a:lnTo>
                  <a:lnTo>
                    <a:pt x="943" y="367"/>
                  </a:lnTo>
                  <a:lnTo>
                    <a:pt x="947" y="357"/>
                  </a:lnTo>
                  <a:lnTo>
                    <a:pt x="955" y="349"/>
                  </a:lnTo>
                  <a:lnTo>
                    <a:pt x="961" y="340"/>
                  </a:lnTo>
                  <a:lnTo>
                    <a:pt x="959" y="328"/>
                  </a:lnTo>
                  <a:lnTo>
                    <a:pt x="961" y="328"/>
                  </a:lnTo>
                  <a:lnTo>
                    <a:pt x="963" y="313"/>
                  </a:lnTo>
                  <a:lnTo>
                    <a:pt x="967" y="297"/>
                  </a:lnTo>
                  <a:lnTo>
                    <a:pt x="973" y="283"/>
                  </a:lnTo>
                  <a:lnTo>
                    <a:pt x="983" y="273"/>
                  </a:lnTo>
                  <a:lnTo>
                    <a:pt x="979" y="270"/>
                  </a:lnTo>
                  <a:lnTo>
                    <a:pt x="973" y="275"/>
                  </a:lnTo>
                  <a:lnTo>
                    <a:pt x="968" y="278"/>
                  </a:lnTo>
                  <a:lnTo>
                    <a:pt x="963" y="282"/>
                  </a:lnTo>
                  <a:lnTo>
                    <a:pt x="958" y="286"/>
                  </a:lnTo>
                  <a:lnTo>
                    <a:pt x="953" y="289"/>
                  </a:lnTo>
                  <a:lnTo>
                    <a:pt x="950" y="293"/>
                  </a:lnTo>
                  <a:lnTo>
                    <a:pt x="945" y="297"/>
                  </a:lnTo>
                  <a:lnTo>
                    <a:pt x="939" y="302"/>
                  </a:lnTo>
                  <a:lnTo>
                    <a:pt x="925" y="310"/>
                  </a:lnTo>
                  <a:lnTo>
                    <a:pt x="911" y="319"/>
                  </a:lnTo>
                  <a:lnTo>
                    <a:pt x="899" y="328"/>
                  </a:lnTo>
                  <a:lnTo>
                    <a:pt x="887" y="336"/>
                  </a:lnTo>
                  <a:lnTo>
                    <a:pt x="875" y="345"/>
                  </a:lnTo>
                  <a:lnTo>
                    <a:pt x="862" y="354"/>
                  </a:lnTo>
                  <a:lnTo>
                    <a:pt x="849" y="362"/>
                  </a:lnTo>
                  <a:lnTo>
                    <a:pt x="835" y="371"/>
                  </a:lnTo>
                  <a:lnTo>
                    <a:pt x="820" y="376"/>
                  </a:lnTo>
                  <a:lnTo>
                    <a:pt x="807" y="381"/>
                  </a:lnTo>
                  <a:lnTo>
                    <a:pt x="792" y="387"/>
                  </a:lnTo>
                  <a:lnTo>
                    <a:pt x="777" y="393"/>
                  </a:lnTo>
                  <a:lnTo>
                    <a:pt x="764" y="398"/>
                  </a:lnTo>
                  <a:lnTo>
                    <a:pt x="748" y="402"/>
                  </a:lnTo>
                  <a:lnTo>
                    <a:pt x="732" y="404"/>
                  </a:lnTo>
                  <a:lnTo>
                    <a:pt x="716" y="404"/>
                  </a:lnTo>
                  <a:lnTo>
                    <a:pt x="707" y="381"/>
                  </a:lnTo>
                  <a:lnTo>
                    <a:pt x="718" y="381"/>
                  </a:lnTo>
                  <a:lnTo>
                    <a:pt x="731" y="379"/>
                  </a:lnTo>
                  <a:lnTo>
                    <a:pt x="742" y="378"/>
                  </a:lnTo>
                  <a:lnTo>
                    <a:pt x="754" y="377"/>
                  </a:lnTo>
                  <a:lnTo>
                    <a:pt x="765" y="374"/>
                  </a:lnTo>
                  <a:lnTo>
                    <a:pt x="776" y="371"/>
                  </a:lnTo>
                  <a:lnTo>
                    <a:pt x="786" y="367"/>
                  </a:lnTo>
                  <a:lnTo>
                    <a:pt x="796" y="362"/>
                  </a:lnTo>
                  <a:lnTo>
                    <a:pt x="820" y="354"/>
                  </a:lnTo>
                  <a:lnTo>
                    <a:pt x="844" y="342"/>
                  </a:lnTo>
                  <a:lnTo>
                    <a:pt x="865" y="330"/>
                  </a:lnTo>
                  <a:lnTo>
                    <a:pt x="886" y="315"/>
                  </a:lnTo>
                  <a:lnTo>
                    <a:pt x="904" y="301"/>
                  </a:lnTo>
                  <a:lnTo>
                    <a:pt x="924" y="285"/>
                  </a:lnTo>
                  <a:lnTo>
                    <a:pt x="943" y="270"/>
                  </a:lnTo>
                  <a:lnTo>
                    <a:pt x="964" y="255"/>
                  </a:lnTo>
                  <a:lnTo>
                    <a:pt x="971" y="249"/>
                  </a:lnTo>
                  <a:lnTo>
                    <a:pt x="977" y="240"/>
                  </a:lnTo>
                  <a:lnTo>
                    <a:pt x="983" y="233"/>
                  </a:lnTo>
                  <a:lnTo>
                    <a:pt x="991" y="227"/>
                  </a:lnTo>
                  <a:lnTo>
                    <a:pt x="998" y="227"/>
                  </a:lnTo>
                  <a:lnTo>
                    <a:pt x="1004" y="227"/>
                  </a:lnTo>
                  <a:lnTo>
                    <a:pt x="1010" y="229"/>
                  </a:lnTo>
                  <a:lnTo>
                    <a:pt x="1012" y="235"/>
                  </a:lnTo>
                  <a:lnTo>
                    <a:pt x="1012" y="241"/>
                  </a:lnTo>
                  <a:lnTo>
                    <a:pt x="1012" y="248"/>
                  </a:lnTo>
                  <a:lnTo>
                    <a:pt x="1014" y="254"/>
                  </a:lnTo>
                  <a:lnTo>
                    <a:pt x="1019" y="257"/>
                  </a:lnTo>
                  <a:lnTo>
                    <a:pt x="1022" y="266"/>
                  </a:lnTo>
                  <a:lnTo>
                    <a:pt x="1027" y="275"/>
                  </a:lnTo>
                  <a:lnTo>
                    <a:pt x="1035" y="282"/>
                  </a:lnTo>
                  <a:lnTo>
                    <a:pt x="1042" y="289"/>
                  </a:lnTo>
                  <a:lnTo>
                    <a:pt x="1047" y="309"/>
                  </a:lnTo>
                  <a:lnTo>
                    <a:pt x="1048" y="330"/>
                  </a:lnTo>
                  <a:lnTo>
                    <a:pt x="1052" y="347"/>
                  </a:lnTo>
                  <a:lnTo>
                    <a:pt x="1067" y="361"/>
                  </a:lnTo>
                  <a:lnTo>
                    <a:pt x="1068" y="363"/>
                  </a:lnTo>
                  <a:lnTo>
                    <a:pt x="1067" y="366"/>
                  </a:lnTo>
                  <a:lnTo>
                    <a:pt x="1065" y="368"/>
                  </a:lnTo>
                  <a:lnTo>
                    <a:pt x="1064" y="372"/>
                  </a:lnTo>
                  <a:lnTo>
                    <a:pt x="1015" y="374"/>
                  </a:lnTo>
                  <a:lnTo>
                    <a:pt x="1019" y="382"/>
                  </a:lnTo>
                  <a:lnTo>
                    <a:pt x="1028" y="388"/>
                  </a:lnTo>
                  <a:lnTo>
                    <a:pt x="1038" y="394"/>
                  </a:lnTo>
                  <a:lnTo>
                    <a:pt x="1042" y="404"/>
                  </a:lnTo>
                  <a:lnTo>
                    <a:pt x="1047" y="403"/>
                  </a:lnTo>
                  <a:lnTo>
                    <a:pt x="1048" y="403"/>
                  </a:lnTo>
                  <a:lnTo>
                    <a:pt x="1053" y="404"/>
                  </a:lnTo>
                  <a:lnTo>
                    <a:pt x="1060" y="405"/>
                  </a:lnTo>
                  <a:lnTo>
                    <a:pt x="1069" y="406"/>
                  </a:lnTo>
                  <a:lnTo>
                    <a:pt x="1078" y="408"/>
                  </a:lnTo>
                  <a:lnTo>
                    <a:pt x="1087" y="409"/>
                  </a:lnTo>
                  <a:lnTo>
                    <a:pt x="1096" y="409"/>
                  </a:lnTo>
                  <a:lnTo>
                    <a:pt x="1105" y="408"/>
                  </a:lnTo>
                  <a:lnTo>
                    <a:pt x="1110" y="411"/>
                  </a:lnTo>
                  <a:lnTo>
                    <a:pt x="1112" y="415"/>
                  </a:lnTo>
                  <a:lnTo>
                    <a:pt x="1113" y="421"/>
                  </a:lnTo>
                  <a:lnTo>
                    <a:pt x="1113" y="427"/>
                  </a:lnTo>
                  <a:lnTo>
                    <a:pt x="1106" y="438"/>
                  </a:lnTo>
                  <a:lnTo>
                    <a:pt x="1103" y="453"/>
                  </a:lnTo>
                  <a:lnTo>
                    <a:pt x="1103" y="470"/>
                  </a:lnTo>
                  <a:lnTo>
                    <a:pt x="1102" y="485"/>
                  </a:lnTo>
                  <a:lnTo>
                    <a:pt x="1103" y="496"/>
                  </a:lnTo>
                  <a:lnTo>
                    <a:pt x="1102" y="506"/>
                  </a:lnTo>
                  <a:lnTo>
                    <a:pt x="1101" y="516"/>
                  </a:lnTo>
                  <a:lnTo>
                    <a:pt x="1102" y="528"/>
                  </a:lnTo>
                  <a:lnTo>
                    <a:pt x="1105" y="575"/>
                  </a:lnTo>
                  <a:lnTo>
                    <a:pt x="1101" y="579"/>
                  </a:lnTo>
                  <a:lnTo>
                    <a:pt x="1096" y="579"/>
                  </a:lnTo>
                  <a:lnTo>
                    <a:pt x="1091" y="578"/>
                  </a:lnTo>
                  <a:lnTo>
                    <a:pt x="1086" y="579"/>
                  </a:lnTo>
                  <a:lnTo>
                    <a:pt x="1080" y="579"/>
                  </a:lnTo>
                  <a:lnTo>
                    <a:pt x="1074" y="578"/>
                  </a:lnTo>
                  <a:lnTo>
                    <a:pt x="1068" y="579"/>
                  </a:lnTo>
                  <a:lnTo>
                    <a:pt x="1064" y="582"/>
                  </a:lnTo>
                  <a:lnTo>
                    <a:pt x="1068" y="586"/>
                  </a:lnTo>
                  <a:lnTo>
                    <a:pt x="1073" y="589"/>
                  </a:lnTo>
                  <a:lnTo>
                    <a:pt x="1078" y="589"/>
                  </a:lnTo>
                  <a:lnTo>
                    <a:pt x="1084" y="587"/>
                  </a:lnTo>
                  <a:lnTo>
                    <a:pt x="1090" y="587"/>
                  </a:lnTo>
                  <a:lnTo>
                    <a:pt x="1096" y="587"/>
                  </a:lnTo>
                  <a:lnTo>
                    <a:pt x="1101" y="587"/>
                  </a:lnTo>
                  <a:lnTo>
                    <a:pt x="1106" y="590"/>
                  </a:lnTo>
                  <a:lnTo>
                    <a:pt x="1113" y="589"/>
                  </a:lnTo>
                  <a:lnTo>
                    <a:pt x="1121" y="587"/>
                  </a:lnTo>
                  <a:lnTo>
                    <a:pt x="1124" y="584"/>
                  </a:lnTo>
                  <a:lnTo>
                    <a:pt x="1123" y="576"/>
                  </a:lnTo>
                  <a:lnTo>
                    <a:pt x="1124" y="568"/>
                  </a:lnTo>
                  <a:lnTo>
                    <a:pt x="1124" y="558"/>
                  </a:lnTo>
                  <a:lnTo>
                    <a:pt x="1124" y="549"/>
                  </a:lnTo>
                  <a:lnTo>
                    <a:pt x="1127" y="542"/>
                  </a:lnTo>
                  <a:lnTo>
                    <a:pt x="1127" y="520"/>
                  </a:lnTo>
                  <a:lnTo>
                    <a:pt x="1128" y="520"/>
                  </a:lnTo>
                  <a:lnTo>
                    <a:pt x="1131" y="496"/>
                  </a:lnTo>
                  <a:lnTo>
                    <a:pt x="1132" y="470"/>
                  </a:lnTo>
                  <a:lnTo>
                    <a:pt x="1134" y="446"/>
                  </a:lnTo>
                  <a:lnTo>
                    <a:pt x="1137" y="420"/>
                  </a:lnTo>
                  <a:lnTo>
                    <a:pt x="1142" y="395"/>
                  </a:lnTo>
                  <a:lnTo>
                    <a:pt x="1150" y="373"/>
                  </a:lnTo>
                  <a:lnTo>
                    <a:pt x="1161" y="354"/>
                  </a:lnTo>
                  <a:lnTo>
                    <a:pt x="1179" y="338"/>
                  </a:lnTo>
                  <a:lnTo>
                    <a:pt x="1186" y="331"/>
                  </a:lnTo>
                  <a:lnTo>
                    <a:pt x="1193" y="326"/>
                  </a:lnTo>
                  <a:lnTo>
                    <a:pt x="1201" y="320"/>
                  </a:lnTo>
                  <a:lnTo>
                    <a:pt x="1208" y="315"/>
                  </a:lnTo>
                  <a:lnTo>
                    <a:pt x="1215" y="310"/>
                  </a:lnTo>
                  <a:lnTo>
                    <a:pt x="1224" y="305"/>
                  </a:lnTo>
                  <a:lnTo>
                    <a:pt x="1234" y="303"/>
                  </a:lnTo>
                  <a:lnTo>
                    <a:pt x="1245" y="301"/>
                  </a:lnTo>
                  <a:lnTo>
                    <a:pt x="1228" y="330"/>
                  </a:lnTo>
                  <a:lnTo>
                    <a:pt x="1218" y="334"/>
                  </a:lnTo>
                  <a:lnTo>
                    <a:pt x="1209" y="339"/>
                  </a:lnTo>
                  <a:lnTo>
                    <a:pt x="1201" y="345"/>
                  </a:lnTo>
                  <a:lnTo>
                    <a:pt x="1195" y="351"/>
                  </a:lnTo>
                  <a:lnTo>
                    <a:pt x="1187" y="360"/>
                  </a:lnTo>
                  <a:lnTo>
                    <a:pt x="1182" y="367"/>
                  </a:lnTo>
                  <a:lnTo>
                    <a:pt x="1176" y="376"/>
                  </a:lnTo>
                  <a:lnTo>
                    <a:pt x="1171" y="383"/>
                  </a:lnTo>
                  <a:lnTo>
                    <a:pt x="1163" y="419"/>
                  </a:lnTo>
                  <a:lnTo>
                    <a:pt x="1158" y="456"/>
                  </a:lnTo>
                  <a:lnTo>
                    <a:pt x="1154" y="494"/>
                  </a:lnTo>
                  <a:lnTo>
                    <a:pt x="1151" y="531"/>
                  </a:lnTo>
                  <a:lnTo>
                    <a:pt x="1151" y="546"/>
                  </a:lnTo>
                  <a:lnTo>
                    <a:pt x="1151" y="562"/>
                  </a:lnTo>
                  <a:lnTo>
                    <a:pt x="1154" y="575"/>
                  </a:lnTo>
                  <a:lnTo>
                    <a:pt x="1161" y="585"/>
                  </a:lnTo>
                  <a:lnTo>
                    <a:pt x="1165" y="565"/>
                  </a:lnTo>
                  <a:lnTo>
                    <a:pt x="1174" y="549"/>
                  </a:lnTo>
                  <a:lnTo>
                    <a:pt x="1181" y="532"/>
                  </a:lnTo>
                  <a:lnTo>
                    <a:pt x="1183" y="511"/>
                  </a:lnTo>
                  <a:lnTo>
                    <a:pt x="1181" y="494"/>
                  </a:lnTo>
                  <a:lnTo>
                    <a:pt x="1182" y="475"/>
                  </a:lnTo>
                  <a:lnTo>
                    <a:pt x="1181" y="458"/>
                  </a:lnTo>
                  <a:lnTo>
                    <a:pt x="1171" y="445"/>
                  </a:lnTo>
                  <a:lnTo>
                    <a:pt x="1169" y="435"/>
                  </a:lnTo>
                  <a:lnTo>
                    <a:pt x="1170" y="427"/>
                  </a:lnTo>
                  <a:lnTo>
                    <a:pt x="1175" y="422"/>
                  </a:lnTo>
                  <a:lnTo>
                    <a:pt x="1181" y="419"/>
                  </a:lnTo>
                  <a:lnTo>
                    <a:pt x="1188" y="415"/>
                  </a:lnTo>
                  <a:lnTo>
                    <a:pt x="1196" y="411"/>
                  </a:lnTo>
                  <a:lnTo>
                    <a:pt x="1202" y="405"/>
                  </a:lnTo>
                  <a:lnTo>
                    <a:pt x="1206" y="399"/>
                  </a:lnTo>
                  <a:lnTo>
                    <a:pt x="1213" y="393"/>
                  </a:lnTo>
                  <a:lnTo>
                    <a:pt x="1222" y="388"/>
                  </a:lnTo>
                  <a:lnTo>
                    <a:pt x="1230" y="383"/>
                  </a:lnTo>
                  <a:lnTo>
                    <a:pt x="1236" y="376"/>
                  </a:lnTo>
                  <a:lnTo>
                    <a:pt x="1234" y="372"/>
                  </a:lnTo>
                  <a:lnTo>
                    <a:pt x="1230" y="370"/>
                  </a:lnTo>
                  <a:lnTo>
                    <a:pt x="1226" y="368"/>
                  </a:lnTo>
                  <a:lnTo>
                    <a:pt x="1222" y="368"/>
                  </a:lnTo>
                  <a:lnTo>
                    <a:pt x="1219" y="366"/>
                  </a:lnTo>
                  <a:lnTo>
                    <a:pt x="1217" y="362"/>
                  </a:lnTo>
                  <a:lnTo>
                    <a:pt x="1215" y="358"/>
                  </a:lnTo>
                  <a:lnTo>
                    <a:pt x="1215" y="352"/>
                  </a:lnTo>
                  <a:lnTo>
                    <a:pt x="1219" y="350"/>
                  </a:lnTo>
                  <a:lnTo>
                    <a:pt x="1224" y="347"/>
                  </a:lnTo>
                  <a:lnTo>
                    <a:pt x="1230" y="346"/>
                  </a:lnTo>
                  <a:lnTo>
                    <a:pt x="1235" y="346"/>
                  </a:lnTo>
                  <a:lnTo>
                    <a:pt x="1241" y="346"/>
                  </a:lnTo>
                  <a:lnTo>
                    <a:pt x="1246" y="346"/>
                  </a:lnTo>
                  <a:lnTo>
                    <a:pt x="1251" y="345"/>
                  </a:lnTo>
                  <a:lnTo>
                    <a:pt x="1256" y="344"/>
                  </a:lnTo>
                  <a:lnTo>
                    <a:pt x="1252" y="340"/>
                  </a:lnTo>
                  <a:lnTo>
                    <a:pt x="1250" y="334"/>
                  </a:lnTo>
                  <a:lnTo>
                    <a:pt x="1247" y="329"/>
                  </a:lnTo>
                  <a:lnTo>
                    <a:pt x="1244" y="325"/>
                  </a:lnTo>
                  <a:lnTo>
                    <a:pt x="1239" y="326"/>
                  </a:lnTo>
                  <a:lnTo>
                    <a:pt x="1235" y="328"/>
                  </a:lnTo>
                  <a:lnTo>
                    <a:pt x="1231" y="330"/>
                  </a:lnTo>
                  <a:lnTo>
                    <a:pt x="1231" y="335"/>
                  </a:lnTo>
                  <a:lnTo>
                    <a:pt x="1230" y="334"/>
                  </a:lnTo>
                  <a:lnTo>
                    <a:pt x="1228" y="334"/>
                  </a:lnTo>
                  <a:lnTo>
                    <a:pt x="1226" y="333"/>
                  </a:lnTo>
                  <a:lnTo>
                    <a:pt x="1228" y="330"/>
                  </a:lnTo>
                  <a:lnTo>
                    <a:pt x="1245" y="301"/>
                  </a:lnTo>
                  <a:lnTo>
                    <a:pt x="1254" y="296"/>
                  </a:lnTo>
                  <a:lnTo>
                    <a:pt x="1258" y="270"/>
                  </a:lnTo>
                  <a:lnTo>
                    <a:pt x="1265" y="239"/>
                  </a:lnTo>
                  <a:lnTo>
                    <a:pt x="1271" y="213"/>
                  </a:lnTo>
                  <a:lnTo>
                    <a:pt x="1277" y="202"/>
                  </a:lnTo>
                  <a:lnTo>
                    <a:pt x="1288" y="217"/>
                  </a:lnTo>
                  <a:lnTo>
                    <a:pt x="1295" y="245"/>
                  </a:lnTo>
                  <a:lnTo>
                    <a:pt x="1300" y="278"/>
                  </a:lnTo>
                  <a:lnTo>
                    <a:pt x="1303" y="304"/>
                  </a:lnTo>
                  <a:lnTo>
                    <a:pt x="1304" y="309"/>
                  </a:lnTo>
                  <a:lnTo>
                    <a:pt x="1305" y="315"/>
                  </a:lnTo>
                  <a:lnTo>
                    <a:pt x="1304" y="322"/>
                  </a:lnTo>
                  <a:lnTo>
                    <a:pt x="1303" y="326"/>
                  </a:lnTo>
                  <a:lnTo>
                    <a:pt x="1299" y="330"/>
                  </a:lnTo>
                  <a:lnTo>
                    <a:pt x="1297" y="334"/>
                  </a:lnTo>
                  <a:lnTo>
                    <a:pt x="1295" y="338"/>
                  </a:lnTo>
                  <a:lnTo>
                    <a:pt x="1294" y="341"/>
                  </a:lnTo>
                  <a:lnTo>
                    <a:pt x="1299" y="345"/>
                  </a:lnTo>
                  <a:lnTo>
                    <a:pt x="1305" y="346"/>
                  </a:lnTo>
                  <a:lnTo>
                    <a:pt x="1313" y="346"/>
                  </a:lnTo>
                  <a:lnTo>
                    <a:pt x="1320" y="346"/>
                  </a:lnTo>
                  <a:lnTo>
                    <a:pt x="1327" y="347"/>
                  </a:lnTo>
                  <a:lnTo>
                    <a:pt x="1331" y="350"/>
                  </a:lnTo>
                  <a:lnTo>
                    <a:pt x="1332" y="355"/>
                  </a:lnTo>
                  <a:lnTo>
                    <a:pt x="1330" y="363"/>
                  </a:lnTo>
                  <a:lnTo>
                    <a:pt x="1327" y="367"/>
                  </a:lnTo>
                  <a:lnTo>
                    <a:pt x="1325" y="370"/>
                  </a:lnTo>
                  <a:lnTo>
                    <a:pt x="1324" y="373"/>
                  </a:lnTo>
                  <a:lnTo>
                    <a:pt x="1324" y="377"/>
                  </a:lnTo>
                  <a:lnTo>
                    <a:pt x="1332" y="381"/>
                  </a:lnTo>
                  <a:lnTo>
                    <a:pt x="1338" y="387"/>
                  </a:lnTo>
                  <a:lnTo>
                    <a:pt x="1343" y="395"/>
                  </a:lnTo>
                  <a:lnTo>
                    <a:pt x="1348" y="403"/>
                  </a:lnTo>
                  <a:lnTo>
                    <a:pt x="1352" y="411"/>
                  </a:lnTo>
                  <a:lnTo>
                    <a:pt x="1358" y="419"/>
                  </a:lnTo>
                  <a:lnTo>
                    <a:pt x="1364" y="424"/>
                  </a:lnTo>
                  <a:lnTo>
                    <a:pt x="1374" y="427"/>
                  </a:lnTo>
                  <a:lnTo>
                    <a:pt x="1378" y="431"/>
                  </a:lnTo>
                  <a:lnTo>
                    <a:pt x="1379" y="436"/>
                  </a:lnTo>
                  <a:lnTo>
                    <a:pt x="1380" y="441"/>
                  </a:lnTo>
                  <a:lnTo>
                    <a:pt x="1380" y="443"/>
                  </a:lnTo>
                  <a:lnTo>
                    <a:pt x="1378" y="448"/>
                  </a:lnTo>
                  <a:lnTo>
                    <a:pt x="1375" y="452"/>
                  </a:lnTo>
                  <a:lnTo>
                    <a:pt x="1370" y="456"/>
                  </a:lnTo>
                  <a:lnTo>
                    <a:pt x="1366" y="459"/>
                  </a:lnTo>
                  <a:lnTo>
                    <a:pt x="1363" y="479"/>
                  </a:lnTo>
                  <a:lnTo>
                    <a:pt x="1363" y="499"/>
                  </a:lnTo>
                  <a:lnTo>
                    <a:pt x="1363" y="520"/>
                  </a:lnTo>
                  <a:lnTo>
                    <a:pt x="1364" y="538"/>
                  </a:lnTo>
                  <a:lnTo>
                    <a:pt x="1372" y="543"/>
                  </a:lnTo>
                  <a:lnTo>
                    <a:pt x="1378" y="550"/>
                  </a:lnTo>
                  <a:lnTo>
                    <a:pt x="1380" y="560"/>
                  </a:lnTo>
                  <a:lnTo>
                    <a:pt x="1383" y="569"/>
                  </a:lnTo>
                  <a:lnTo>
                    <a:pt x="1386" y="578"/>
                  </a:lnTo>
                  <a:lnTo>
                    <a:pt x="1390" y="585"/>
                  </a:lnTo>
                  <a:lnTo>
                    <a:pt x="1398" y="589"/>
                  </a:lnTo>
                  <a:lnTo>
                    <a:pt x="1407" y="587"/>
                  </a:lnTo>
                  <a:lnTo>
                    <a:pt x="1421" y="587"/>
                  </a:lnTo>
                  <a:lnTo>
                    <a:pt x="1434" y="589"/>
                  </a:lnTo>
                  <a:lnTo>
                    <a:pt x="1448" y="589"/>
                  </a:lnTo>
                  <a:lnTo>
                    <a:pt x="1462" y="589"/>
                  </a:lnTo>
                  <a:lnTo>
                    <a:pt x="1475" y="589"/>
                  </a:lnTo>
                  <a:lnTo>
                    <a:pt x="1490" y="589"/>
                  </a:lnTo>
                  <a:lnTo>
                    <a:pt x="1503" y="589"/>
                  </a:lnTo>
                  <a:lnTo>
                    <a:pt x="1518" y="587"/>
                  </a:lnTo>
                  <a:lnTo>
                    <a:pt x="1532" y="587"/>
                  </a:lnTo>
                  <a:lnTo>
                    <a:pt x="1546" y="587"/>
                  </a:lnTo>
                  <a:lnTo>
                    <a:pt x="1561" y="587"/>
                  </a:lnTo>
                  <a:lnTo>
                    <a:pt x="1575" y="587"/>
                  </a:lnTo>
                  <a:lnTo>
                    <a:pt x="1589" y="587"/>
                  </a:lnTo>
                  <a:lnTo>
                    <a:pt x="1604" y="587"/>
                  </a:lnTo>
                  <a:lnTo>
                    <a:pt x="1618" y="589"/>
                  </a:lnTo>
                  <a:lnTo>
                    <a:pt x="1633" y="589"/>
                  </a:lnTo>
                  <a:lnTo>
                    <a:pt x="1639" y="587"/>
                  </a:lnTo>
                  <a:lnTo>
                    <a:pt x="1640" y="582"/>
                  </a:lnTo>
                  <a:lnTo>
                    <a:pt x="1639" y="578"/>
                  </a:lnTo>
                  <a:lnTo>
                    <a:pt x="1639" y="571"/>
                  </a:lnTo>
                  <a:lnTo>
                    <a:pt x="1629" y="565"/>
                  </a:lnTo>
                  <a:lnTo>
                    <a:pt x="1626" y="557"/>
                  </a:lnTo>
                  <a:lnTo>
                    <a:pt x="1626" y="547"/>
                  </a:lnTo>
                  <a:lnTo>
                    <a:pt x="1626" y="536"/>
                  </a:lnTo>
                  <a:lnTo>
                    <a:pt x="1634" y="530"/>
                  </a:lnTo>
                  <a:lnTo>
                    <a:pt x="1635" y="522"/>
                  </a:lnTo>
                  <a:lnTo>
                    <a:pt x="1633" y="512"/>
                  </a:lnTo>
                  <a:lnTo>
                    <a:pt x="1633" y="502"/>
                  </a:lnTo>
                  <a:lnTo>
                    <a:pt x="1619" y="462"/>
                  </a:lnTo>
                  <a:lnTo>
                    <a:pt x="1602" y="406"/>
                  </a:lnTo>
                  <a:lnTo>
                    <a:pt x="1582" y="342"/>
                  </a:lnTo>
                  <a:lnTo>
                    <a:pt x="1562" y="276"/>
                  </a:lnTo>
                  <a:lnTo>
                    <a:pt x="1543" y="214"/>
                  </a:lnTo>
                  <a:lnTo>
                    <a:pt x="1527" y="163"/>
                  </a:lnTo>
                  <a:lnTo>
                    <a:pt x="1516" y="127"/>
                  </a:lnTo>
                  <a:lnTo>
                    <a:pt x="1511" y="113"/>
                  </a:lnTo>
                  <a:lnTo>
                    <a:pt x="1506" y="111"/>
                  </a:lnTo>
                  <a:lnTo>
                    <a:pt x="1503" y="86"/>
                  </a:lnTo>
                  <a:lnTo>
                    <a:pt x="1503" y="58"/>
                  </a:lnTo>
                  <a:lnTo>
                    <a:pt x="1503" y="30"/>
                  </a:lnTo>
                  <a:lnTo>
                    <a:pt x="1503" y="3"/>
                  </a:lnTo>
                  <a:lnTo>
                    <a:pt x="1516" y="3"/>
                  </a:lnTo>
                  <a:lnTo>
                    <a:pt x="1533" y="1"/>
                  </a:lnTo>
                  <a:lnTo>
                    <a:pt x="1554" y="1"/>
                  </a:lnTo>
                  <a:lnTo>
                    <a:pt x="1578" y="1"/>
                  </a:lnTo>
                  <a:lnTo>
                    <a:pt x="1608" y="0"/>
                  </a:lnTo>
                  <a:lnTo>
                    <a:pt x="1639" y="0"/>
                  </a:lnTo>
                  <a:lnTo>
                    <a:pt x="1671" y="0"/>
                  </a:lnTo>
                  <a:lnTo>
                    <a:pt x="1705" y="0"/>
                  </a:lnTo>
                  <a:lnTo>
                    <a:pt x="1740" y="0"/>
                  </a:lnTo>
                  <a:lnTo>
                    <a:pt x="1774" y="0"/>
                  </a:lnTo>
                  <a:lnTo>
                    <a:pt x="1809" y="0"/>
                  </a:lnTo>
                  <a:lnTo>
                    <a:pt x="1841" y="0"/>
                  </a:lnTo>
                  <a:lnTo>
                    <a:pt x="1871" y="0"/>
                  </a:lnTo>
                  <a:lnTo>
                    <a:pt x="1900" y="0"/>
                  </a:lnTo>
                  <a:lnTo>
                    <a:pt x="1925" y="0"/>
                  </a:lnTo>
                  <a:lnTo>
                    <a:pt x="1946" y="0"/>
                  </a:lnTo>
                  <a:lnTo>
                    <a:pt x="1949" y="17"/>
                  </a:lnTo>
                  <a:lnTo>
                    <a:pt x="1948" y="51"/>
                  </a:lnTo>
                  <a:lnTo>
                    <a:pt x="1945" y="83"/>
                  </a:lnTo>
                  <a:lnTo>
                    <a:pt x="1944" y="96"/>
                  </a:lnTo>
                  <a:lnTo>
                    <a:pt x="1938" y="105"/>
                  </a:lnTo>
                  <a:lnTo>
                    <a:pt x="1932" y="111"/>
                  </a:lnTo>
                  <a:lnTo>
                    <a:pt x="1924" y="117"/>
                  </a:lnTo>
                  <a:lnTo>
                    <a:pt x="1918" y="126"/>
                  </a:lnTo>
                  <a:lnTo>
                    <a:pt x="1912" y="150"/>
                  </a:lnTo>
                  <a:lnTo>
                    <a:pt x="1902" y="191"/>
                  </a:lnTo>
                  <a:lnTo>
                    <a:pt x="1889" y="243"/>
                  </a:lnTo>
                  <a:lnTo>
                    <a:pt x="1874" y="301"/>
                  </a:lnTo>
                  <a:lnTo>
                    <a:pt x="1857" y="358"/>
                  </a:lnTo>
                  <a:lnTo>
                    <a:pt x="1842" y="410"/>
                  </a:lnTo>
                  <a:lnTo>
                    <a:pt x="1827" y="451"/>
                  </a:lnTo>
                  <a:lnTo>
                    <a:pt x="1817" y="474"/>
                  </a:lnTo>
                  <a:lnTo>
                    <a:pt x="1816" y="493"/>
                  </a:lnTo>
                  <a:lnTo>
                    <a:pt x="1811" y="512"/>
                  </a:lnTo>
                  <a:lnTo>
                    <a:pt x="1809" y="531"/>
                  </a:lnTo>
                  <a:lnTo>
                    <a:pt x="1812" y="550"/>
                  </a:lnTo>
                  <a:lnTo>
                    <a:pt x="1816" y="560"/>
                  </a:lnTo>
                  <a:lnTo>
                    <a:pt x="1823" y="576"/>
                  </a:lnTo>
                  <a:lnTo>
                    <a:pt x="1829" y="591"/>
                  </a:lnTo>
                  <a:lnTo>
                    <a:pt x="1833" y="598"/>
                  </a:lnTo>
                  <a:lnTo>
                    <a:pt x="1843" y="595"/>
                  </a:lnTo>
                  <a:lnTo>
                    <a:pt x="1853" y="590"/>
                  </a:lnTo>
                  <a:lnTo>
                    <a:pt x="1860" y="582"/>
                  </a:lnTo>
                  <a:lnTo>
                    <a:pt x="1860" y="571"/>
                  </a:lnTo>
                  <a:lnTo>
                    <a:pt x="1860" y="547"/>
                  </a:lnTo>
                  <a:lnTo>
                    <a:pt x="1860" y="523"/>
                  </a:lnTo>
                  <a:lnTo>
                    <a:pt x="1860" y="500"/>
                  </a:lnTo>
                  <a:lnTo>
                    <a:pt x="1861" y="477"/>
                  </a:lnTo>
                  <a:lnTo>
                    <a:pt x="1860" y="469"/>
                  </a:lnTo>
                  <a:lnTo>
                    <a:pt x="1860" y="461"/>
                  </a:lnTo>
                  <a:lnTo>
                    <a:pt x="1857" y="454"/>
                  </a:lnTo>
                  <a:lnTo>
                    <a:pt x="1849" y="453"/>
                  </a:lnTo>
                  <a:lnTo>
                    <a:pt x="1847" y="451"/>
                  </a:lnTo>
                  <a:lnTo>
                    <a:pt x="1845" y="447"/>
                  </a:lnTo>
                  <a:lnTo>
                    <a:pt x="1847" y="442"/>
                  </a:lnTo>
                  <a:lnTo>
                    <a:pt x="1848" y="440"/>
                  </a:lnTo>
                  <a:lnTo>
                    <a:pt x="1855" y="435"/>
                  </a:lnTo>
                  <a:lnTo>
                    <a:pt x="1864" y="430"/>
                  </a:lnTo>
                  <a:lnTo>
                    <a:pt x="1873" y="426"/>
                  </a:lnTo>
                  <a:lnTo>
                    <a:pt x="1881" y="422"/>
                  </a:lnTo>
                  <a:lnTo>
                    <a:pt x="1890" y="420"/>
                  </a:lnTo>
                  <a:lnTo>
                    <a:pt x="1900" y="418"/>
                  </a:lnTo>
                  <a:lnTo>
                    <a:pt x="1911" y="415"/>
                  </a:lnTo>
                  <a:lnTo>
                    <a:pt x="1920" y="413"/>
                  </a:lnTo>
                  <a:lnTo>
                    <a:pt x="1955" y="420"/>
                  </a:lnTo>
                  <a:lnTo>
                    <a:pt x="1956" y="413"/>
                  </a:lnTo>
                  <a:lnTo>
                    <a:pt x="1960" y="405"/>
                  </a:lnTo>
                  <a:lnTo>
                    <a:pt x="1966" y="403"/>
                  </a:lnTo>
                  <a:lnTo>
                    <a:pt x="1975" y="403"/>
                  </a:lnTo>
                  <a:lnTo>
                    <a:pt x="1981" y="405"/>
                  </a:lnTo>
                  <a:lnTo>
                    <a:pt x="1987" y="404"/>
                  </a:lnTo>
                  <a:lnTo>
                    <a:pt x="1991" y="408"/>
                  </a:lnTo>
                  <a:lnTo>
                    <a:pt x="1989" y="418"/>
                  </a:lnTo>
                  <a:lnTo>
                    <a:pt x="1988" y="418"/>
                  </a:lnTo>
                  <a:lnTo>
                    <a:pt x="1991" y="425"/>
                  </a:lnTo>
                  <a:lnTo>
                    <a:pt x="1997" y="431"/>
                  </a:lnTo>
                  <a:lnTo>
                    <a:pt x="2003" y="437"/>
                  </a:lnTo>
                  <a:lnTo>
                    <a:pt x="2000" y="446"/>
                  </a:lnTo>
                  <a:lnTo>
                    <a:pt x="1991" y="468"/>
                  </a:lnTo>
                  <a:lnTo>
                    <a:pt x="1987" y="517"/>
                  </a:lnTo>
                  <a:lnTo>
                    <a:pt x="1992" y="568"/>
                  </a:lnTo>
                  <a:lnTo>
                    <a:pt x="2005" y="600"/>
                  </a:lnTo>
                  <a:lnTo>
                    <a:pt x="2005" y="610"/>
                  </a:lnTo>
                  <a:lnTo>
                    <a:pt x="2004" y="618"/>
                  </a:lnTo>
                  <a:lnTo>
                    <a:pt x="2000" y="626"/>
                  </a:lnTo>
                  <a:lnTo>
                    <a:pt x="1994" y="632"/>
                  </a:lnTo>
                  <a:lnTo>
                    <a:pt x="1997" y="642"/>
                  </a:lnTo>
                  <a:lnTo>
                    <a:pt x="1997" y="655"/>
                  </a:lnTo>
                  <a:lnTo>
                    <a:pt x="1991" y="667"/>
                  </a:lnTo>
                  <a:lnTo>
                    <a:pt x="1972" y="675"/>
                  </a:lnTo>
                  <a:lnTo>
                    <a:pt x="1964" y="677"/>
                  </a:lnTo>
                  <a:lnTo>
                    <a:pt x="1957" y="676"/>
                  </a:lnTo>
                  <a:lnTo>
                    <a:pt x="1950" y="676"/>
                  </a:lnTo>
                  <a:lnTo>
                    <a:pt x="1943" y="677"/>
                  </a:lnTo>
                  <a:lnTo>
                    <a:pt x="1936" y="683"/>
                  </a:lnTo>
                  <a:lnTo>
                    <a:pt x="1932" y="690"/>
                  </a:lnTo>
                  <a:lnTo>
                    <a:pt x="1927" y="697"/>
                  </a:lnTo>
                  <a:lnTo>
                    <a:pt x="1927" y="706"/>
                  </a:lnTo>
                  <a:lnTo>
                    <a:pt x="1927" y="714"/>
                  </a:lnTo>
                  <a:lnTo>
                    <a:pt x="1927" y="735"/>
                  </a:lnTo>
                  <a:lnTo>
                    <a:pt x="1923" y="758"/>
                  </a:lnTo>
                  <a:lnTo>
                    <a:pt x="1912" y="777"/>
                  </a:lnTo>
                  <a:lnTo>
                    <a:pt x="1879" y="752"/>
                  </a:lnTo>
                  <a:lnTo>
                    <a:pt x="1886" y="739"/>
                  </a:lnTo>
                  <a:lnTo>
                    <a:pt x="1889" y="720"/>
                  </a:lnTo>
                  <a:lnTo>
                    <a:pt x="1887" y="702"/>
                  </a:lnTo>
                  <a:lnTo>
                    <a:pt x="1885" y="692"/>
                  </a:lnTo>
                  <a:lnTo>
                    <a:pt x="1881" y="693"/>
                  </a:lnTo>
                  <a:lnTo>
                    <a:pt x="1879" y="697"/>
                  </a:lnTo>
                  <a:lnTo>
                    <a:pt x="1875" y="701"/>
                  </a:lnTo>
                  <a:lnTo>
                    <a:pt x="1869" y="703"/>
                  </a:lnTo>
                  <a:lnTo>
                    <a:pt x="1861" y="702"/>
                  </a:lnTo>
                  <a:lnTo>
                    <a:pt x="1857" y="697"/>
                  </a:lnTo>
                  <a:lnTo>
                    <a:pt x="1853" y="693"/>
                  </a:lnTo>
                  <a:lnTo>
                    <a:pt x="1847" y="692"/>
                  </a:lnTo>
                  <a:lnTo>
                    <a:pt x="1842" y="691"/>
                  </a:lnTo>
                  <a:lnTo>
                    <a:pt x="1839" y="687"/>
                  </a:lnTo>
                  <a:lnTo>
                    <a:pt x="1838" y="683"/>
                  </a:lnTo>
                  <a:lnTo>
                    <a:pt x="1836" y="680"/>
                  </a:lnTo>
                  <a:lnTo>
                    <a:pt x="1834" y="686"/>
                  </a:lnTo>
                  <a:lnTo>
                    <a:pt x="1833" y="691"/>
                  </a:lnTo>
                  <a:lnTo>
                    <a:pt x="1833" y="696"/>
                  </a:lnTo>
                  <a:lnTo>
                    <a:pt x="1833" y="703"/>
                  </a:lnTo>
                  <a:lnTo>
                    <a:pt x="1836" y="703"/>
                  </a:lnTo>
                  <a:lnTo>
                    <a:pt x="1838" y="710"/>
                  </a:lnTo>
                  <a:lnTo>
                    <a:pt x="1847" y="710"/>
                  </a:lnTo>
                  <a:lnTo>
                    <a:pt x="1857" y="709"/>
                  </a:lnTo>
                  <a:lnTo>
                    <a:pt x="1864" y="712"/>
                  </a:lnTo>
                  <a:lnTo>
                    <a:pt x="1871" y="718"/>
                  </a:lnTo>
                  <a:lnTo>
                    <a:pt x="1876" y="724"/>
                  </a:lnTo>
                  <a:lnTo>
                    <a:pt x="1880" y="733"/>
                  </a:lnTo>
                  <a:lnTo>
                    <a:pt x="1880" y="742"/>
                  </a:lnTo>
                  <a:lnTo>
                    <a:pt x="1874" y="747"/>
                  </a:lnTo>
                  <a:lnTo>
                    <a:pt x="1866" y="750"/>
                  </a:lnTo>
                  <a:lnTo>
                    <a:pt x="1858" y="751"/>
                  </a:lnTo>
                  <a:lnTo>
                    <a:pt x="1849" y="750"/>
                  </a:lnTo>
                  <a:lnTo>
                    <a:pt x="1850" y="751"/>
                  </a:lnTo>
                  <a:lnTo>
                    <a:pt x="1852" y="751"/>
                  </a:lnTo>
                  <a:lnTo>
                    <a:pt x="1853" y="752"/>
                  </a:lnTo>
                  <a:lnTo>
                    <a:pt x="1853" y="754"/>
                  </a:lnTo>
                  <a:lnTo>
                    <a:pt x="1859" y="757"/>
                  </a:lnTo>
                  <a:lnTo>
                    <a:pt x="1866" y="758"/>
                  </a:lnTo>
                  <a:lnTo>
                    <a:pt x="1873" y="757"/>
                  </a:lnTo>
                  <a:lnTo>
                    <a:pt x="1879" y="752"/>
                  </a:lnTo>
                  <a:lnTo>
                    <a:pt x="1912" y="777"/>
                  </a:lnTo>
                  <a:lnTo>
                    <a:pt x="1908" y="781"/>
                  </a:lnTo>
                  <a:lnTo>
                    <a:pt x="1903" y="783"/>
                  </a:lnTo>
                  <a:lnTo>
                    <a:pt x="1900" y="786"/>
                  </a:lnTo>
                  <a:lnTo>
                    <a:pt x="1895" y="790"/>
                  </a:lnTo>
                  <a:lnTo>
                    <a:pt x="1905" y="800"/>
                  </a:lnTo>
                  <a:lnTo>
                    <a:pt x="1920" y="815"/>
                  </a:lnTo>
                  <a:lnTo>
                    <a:pt x="1939" y="834"/>
                  </a:lnTo>
                  <a:lnTo>
                    <a:pt x="1961" y="853"/>
                  </a:lnTo>
                  <a:lnTo>
                    <a:pt x="1983" y="873"/>
                  </a:lnTo>
                  <a:lnTo>
                    <a:pt x="2004" y="891"/>
                  </a:lnTo>
                  <a:lnTo>
                    <a:pt x="2021" y="906"/>
                  </a:lnTo>
                  <a:lnTo>
                    <a:pt x="2035" y="917"/>
                  </a:lnTo>
                  <a:lnTo>
                    <a:pt x="2003" y="939"/>
                  </a:lnTo>
                  <a:lnTo>
                    <a:pt x="1989" y="926"/>
                  </a:lnTo>
                  <a:lnTo>
                    <a:pt x="1972" y="907"/>
                  </a:lnTo>
                  <a:lnTo>
                    <a:pt x="1950" y="888"/>
                  </a:lnTo>
                  <a:lnTo>
                    <a:pt x="1927" y="866"/>
                  </a:lnTo>
                  <a:lnTo>
                    <a:pt x="1903" y="846"/>
                  </a:lnTo>
                  <a:lnTo>
                    <a:pt x="1882" y="826"/>
                  </a:lnTo>
                  <a:lnTo>
                    <a:pt x="1865" y="813"/>
                  </a:lnTo>
                  <a:lnTo>
                    <a:pt x="1853" y="803"/>
                  </a:lnTo>
                  <a:lnTo>
                    <a:pt x="1849" y="928"/>
                  </a:lnTo>
                  <a:lnTo>
                    <a:pt x="1857" y="932"/>
                  </a:lnTo>
                  <a:lnTo>
                    <a:pt x="1865" y="930"/>
                  </a:lnTo>
                  <a:lnTo>
                    <a:pt x="1874" y="927"/>
                  </a:lnTo>
                  <a:lnTo>
                    <a:pt x="1881" y="926"/>
                  </a:lnTo>
                  <a:lnTo>
                    <a:pt x="1887" y="927"/>
                  </a:lnTo>
                  <a:lnTo>
                    <a:pt x="1891" y="930"/>
                  </a:lnTo>
                  <a:lnTo>
                    <a:pt x="1895" y="933"/>
                  </a:lnTo>
                  <a:lnTo>
                    <a:pt x="1896" y="938"/>
                  </a:lnTo>
                  <a:lnTo>
                    <a:pt x="1909" y="941"/>
                  </a:lnTo>
                  <a:lnTo>
                    <a:pt x="1923" y="942"/>
                  </a:lnTo>
                  <a:lnTo>
                    <a:pt x="1935" y="943"/>
                  </a:lnTo>
                  <a:lnTo>
                    <a:pt x="1949" y="942"/>
                  </a:lnTo>
                  <a:lnTo>
                    <a:pt x="1962" y="941"/>
                  </a:lnTo>
                  <a:lnTo>
                    <a:pt x="1976" y="941"/>
                  </a:lnTo>
                  <a:lnTo>
                    <a:pt x="1989" y="939"/>
                  </a:lnTo>
                  <a:lnTo>
                    <a:pt x="2003" y="939"/>
                  </a:lnTo>
                  <a:lnTo>
                    <a:pt x="2035" y="917"/>
                  </a:lnTo>
                  <a:lnTo>
                    <a:pt x="2042" y="920"/>
                  </a:lnTo>
                  <a:lnTo>
                    <a:pt x="2053" y="922"/>
                  </a:lnTo>
                  <a:lnTo>
                    <a:pt x="2067" y="925"/>
                  </a:lnTo>
                  <a:lnTo>
                    <a:pt x="2083" y="927"/>
                  </a:lnTo>
                  <a:lnTo>
                    <a:pt x="2099" y="931"/>
                  </a:lnTo>
                  <a:lnTo>
                    <a:pt x="2114" y="937"/>
                  </a:lnTo>
                  <a:lnTo>
                    <a:pt x="2127" y="944"/>
                  </a:lnTo>
                  <a:lnTo>
                    <a:pt x="2138" y="954"/>
                  </a:lnTo>
                  <a:lnTo>
                    <a:pt x="2142" y="960"/>
                  </a:lnTo>
                  <a:lnTo>
                    <a:pt x="2142" y="969"/>
                  </a:lnTo>
                  <a:lnTo>
                    <a:pt x="2141" y="978"/>
                  </a:lnTo>
                  <a:lnTo>
                    <a:pt x="2142" y="986"/>
                  </a:lnTo>
                  <a:lnTo>
                    <a:pt x="2151" y="992"/>
                  </a:lnTo>
                  <a:lnTo>
                    <a:pt x="2163" y="1001"/>
                  </a:lnTo>
                  <a:lnTo>
                    <a:pt x="2178" y="1012"/>
                  </a:lnTo>
                  <a:lnTo>
                    <a:pt x="2197" y="1024"/>
                  </a:lnTo>
                  <a:lnTo>
                    <a:pt x="2217" y="1038"/>
                  </a:lnTo>
                  <a:lnTo>
                    <a:pt x="2239" y="1054"/>
                  </a:lnTo>
                  <a:lnTo>
                    <a:pt x="2263" y="1069"/>
                  </a:lnTo>
                  <a:lnTo>
                    <a:pt x="2286" y="1085"/>
                  </a:lnTo>
                  <a:lnTo>
                    <a:pt x="2309" y="1101"/>
                  </a:lnTo>
                  <a:lnTo>
                    <a:pt x="2331" y="1115"/>
                  </a:lnTo>
                  <a:lnTo>
                    <a:pt x="2351" y="1129"/>
                  </a:lnTo>
                  <a:lnTo>
                    <a:pt x="2370" y="1141"/>
                  </a:lnTo>
                  <a:lnTo>
                    <a:pt x="2384" y="1151"/>
                  </a:lnTo>
                  <a:lnTo>
                    <a:pt x="2397" y="1160"/>
                  </a:lnTo>
                  <a:lnTo>
                    <a:pt x="2404" y="1165"/>
                  </a:lnTo>
                  <a:lnTo>
                    <a:pt x="2407" y="1166"/>
                  </a:lnTo>
                  <a:lnTo>
                    <a:pt x="2407" y="1171"/>
                  </a:lnTo>
                  <a:lnTo>
                    <a:pt x="2404" y="1173"/>
                  </a:lnTo>
                  <a:lnTo>
                    <a:pt x="2400" y="1176"/>
                  </a:lnTo>
                  <a:lnTo>
                    <a:pt x="2397" y="1178"/>
                  </a:lnTo>
                  <a:lnTo>
                    <a:pt x="2388" y="1178"/>
                  </a:lnTo>
                  <a:lnTo>
                    <a:pt x="2376" y="1178"/>
                  </a:lnTo>
                  <a:lnTo>
                    <a:pt x="2360" y="1178"/>
                  </a:lnTo>
                  <a:lnTo>
                    <a:pt x="2343" y="1178"/>
                  </a:lnTo>
                  <a:lnTo>
                    <a:pt x="2322" y="1178"/>
                  </a:lnTo>
                  <a:lnTo>
                    <a:pt x="2299" y="1177"/>
                  </a:lnTo>
                  <a:lnTo>
                    <a:pt x="2277" y="1177"/>
                  </a:lnTo>
                  <a:lnTo>
                    <a:pt x="2253" y="1177"/>
                  </a:lnTo>
                  <a:lnTo>
                    <a:pt x="2229" y="1177"/>
                  </a:lnTo>
                  <a:lnTo>
                    <a:pt x="2205" y="1177"/>
                  </a:lnTo>
                  <a:lnTo>
                    <a:pt x="2183" y="1177"/>
                  </a:lnTo>
                  <a:lnTo>
                    <a:pt x="2160" y="1177"/>
                  </a:lnTo>
                  <a:lnTo>
                    <a:pt x="2141" y="1177"/>
                  </a:lnTo>
                  <a:lnTo>
                    <a:pt x="2124" y="1177"/>
                  </a:lnTo>
                  <a:lnTo>
                    <a:pt x="2109" y="1177"/>
                  </a:lnTo>
                  <a:lnTo>
                    <a:pt x="2096" y="1177"/>
                  </a:lnTo>
                  <a:lnTo>
                    <a:pt x="2090" y="1170"/>
                  </a:lnTo>
                  <a:lnTo>
                    <a:pt x="2087" y="1162"/>
                  </a:lnTo>
                  <a:lnTo>
                    <a:pt x="2082" y="1155"/>
                  </a:lnTo>
                  <a:lnTo>
                    <a:pt x="2078" y="1146"/>
                  </a:lnTo>
                  <a:lnTo>
                    <a:pt x="2074" y="1139"/>
                  </a:lnTo>
                  <a:lnTo>
                    <a:pt x="2071" y="1131"/>
                  </a:lnTo>
                  <a:lnTo>
                    <a:pt x="2064" y="1124"/>
                  </a:lnTo>
                  <a:lnTo>
                    <a:pt x="2058" y="1117"/>
                  </a:lnTo>
                  <a:lnTo>
                    <a:pt x="2055" y="1119"/>
                  </a:lnTo>
                  <a:lnTo>
                    <a:pt x="2051" y="1130"/>
                  </a:lnTo>
                  <a:lnTo>
                    <a:pt x="2047" y="1140"/>
                  </a:lnTo>
                  <a:lnTo>
                    <a:pt x="2042" y="1150"/>
                  </a:lnTo>
                  <a:lnTo>
                    <a:pt x="2037" y="1160"/>
                  </a:lnTo>
                  <a:lnTo>
                    <a:pt x="2031" y="1170"/>
                  </a:lnTo>
                  <a:lnTo>
                    <a:pt x="2024" y="1178"/>
                  </a:lnTo>
                  <a:lnTo>
                    <a:pt x="2016" y="1187"/>
                  </a:lnTo>
                  <a:lnTo>
                    <a:pt x="2008" y="1194"/>
                  </a:lnTo>
                  <a:lnTo>
                    <a:pt x="2441" y="1194"/>
                  </a:lnTo>
                  <a:lnTo>
                    <a:pt x="2441" y="1255"/>
                  </a:lnTo>
                  <a:lnTo>
                    <a:pt x="1895" y="1255"/>
                  </a:lnTo>
                  <a:lnTo>
                    <a:pt x="1891" y="1197"/>
                  </a:lnTo>
                  <a:lnTo>
                    <a:pt x="1891" y="1195"/>
                  </a:lnTo>
                  <a:lnTo>
                    <a:pt x="1884" y="1187"/>
                  </a:lnTo>
                  <a:lnTo>
                    <a:pt x="1876" y="1178"/>
                  </a:lnTo>
                  <a:lnTo>
                    <a:pt x="1868" y="1168"/>
                  </a:lnTo>
                  <a:lnTo>
                    <a:pt x="1860" y="1160"/>
                  </a:lnTo>
                  <a:lnTo>
                    <a:pt x="1833" y="1160"/>
                  </a:lnTo>
                  <a:lnTo>
                    <a:pt x="1804" y="1160"/>
                  </a:lnTo>
                  <a:lnTo>
                    <a:pt x="1772" y="1160"/>
                  </a:lnTo>
                  <a:lnTo>
                    <a:pt x="1741" y="1161"/>
                  </a:lnTo>
                  <a:lnTo>
                    <a:pt x="1713" y="1161"/>
                  </a:lnTo>
                  <a:lnTo>
                    <a:pt x="1690" y="1162"/>
                  </a:lnTo>
                  <a:lnTo>
                    <a:pt x="1676" y="1162"/>
                  </a:lnTo>
                  <a:lnTo>
                    <a:pt x="1669" y="1162"/>
                  </a:lnTo>
                  <a:lnTo>
                    <a:pt x="1681" y="1134"/>
                  </a:lnTo>
                  <a:lnTo>
                    <a:pt x="1687" y="1134"/>
                  </a:lnTo>
                  <a:lnTo>
                    <a:pt x="1704" y="1134"/>
                  </a:lnTo>
                  <a:lnTo>
                    <a:pt x="1727" y="1134"/>
                  </a:lnTo>
                  <a:lnTo>
                    <a:pt x="1756" y="1134"/>
                  </a:lnTo>
                  <a:lnTo>
                    <a:pt x="1784" y="1134"/>
                  </a:lnTo>
                  <a:lnTo>
                    <a:pt x="1810" y="1134"/>
                  </a:lnTo>
                  <a:lnTo>
                    <a:pt x="1829" y="1133"/>
                  </a:lnTo>
                  <a:lnTo>
                    <a:pt x="1839" y="1133"/>
                  </a:lnTo>
                  <a:lnTo>
                    <a:pt x="1844" y="1130"/>
                  </a:lnTo>
                  <a:lnTo>
                    <a:pt x="1844" y="1127"/>
                  </a:lnTo>
                  <a:lnTo>
                    <a:pt x="1843" y="1122"/>
                  </a:lnTo>
                  <a:lnTo>
                    <a:pt x="1842" y="1117"/>
                  </a:lnTo>
                  <a:lnTo>
                    <a:pt x="1834" y="1115"/>
                  </a:lnTo>
                  <a:lnTo>
                    <a:pt x="1828" y="1113"/>
                  </a:lnTo>
                  <a:lnTo>
                    <a:pt x="1822" y="1111"/>
                  </a:lnTo>
                  <a:lnTo>
                    <a:pt x="1817" y="1107"/>
                  </a:lnTo>
                  <a:lnTo>
                    <a:pt x="1811" y="1103"/>
                  </a:lnTo>
                  <a:lnTo>
                    <a:pt x="1805" y="1099"/>
                  </a:lnTo>
                  <a:lnTo>
                    <a:pt x="1799" y="1097"/>
                  </a:lnTo>
                  <a:lnTo>
                    <a:pt x="1793" y="1095"/>
                  </a:lnTo>
                  <a:lnTo>
                    <a:pt x="1785" y="1098"/>
                  </a:lnTo>
                  <a:lnTo>
                    <a:pt x="1778" y="1101"/>
                  </a:lnTo>
                  <a:lnTo>
                    <a:pt x="1770" y="1102"/>
                  </a:lnTo>
                  <a:lnTo>
                    <a:pt x="1762" y="1103"/>
                  </a:lnTo>
                  <a:lnTo>
                    <a:pt x="1754" y="1102"/>
                  </a:lnTo>
                  <a:lnTo>
                    <a:pt x="1747" y="1101"/>
                  </a:lnTo>
                  <a:lnTo>
                    <a:pt x="1740" y="1098"/>
                  </a:lnTo>
                  <a:lnTo>
                    <a:pt x="1733" y="1095"/>
                  </a:lnTo>
                  <a:lnTo>
                    <a:pt x="1726" y="1098"/>
                  </a:lnTo>
                  <a:lnTo>
                    <a:pt x="1720" y="1101"/>
                  </a:lnTo>
                  <a:lnTo>
                    <a:pt x="1713" y="1104"/>
                  </a:lnTo>
                  <a:lnTo>
                    <a:pt x="1706" y="1107"/>
                  </a:lnTo>
                  <a:lnTo>
                    <a:pt x="1699" y="1109"/>
                  </a:lnTo>
                  <a:lnTo>
                    <a:pt x="1693" y="1113"/>
                  </a:lnTo>
                  <a:lnTo>
                    <a:pt x="1687" y="1117"/>
                  </a:lnTo>
                  <a:lnTo>
                    <a:pt x="1681" y="1122"/>
                  </a:lnTo>
                  <a:lnTo>
                    <a:pt x="1681" y="1134"/>
                  </a:lnTo>
                  <a:lnTo>
                    <a:pt x="1669" y="1162"/>
                  </a:lnTo>
                  <a:lnTo>
                    <a:pt x="1662" y="1163"/>
                  </a:lnTo>
                  <a:lnTo>
                    <a:pt x="1656" y="1166"/>
                  </a:lnTo>
                  <a:lnTo>
                    <a:pt x="1651" y="1171"/>
                  </a:lnTo>
                  <a:lnTo>
                    <a:pt x="1646" y="1176"/>
                  </a:lnTo>
                  <a:lnTo>
                    <a:pt x="1641" y="1182"/>
                  </a:lnTo>
                  <a:lnTo>
                    <a:pt x="1636" y="1188"/>
                  </a:lnTo>
                  <a:lnTo>
                    <a:pt x="1631" y="1193"/>
                  </a:lnTo>
                  <a:lnTo>
                    <a:pt x="1626" y="1198"/>
                  </a:lnTo>
                  <a:lnTo>
                    <a:pt x="1635" y="1199"/>
                  </a:lnTo>
                  <a:lnTo>
                    <a:pt x="1649" y="1199"/>
                  </a:lnTo>
                  <a:lnTo>
                    <a:pt x="1665" y="1199"/>
                  </a:lnTo>
                  <a:lnTo>
                    <a:pt x="1683" y="1199"/>
                  </a:lnTo>
                  <a:lnTo>
                    <a:pt x="1703" y="1199"/>
                  </a:lnTo>
                  <a:lnTo>
                    <a:pt x="1725" y="1198"/>
                  </a:lnTo>
                  <a:lnTo>
                    <a:pt x="1748" y="1198"/>
                  </a:lnTo>
                  <a:lnTo>
                    <a:pt x="1770" y="1197"/>
                  </a:lnTo>
                  <a:lnTo>
                    <a:pt x="1794" y="1197"/>
                  </a:lnTo>
                  <a:lnTo>
                    <a:pt x="1815" y="1195"/>
                  </a:lnTo>
                  <a:lnTo>
                    <a:pt x="1834" y="1195"/>
                  </a:lnTo>
                  <a:lnTo>
                    <a:pt x="1853" y="1195"/>
                  </a:lnTo>
                  <a:lnTo>
                    <a:pt x="1868" y="1194"/>
                  </a:lnTo>
                  <a:lnTo>
                    <a:pt x="1880" y="1194"/>
                  </a:lnTo>
                  <a:lnTo>
                    <a:pt x="1887" y="1195"/>
                  </a:lnTo>
                  <a:lnTo>
                    <a:pt x="1891" y="1195"/>
                  </a:lnTo>
                  <a:lnTo>
                    <a:pt x="1895" y="1255"/>
                  </a:lnTo>
                  <a:lnTo>
                    <a:pt x="1448" y="1255"/>
                  </a:lnTo>
                  <a:lnTo>
                    <a:pt x="1471" y="1200"/>
                  </a:lnTo>
                  <a:lnTo>
                    <a:pt x="1476" y="1198"/>
                  </a:lnTo>
                  <a:lnTo>
                    <a:pt x="1480" y="1199"/>
                  </a:lnTo>
                  <a:lnTo>
                    <a:pt x="1485" y="1200"/>
                  </a:lnTo>
                  <a:lnTo>
                    <a:pt x="1489" y="1199"/>
                  </a:lnTo>
                  <a:lnTo>
                    <a:pt x="1476" y="1179"/>
                  </a:lnTo>
                  <a:lnTo>
                    <a:pt x="1470" y="1178"/>
                  </a:lnTo>
                  <a:lnTo>
                    <a:pt x="1465" y="1181"/>
                  </a:lnTo>
                  <a:lnTo>
                    <a:pt x="1459" y="1184"/>
                  </a:lnTo>
                  <a:lnTo>
                    <a:pt x="1453" y="1186"/>
                  </a:lnTo>
                  <a:lnTo>
                    <a:pt x="1443" y="1176"/>
                  </a:lnTo>
                  <a:lnTo>
                    <a:pt x="1439" y="1165"/>
                  </a:lnTo>
                  <a:lnTo>
                    <a:pt x="1441" y="1154"/>
                  </a:lnTo>
                  <a:lnTo>
                    <a:pt x="1446" y="1141"/>
                  </a:lnTo>
                  <a:lnTo>
                    <a:pt x="1450" y="1129"/>
                  </a:lnTo>
                  <a:lnTo>
                    <a:pt x="1457" y="1115"/>
                  </a:lnTo>
                  <a:lnTo>
                    <a:pt x="1460" y="1103"/>
                  </a:lnTo>
                  <a:lnTo>
                    <a:pt x="1459" y="1090"/>
                  </a:lnTo>
                  <a:lnTo>
                    <a:pt x="1453" y="1082"/>
                  </a:lnTo>
                  <a:lnTo>
                    <a:pt x="1448" y="1074"/>
                  </a:lnTo>
                  <a:lnTo>
                    <a:pt x="1446" y="1064"/>
                  </a:lnTo>
                  <a:lnTo>
                    <a:pt x="1443" y="1054"/>
                  </a:lnTo>
                  <a:lnTo>
                    <a:pt x="1497" y="939"/>
                  </a:lnTo>
                  <a:lnTo>
                    <a:pt x="1621" y="938"/>
                  </a:lnTo>
                  <a:lnTo>
                    <a:pt x="1628" y="933"/>
                  </a:lnTo>
                  <a:lnTo>
                    <a:pt x="1635" y="926"/>
                  </a:lnTo>
                  <a:lnTo>
                    <a:pt x="1639" y="918"/>
                  </a:lnTo>
                  <a:lnTo>
                    <a:pt x="1640" y="910"/>
                  </a:lnTo>
                  <a:lnTo>
                    <a:pt x="1634" y="905"/>
                  </a:lnTo>
                  <a:lnTo>
                    <a:pt x="1628" y="907"/>
                  </a:lnTo>
                  <a:lnTo>
                    <a:pt x="1620" y="912"/>
                  </a:lnTo>
                  <a:lnTo>
                    <a:pt x="1613" y="916"/>
                  </a:lnTo>
                  <a:lnTo>
                    <a:pt x="1605" y="917"/>
                  </a:lnTo>
                  <a:lnTo>
                    <a:pt x="1597" y="917"/>
                  </a:lnTo>
                  <a:lnTo>
                    <a:pt x="1588" y="915"/>
                  </a:lnTo>
                  <a:lnTo>
                    <a:pt x="1581" y="911"/>
                  </a:lnTo>
                  <a:lnTo>
                    <a:pt x="1572" y="904"/>
                  </a:lnTo>
                  <a:lnTo>
                    <a:pt x="1562" y="899"/>
                  </a:lnTo>
                  <a:lnTo>
                    <a:pt x="1553" y="898"/>
                  </a:lnTo>
                  <a:lnTo>
                    <a:pt x="1540" y="896"/>
                  </a:lnTo>
                  <a:lnTo>
                    <a:pt x="1528" y="896"/>
                  </a:lnTo>
                  <a:lnTo>
                    <a:pt x="1517" y="898"/>
                  </a:lnTo>
                  <a:lnTo>
                    <a:pt x="1505" y="896"/>
                  </a:lnTo>
                  <a:lnTo>
                    <a:pt x="1494" y="895"/>
                  </a:lnTo>
                  <a:lnTo>
                    <a:pt x="1487" y="898"/>
                  </a:lnTo>
                  <a:lnTo>
                    <a:pt x="1481" y="899"/>
                  </a:lnTo>
                  <a:lnTo>
                    <a:pt x="1476" y="901"/>
                  </a:lnTo>
                  <a:lnTo>
                    <a:pt x="1475" y="906"/>
                  </a:lnTo>
                  <a:lnTo>
                    <a:pt x="1482" y="914"/>
                  </a:lnTo>
                  <a:lnTo>
                    <a:pt x="1489" y="921"/>
                  </a:lnTo>
                  <a:lnTo>
                    <a:pt x="1494" y="930"/>
                  </a:lnTo>
                  <a:lnTo>
                    <a:pt x="1497" y="939"/>
                  </a:lnTo>
                  <a:lnTo>
                    <a:pt x="1443" y="1054"/>
                  </a:lnTo>
                  <a:lnTo>
                    <a:pt x="1439" y="1055"/>
                  </a:lnTo>
                  <a:lnTo>
                    <a:pt x="1436" y="1055"/>
                  </a:lnTo>
                  <a:lnTo>
                    <a:pt x="1431" y="1054"/>
                  </a:lnTo>
                  <a:lnTo>
                    <a:pt x="1428" y="1051"/>
                  </a:lnTo>
                  <a:lnTo>
                    <a:pt x="1428" y="1060"/>
                  </a:lnTo>
                  <a:lnTo>
                    <a:pt x="1428" y="1066"/>
                  </a:lnTo>
                  <a:lnTo>
                    <a:pt x="1430" y="1074"/>
                  </a:lnTo>
                  <a:lnTo>
                    <a:pt x="1428" y="1082"/>
                  </a:lnTo>
                  <a:lnTo>
                    <a:pt x="1427" y="1090"/>
                  </a:lnTo>
                  <a:lnTo>
                    <a:pt x="1428" y="1098"/>
                  </a:lnTo>
                  <a:lnTo>
                    <a:pt x="1430" y="1106"/>
                  </a:lnTo>
                  <a:lnTo>
                    <a:pt x="1426" y="1112"/>
                  </a:lnTo>
                  <a:lnTo>
                    <a:pt x="1417" y="1113"/>
                  </a:lnTo>
                  <a:lnTo>
                    <a:pt x="1410" y="1112"/>
                  </a:lnTo>
                  <a:lnTo>
                    <a:pt x="1402" y="1108"/>
                  </a:lnTo>
                  <a:lnTo>
                    <a:pt x="1398" y="1103"/>
                  </a:lnTo>
                  <a:lnTo>
                    <a:pt x="1393" y="1112"/>
                  </a:lnTo>
                  <a:lnTo>
                    <a:pt x="1386" y="1122"/>
                  </a:lnTo>
                  <a:lnTo>
                    <a:pt x="1380" y="1130"/>
                  </a:lnTo>
                  <a:lnTo>
                    <a:pt x="1374" y="1139"/>
                  </a:lnTo>
                  <a:lnTo>
                    <a:pt x="1368" y="1147"/>
                  </a:lnTo>
                  <a:lnTo>
                    <a:pt x="1361" y="1156"/>
                  </a:lnTo>
                  <a:lnTo>
                    <a:pt x="1353" y="1163"/>
                  </a:lnTo>
                  <a:lnTo>
                    <a:pt x="1346" y="1172"/>
                  </a:lnTo>
                  <a:lnTo>
                    <a:pt x="1337" y="1179"/>
                  </a:lnTo>
                  <a:lnTo>
                    <a:pt x="1329" y="1187"/>
                  </a:lnTo>
                  <a:lnTo>
                    <a:pt x="1320" y="1193"/>
                  </a:lnTo>
                  <a:lnTo>
                    <a:pt x="1310" y="1199"/>
                  </a:lnTo>
                  <a:lnTo>
                    <a:pt x="1330" y="1202"/>
                  </a:lnTo>
                  <a:lnTo>
                    <a:pt x="1350" y="1202"/>
                  </a:lnTo>
                  <a:lnTo>
                    <a:pt x="1369" y="1202"/>
                  </a:lnTo>
                  <a:lnTo>
                    <a:pt x="1389" y="1202"/>
                  </a:lnTo>
                  <a:lnTo>
                    <a:pt x="1410" y="1200"/>
                  </a:lnTo>
                  <a:lnTo>
                    <a:pt x="1431" y="1200"/>
                  </a:lnTo>
                  <a:lnTo>
                    <a:pt x="1450" y="1200"/>
                  </a:lnTo>
                  <a:lnTo>
                    <a:pt x="1471" y="1200"/>
                  </a:lnTo>
                  <a:lnTo>
                    <a:pt x="1448" y="1255"/>
                  </a:lnTo>
                  <a:lnTo>
                    <a:pt x="916" y="1255"/>
                  </a:lnTo>
                  <a:lnTo>
                    <a:pt x="929" y="1200"/>
                  </a:lnTo>
                  <a:lnTo>
                    <a:pt x="1135" y="1200"/>
                  </a:lnTo>
                  <a:lnTo>
                    <a:pt x="1142" y="1202"/>
                  </a:lnTo>
                  <a:lnTo>
                    <a:pt x="1145" y="1202"/>
                  </a:lnTo>
                  <a:lnTo>
                    <a:pt x="1150" y="1202"/>
                  </a:lnTo>
                  <a:lnTo>
                    <a:pt x="1155" y="1200"/>
                  </a:lnTo>
                  <a:lnTo>
                    <a:pt x="1148" y="1195"/>
                  </a:lnTo>
                  <a:lnTo>
                    <a:pt x="1142" y="1191"/>
                  </a:lnTo>
                  <a:lnTo>
                    <a:pt x="1135" y="1186"/>
                  </a:lnTo>
                  <a:lnTo>
                    <a:pt x="1129" y="1182"/>
                  </a:lnTo>
                  <a:lnTo>
                    <a:pt x="1123" y="1177"/>
                  </a:lnTo>
                  <a:lnTo>
                    <a:pt x="1117" y="1172"/>
                  </a:lnTo>
                  <a:lnTo>
                    <a:pt x="1111" y="1167"/>
                  </a:lnTo>
                  <a:lnTo>
                    <a:pt x="1106" y="1161"/>
                  </a:lnTo>
                  <a:lnTo>
                    <a:pt x="1155" y="1161"/>
                  </a:lnTo>
                  <a:lnTo>
                    <a:pt x="1159" y="1159"/>
                  </a:lnTo>
                  <a:lnTo>
                    <a:pt x="1166" y="1150"/>
                  </a:lnTo>
                  <a:lnTo>
                    <a:pt x="1174" y="1136"/>
                  </a:lnTo>
                  <a:lnTo>
                    <a:pt x="1182" y="1119"/>
                  </a:lnTo>
                  <a:lnTo>
                    <a:pt x="1191" y="1101"/>
                  </a:lnTo>
                  <a:lnTo>
                    <a:pt x="1198" y="1083"/>
                  </a:lnTo>
                  <a:lnTo>
                    <a:pt x="1206" y="1071"/>
                  </a:lnTo>
                  <a:lnTo>
                    <a:pt x="1209" y="1063"/>
                  </a:lnTo>
                  <a:lnTo>
                    <a:pt x="1230" y="1061"/>
                  </a:lnTo>
                  <a:lnTo>
                    <a:pt x="1225" y="1081"/>
                  </a:lnTo>
                  <a:lnTo>
                    <a:pt x="1219" y="1119"/>
                  </a:lnTo>
                  <a:lnTo>
                    <a:pt x="1214" y="1157"/>
                  </a:lnTo>
                  <a:lnTo>
                    <a:pt x="1213" y="1179"/>
                  </a:lnTo>
                  <a:lnTo>
                    <a:pt x="1218" y="1179"/>
                  </a:lnTo>
                  <a:lnTo>
                    <a:pt x="1222" y="1179"/>
                  </a:lnTo>
                  <a:lnTo>
                    <a:pt x="1226" y="1179"/>
                  </a:lnTo>
                  <a:lnTo>
                    <a:pt x="1231" y="1181"/>
                  </a:lnTo>
                  <a:lnTo>
                    <a:pt x="1239" y="1179"/>
                  </a:lnTo>
                  <a:lnTo>
                    <a:pt x="1245" y="1179"/>
                  </a:lnTo>
                  <a:lnTo>
                    <a:pt x="1250" y="1179"/>
                  </a:lnTo>
                  <a:lnTo>
                    <a:pt x="1254" y="1179"/>
                  </a:lnTo>
                  <a:lnTo>
                    <a:pt x="1245" y="1053"/>
                  </a:lnTo>
                  <a:lnTo>
                    <a:pt x="1247" y="1059"/>
                  </a:lnTo>
                  <a:lnTo>
                    <a:pt x="1252" y="1072"/>
                  </a:lnTo>
                  <a:lnTo>
                    <a:pt x="1260" y="1091"/>
                  </a:lnTo>
                  <a:lnTo>
                    <a:pt x="1267" y="1111"/>
                  </a:lnTo>
                  <a:lnTo>
                    <a:pt x="1276" y="1131"/>
                  </a:lnTo>
                  <a:lnTo>
                    <a:pt x="1283" y="1149"/>
                  </a:lnTo>
                  <a:lnTo>
                    <a:pt x="1288" y="1161"/>
                  </a:lnTo>
                  <a:lnTo>
                    <a:pt x="1292" y="1167"/>
                  </a:lnTo>
                  <a:lnTo>
                    <a:pt x="1298" y="1162"/>
                  </a:lnTo>
                  <a:lnTo>
                    <a:pt x="1306" y="1157"/>
                  </a:lnTo>
                  <a:lnTo>
                    <a:pt x="1314" y="1154"/>
                  </a:lnTo>
                  <a:lnTo>
                    <a:pt x="1318" y="1152"/>
                  </a:lnTo>
                  <a:lnTo>
                    <a:pt x="1315" y="1146"/>
                  </a:lnTo>
                  <a:lnTo>
                    <a:pt x="1313" y="1141"/>
                  </a:lnTo>
                  <a:lnTo>
                    <a:pt x="1310" y="1136"/>
                  </a:lnTo>
                  <a:lnTo>
                    <a:pt x="1308" y="1135"/>
                  </a:lnTo>
                  <a:lnTo>
                    <a:pt x="1351" y="1119"/>
                  </a:lnTo>
                  <a:lnTo>
                    <a:pt x="1356" y="1113"/>
                  </a:lnTo>
                  <a:lnTo>
                    <a:pt x="1362" y="1103"/>
                  </a:lnTo>
                  <a:lnTo>
                    <a:pt x="1368" y="1095"/>
                  </a:lnTo>
                  <a:lnTo>
                    <a:pt x="1370" y="1088"/>
                  </a:lnTo>
                  <a:lnTo>
                    <a:pt x="1364" y="1085"/>
                  </a:lnTo>
                  <a:lnTo>
                    <a:pt x="1353" y="1081"/>
                  </a:lnTo>
                  <a:lnTo>
                    <a:pt x="1338" y="1076"/>
                  </a:lnTo>
                  <a:lnTo>
                    <a:pt x="1324" y="1070"/>
                  </a:lnTo>
                  <a:lnTo>
                    <a:pt x="1308" y="1065"/>
                  </a:lnTo>
                  <a:lnTo>
                    <a:pt x="1293" y="1061"/>
                  </a:lnTo>
                  <a:lnTo>
                    <a:pt x="1282" y="1058"/>
                  </a:lnTo>
                  <a:lnTo>
                    <a:pt x="1274" y="1056"/>
                  </a:lnTo>
                  <a:lnTo>
                    <a:pt x="1266" y="1038"/>
                  </a:lnTo>
                  <a:lnTo>
                    <a:pt x="1276" y="1037"/>
                  </a:lnTo>
                  <a:lnTo>
                    <a:pt x="1292" y="1037"/>
                  </a:lnTo>
                  <a:lnTo>
                    <a:pt x="1311" y="1035"/>
                  </a:lnTo>
                  <a:lnTo>
                    <a:pt x="1332" y="1034"/>
                  </a:lnTo>
                  <a:lnTo>
                    <a:pt x="1352" y="1033"/>
                  </a:lnTo>
                  <a:lnTo>
                    <a:pt x="1370" y="1033"/>
                  </a:lnTo>
                  <a:lnTo>
                    <a:pt x="1382" y="1032"/>
                  </a:lnTo>
                  <a:lnTo>
                    <a:pt x="1386" y="1032"/>
                  </a:lnTo>
                  <a:lnTo>
                    <a:pt x="1385" y="1024"/>
                  </a:lnTo>
                  <a:lnTo>
                    <a:pt x="1382" y="1013"/>
                  </a:lnTo>
                  <a:lnTo>
                    <a:pt x="1379" y="1002"/>
                  </a:lnTo>
                  <a:lnTo>
                    <a:pt x="1377" y="996"/>
                  </a:lnTo>
                  <a:lnTo>
                    <a:pt x="1320" y="1013"/>
                  </a:lnTo>
                  <a:lnTo>
                    <a:pt x="1297" y="970"/>
                  </a:lnTo>
                  <a:lnTo>
                    <a:pt x="1300" y="969"/>
                  </a:lnTo>
                  <a:lnTo>
                    <a:pt x="1306" y="965"/>
                  </a:lnTo>
                  <a:lnTo>
                    <a:pt x="1315" y="962"/>
                  </a:lnTo>
                  <a:lnTo>
                    <a:pt x="1324" y="957"/>
                  </a:lnTo>
                  <a:lnTo>
                    <a:pt x="1331" y="952"/>
                  </a:lnTo>
                  <a:lnTo>
                    <a:pt x="1337" y="946"/>
                  </a:lnTo>
                  <a:lnTo>
                    <a:pt x="1341" y="941"/>
                  </a:lnTo>
                  <a:lnTo>
                    <a:pt x="1342" y="937"/>
                  </a:lnTo>
                  <a:lnTo>
                    <a:pt x="1337" y="927"/>
                  </a:lnTo>
                  <a:lnTo>
                    <a:pt x="1330" y="918"/>
                  </a:lnTo>
                  <a:lnTo>
                    <a:pt x="1321" y="912"/>
                  </a:lnTo>
                  <a:lnTo>
                    <a:pt x="1313" y="910"/>
                  </a:lnTo>
                  <a:lnTo>
                    <a:pt x="1246" y="1013"/>
                  </a:lnTo>
                  <a:lnTo>
                    <a:pt x="1297" y="970"/>
                  </a:lnTo>
                  <a:lnTo>
                    <a:pt x="1320" y="1013"/>
                  </a:lnTo>
                  <a:lnTo>
                    <a:pt x="1266" y="1038"/>
                  </a:lnTo>
                  <a:lnTo>
                    <a:pt x="1274" y="1056"/>
                  </a:lnTo>
                  <a:lnTo>
                    <a:pt x="1351" y="1119"/>
                  </a:lnTo>
                  <a:lnTo>
                    <a:pt x="1308" y="1135"/>
                  </a:lnTo>
                  <a:lnTo>
                    <a:pt x="1303" y="1131"/>
                  </a:lnTo>
                  <a:lnTo>
                    <a:pt x="1295" y="1123"/>
                  </a:lnTo>
                  <a:lnTo>
                    <a:pt x="1287" y="1109"/>
                  </a:lnTo>
                  <a:lnTo>
                    <a:pt x="1277" y="1095"/>
                  </a:lnTo>
                  <a:lnTo>
                    <a:pt x="1266" y="1079"/>
                  </a:lnTo>
                  <a:lnTo>
                    <a:pt x="1257" y="1066"/>
                  </a:lnTo>
                  <a:lnTo>
                    <a:pt x="1250" y="1056"/>
                  </a:lnTo>
                  <a:lnTo>
                    <a:pt x="1245" y="1053"/>
                  </a:lnTo>
                  <a:lnTo>
                    <a:pt x="1254" y="1179"/>
                  </a:lnTo>
                  <a:lnTo>
                    <a:pt x="1250" y="1157"/>
                  </a:lnTo>
                  <a:lnTo>
                    <a:pt x="1242" y="1123"/>
                  </a:lnTo>
                  <a:lnTo>
                    <a:pt x="1235" y="1087"/>
                  </a:lnTo>
                  <a:lnTo>
                    <a:pt x="1230" y="1061"/>
                  </a:lnTo>
                  <a:lnTo>
                    <a:pt x="1209" y="1063"/>
                  </a:lnTo>
                  <a:lnTo>
                    <a:pt x="1185" y="1083"/>
                  </a:lnTo>
                  <a:lnTo>
                    <a:pt x="1204" y="1045"/>
                  </a:lnTo>
                  <a:lnTo>
                    <a:pt x="1164" y="1039"/>
                  </a:lnTo>
                  <a:lnTo>
                    <a:pt x="1161" y="1017"/>
                  </a:lnTo>
                  <a:lnTo>
                    <a:pt x="1165" y="1017"/>
                  </a:lnTo>
                  <a:lnTo>
                    <a:pt x="1170" y="1018"/>
                  </a:lnTo>
                  <a:lnTo>
                    <a:pt x="1176" y="1019"/>
                  </a:lnTo>
                  <a:lnTo>
                    <a:pt x="1182" y="1021"/>
                  </a:lnTo>
                  <a:lnTo>
                    <a:pt x="1190" y="1022"/>
                  </a:lnTo>
                  <a:lnTo>
                    <a:pt x="1195" y="1023"/>
                  </a:lnTo>
                  <a:lnTo>
                    <a:pt x="1199" y="1024"/>
                  </a:lnTo>
                  <a:lnTo>
                    <a:pt x="1203" y="1026"/>
                  </a:lnTo>
                  <a:lnTo>
                    <a:pt x="1198" y="1023"/>
                  </a:lnTo>
                  <a:lnTo>
                    <a:pt x="1186" y="1017"/>
                  </a:lnTo>
                  <a:lnTo>
                    <a:pt x="1169" y="1007"/>
                  </a:lnTo>
                  <a:lnTo>
                    <a:pt x="1149" y="997"/>
                  </a:lnTo>
                  <a:lnTo>
                    <a:pt x="1128" y="987"/>
                  </a:lnTo>
                  <a:lnTo>
                    <a:pt x="1111" y="979"/>
                  </a:lnTo>
                  <a:lnTo>
                    <a:pt x="1099" y="973"/>
                  </a:lnTo>
                  <a:lnTo>
                    <a:pt x="1094" y="970"/>
                  </a:lnTo>
                  <a:lnTo>
                    <a:pt x="1118" y="931"/>
                  </a:lnTo>
                  <a:lnTo>
                    <a:pt x="1126" y="934"/>
                  </a:lnTo>
                  <a:lnTo>
                    <a:pt x="1138" y="944"/>
                  </a:lnTo>
                  <a:lnTo>
                    <a:pt x="1153" y="955"/>
                  </a:lnTo>
                  <a:lnTo>
                    <a:pt x="1169" y="969"/>
                  </a:lnTo>
                  <a:lnTo>
                    <a:pt x="1185" y="983"/>
                  </a:lnTo>
                  <a:lnTo>
                    <a:pt x="1198" y="994"/>
                  </a:lnTo>
                  <a:lnTo>
                    <a:pt x="1208" y="1001"/>
                  </a:lnTo>
                  <a:lnTo>
                    <a:pt x="1213" y="1003"/>
                  </a:lnTo>
                  <a:lnTo>
                    <a:pt x="1150" y="905"/>
                  </a:lnTo>
                  <a:lnTo>
                    <a:pt x="1208" y="883"/>
                  </a:lnTo>
                  <a:lnTo>
                    <a:pt x="1231" y="1005"/>
                  </a:lnTo>
                  <a:lnTo>
                    <a:pt x="1254" y="884"/>
                  </a:lnTo>
                  <a:lnTo>
                    <a:pt x="1247" y="883"/>
                  </a:lnTo>
                  <a:lnTo>
                    <a:pt x="1240" y="882"/>
                  </a:lnTo>
                  <a:lnTo>
                    <a:pt x="1234" y="882"/>
                  </a:lnTo>
                  <a:lnTo>
                    <a:pt x="1228" y="882"/>
                  </a:lnTo>
                  <a:lnTo>
                    <a:pt x="1223" y="882"/>
                  </a:lnTo>
                  <a:lnTo>
                    <a:pt x="1217" y="882"/>
                  </a:lnTo>
                  <a:lnTo>
                    <a:pt x="1212" y="883"/>
                  </a:lnTo>
                  <a:lnTo>
                    <a:pt x="1208" y="883"/>
                  </a:lnTo>
                  <a:lnTo>
                    <a:pt x="1150" y="905"/>
                  </a:lnTo>
                  <a:lnTo>
                    <a:pt x="1142" y="911"/>
                  </a:lnTo>
                  <a:lnTo>
                    <a:pt x="1131" y="918"/>
                  </a:lnTo>
                  <a:lnTo>
                    <a:pt x="1122" y="926"/>
                  </a:lnTo>
                  <a:lnTo>
                    <a:pt x="1118" y="931"/>
                  </a:lnTo>
                  <a:lnTo>
                    <a:pt x="1094" y="970"/>
                  </a:lnTo>
                  <a:lnTo>
                    <a:pt x="1090" y="978"/>
                  </a:lnTo>
                  <a:lnTo>
                    <a:pt x="1087" y="986"/>
                  </a:lnTo>
                  <a:lnTo>
                    <a:pt x="1085" y="995"/>
                  </a:lnTo>
                  <a:lnTo>
                    <a:pt x="1083" y="1003"/>
                  </a:lnTo>
                  <a:lnTo>
                    <a:pt x="1086" y="1003"/>
                  </a:lnTo>
                  <a:lnTo>
                    <a:pt x="1094" y="1006"/>
                  </a:lnTo>
                  <a:lnTo>
                    <a:pt x="1106" y="1007"/>
                  </a:lnTo>
                  <a:lnTo>
                    <a:pt x="1121" y="1010"/>
                  </a:lnTo>
                  <a:lnTo>
                    <a:pt x="1134" y="1013"/>
                  </a:lnTo>
                  <a:lnTo>
                    <a:pt x="1147" y="1015"/>
                  </a:lnTo>
                  <a:lnTo>
                    <a:pt x="1156" y="1017"/>
                  </a:lnTo>
                  <a:lnTo>
                    <a:pt x="1161" y="1017"/>
                  </a:lnTo>
                  <a:lnTo>
                    <a:pt x="1164" y="1039"/>
                  </a:lnTo>
                  <a:lnTo>
                    <a:pt x="1155" y="1038"/>
                  </a:lnTo>
                  <a:lnTo>
                    <a:pt x="1144" y="1038"/>
                  </a:lnTo>
                  <a:lnTo>
                    <a:pt x="1131" y="1038"/>
                  </a:lnTo>
                  <a:lnTo>
                    <a:pt x="1117" y="1039"/>
                  </a:lnTo>
                  <a:lnTo>
                    <a:pt x="1103" y="1039"/>
                  </a:lnTo>
                  <a:lnTo>
                    <a:pt x="1092" y="1040"/>
                  </a:lnTo>
                  <a:lnTo>
                    <a:pt x="1084" y="1040"/>
                  </a:lnTo>
                  <a:lnTo>
                    <a:pt x="1081" y="1040"/>
                  </a:lnTo>
                  <a:lnTo>
                    <a:pt x="1083" y="1048"/>
                  </a:lnTo>
                  <a:lnTo>
                    <a:pt x="1085" y="1055"/>
                  </a:lnTo>
                  <a:lnTo>
                    <a:pt x="1087" y="1063"/>
                  </a:lnTo>
                  <a:lnTo>
                    <a:pt x="1089" y="1070"/>
                  </a:lnTo>
                  <a:lnTo>
                    <a:pt x="1204" y="1045"/>
                  </a:lnTo>
                  <a:lnTo>
                    <a:pt x="1185" y="1083"/>
                  </a:lnTo>
                  <a:lnTo>
                    <a:pt x="1179" y="1087"/>
                  </a:lnTo>
                  <a:lnTo>
                    <a:pt x="1170" y="1093"/>
                  </a:lnTo>
                  <a:lnTo>
                    <a:pt x="1159" y="1101"/>
                  </a:lnTo>
                  <a:lnTo>
                    <a:pt x="1149" y="1109"/>
                  </a:lnTo>
                  <a:lnTo>
                    <a:pt x="1138" y="1118"/>
                  </a:lnTo>
                  <a:lnTo>
                    <a:pt x="1129" y="1124"/>
                  </a:lnTo>
                  <a:lnTo>
                    <a:pt x="1122" y="1129"/>
                  </a:lnTo>
                  <a:lnTo>
                    <a:pt x="1118" y="1130"/>
                  </a:lnTo>
                  <a:lnTo>
                    <a:pt x="1122" y="1136"/>
                  </a:lnTo>
                  <a:lnTo>
                    <a:pt x="1127" y="1141"/>
                  </a:lnTo>
                  <a:lnTo>
                    <a:pt x="1133" y="1146"/>
                  </a:lnTo>
                  <a:lnTo>
                    <a:pt x="1139" y="1151"/>
                  </a:lnTo>
                  <a:lnTo>
                    <a:pt x="1145" y="1155"/>
                  </a:lnTo>
                  <a:lnTo>
                    <a:pt x="1150" y="1157"/>
                  </a:lnTo>
                  <a:lnTo>
                    <a:pt x="1154" y="1160"/>
                  </a:lnTo>
                  <a:lnTo>
                    <a:pt x="1155" y="1161"/>
                  </a:lnTo>
                  <a:lnTo>
                    <a:pt x="1106" y="1161"/>
                  </a:lnTo>
                  <a:lnTo>
                    <a:pt x="1092" y="1141"/>
                  </a:lnTo>
                  <a:lnTo>
                    <a:pt x="1084" y="1138"/>
                  </a:lnTo>
                  <a:lnTo>
                    <a:pt x="1075" y="1135"/>
                  </a:lnTo>
                  <a:lnTo>
                    <a:pt x="1067" y="1135"/>
                  </a:lnTo>
                  <a:lnTo>
                    <a:pt x="1058" y="1136"/>
                  </a:lnTo>
                  <a:lnTo>
                    <a:pt x="1049" y="1138"/>
                  </a:lnTo>
                  <a:lnTo>
                    <a:pt x="1039" y="1139"/>
                  </a:lnTo>
                  <a:lnTo>
                    <a:pt x="1030" y="1139"/>
                  </a:lnTo>
                  <a:lnTo>
                    <a:pt x="1020" y="1139"/>
                  </a:lnTo>
                  <a:lnTo>
                    <a:pt x="1017" y="1149"/>
                  </a:lnTo>
                  <a:lnTo>
                    <a:pt x="1014" y="1156"/>
                  </a:lnTo>
                  <a:lnTo>
                    <a:pt x="1010" y="1163"/>
                  </a:lnTo>
                  <a:lnTo>
                    <a:pt x="1005" y="1168"/>
                  </a:lnTo>
                  <a:lnTo>
                    <a:pt x="1000" y="1175"/>
                  </a:lnTo>
                  <a:lnTo>
                    <a:pt x="994" y="1179"/>
                  </a:lnTo>
                  <a:lnTo>
                    <a:pt x="988" y="1183"/>
                  </a:lnTo>
                  <a:lnTo>
                    <a:pt x="979" y="1188"/>
                  </a:lnTo>
                  <a:lnTo>
                    <a:pt x="972" y="1186"/>
                  </a:lnTo>
                  <a:lnTo>
                    <a:pt x="966" y="1182"/>
                  </a:lnTo>
                  <a:lnTo>
                    <a:pt x="959" y="1178"/>
                  </a:lnTo>
                  <a:lnTo>
                    <a:pt x="953" y="1176"/>
                  </a:lnTo>
                  <a:lnTo>
                    <a:pt x="929" y="1200"/>
                  </a:lnTo>
                  <a:lnTo>
                    <a:pt x="916" y="1255"/>
                  </a:lnTo>
                  <a:lnTo>
                    <a:pt x="848" y="1255"/>
                  </a:lnTo>
                  <a:lnTo>
                    <a:pt x="838" y="1175"/>
                  </a:lnTo>
                  <a:lnTo>
                    <a:pt x="845" y="1175"/>
                  </a:lnTo>
                  <a:lnTo>
                    <a:pt x="851" y="1175"/>
                  </a:lnTo>
                  <a:lnTo>
                    <a:pt x="856" y="1175"/>
                  </a:lnTo>
                  <a:lnTo>
                    <a:pt x="861" y="1173"/>
                  </a:lnTo>
                  <a:lnTo>
                    <a:pt x="852" y="1047"/>
                  </a:lnTo>
                  <a:lnTo>
                    <a:pt x="855" y="1053"/>
                  </a:lnTo>
                  <a:lnTo>
                    <a:pt x="860" y="1066"/>
                  </a:lnTo>
                  <a:lnTo>
                    <a:pt x="866" y="1085"/>
                  </a:lnTo>
                  <a:lnTo>
                    <a:pt x="875" y="1106"/>
                  </a:lnTo>
                  <a:lnTo>
                    <a:pt x="882" y="1125"/>
                  </a:lnTo>
                  <a:lnTo>
                    <a:pt x="891" y="1144"/>
                  </a:lnTo>
                  <a:lnTo>
                    <a:pt x="895" y="1156"/>
                  </a:lnTo>
                  <a:lnTo>
                    <a:pt x="899" y="1162"/>
                  </a:lnTo>
                  <a:lnTo>
                    <a:pt x="905" y="1157"/>
                  </a:lnTo>
                  <a:lnTo>
                    <a:pt x="914" y="1152"/>
                  </a:lnTo>
                  <a:lnTo>
                    <a:pt x="921" y="1149"/>
                  </a:lnTo>
                  <a:lnTo>
                    <a:pt x="924" y="1147"/>
                  </a:lnTo>
                  <a:lnTo>
                    <a:pt x="923" y="1141"/>
                  </a:lnTo>
                  <a:lnTo>
                    <a:pt x="920" y="1136"/>
                  </a:lnTo>
                  <a:lnTo>
                    <a:pt x="916" y="1131"/>
                  </a:lnTo>
                  <a:lnTo>
                    <a:pt x="914" y="1130"/>
                  </a:lnTo>
                  <a:lnTo>
                    <a:pt x="958" y="1114"/>
                  </a:lnTo>
                  <a:lnTo>
                    <a:pt x="963" y="1108"/>
                  </a:lnTo>
                  <a:lnTo>
                    <a:pt x="969" y="1098"/>
                  </a:lnTo>
                  <a:lnTo>
                    <a:pt x="975" y="1088"/>
                  </a:lnTo>
                  <a:lnTo>
                    <a:pt x="978" y="1082"/>
                  </a:lnTo>
                  <a:lnTo>
                    <a:pt x="972" y="1080"/>
                  </a:lnTo>
                  <a:lnTo>
                    <a:pt x="961" y="1076"/>
                  </a:lnTo>
                  <a:lnTo>
                    <a:pt x="946" y="1071"/>
                  </a:lnTo>
                  <a:lnTo>
                    <a:pt x="930" y="1065"/>
                  </a:lnTo>
                  <a:lnTo>
                    <a:pt x="915" y="1060"/>
                  </a:lnTo>
                  <a:lnTo>
                    <a:pt x="900" y="1056"/>
                  </a:lnTo>
                  <a:lnTo>
                    <a:pt x="889" y="1053"/>
                  </a:lnTo>
                  <a:lnTo>
                    <a:pt x="882" y="1051"/>
                  </a:lnTo>
                  <a:lnTo>
                    <a:pt x="873" y="1033"/>
                  </a:lnTo>
                  <a:lnTo>
                    <a:pt x="883" y="1032"/>
                  </a:lnTo>
                  <a:lnTo>
                    <a:pt x="899" y="1032"/>
                  </a:lnTo>
                  <a:lnTo>
                    <a:pt x="919" y="1031"/>
                  </a:lnTo>
                  <a:lnTo>
                    <a:pt x="940" y="1029"/>
                  </a:lnTo>
                  <a:lnTo>
                    <a:pt x="959" y="1028"/>
                  </a:lnTo>
                  <a:lnTo>
                    <a:pt x="978" y="1028"/>
                  </a:lnTo>
                  <a:lnTo>
                    <a:pt x="989" y="1027"/>
                  </a:lnTo>
                  <a:lnTo>
                    <a:pt x="994" y="1027"/>
                  </a:lnTo>
                  <a:lnTo>
                    <a:pt x="993" y="1019"/>
                  </a:lnTo>
                  <a:lnTo>
                    <a:pt x="989" y="1008"/>
                  </a:lnTo>
                  <a:lnTo>
                    <a:pt x="985" y="997"/>
                  </a:lnTo>
                  <a:lnTo>
                    <a:pt x="983" y="991"/>
                  </a:lnTo>
                  <a:lnTo>
                    <a:pt x="927" y="1007"/>
                  </a:lnTo>
                  <a:lnTo>
                    <a:pt x="903" y="965"/>
                  </a:lnTo>
                  <a:lnTo>
                    <a:pt x="907" y="964"/>
                  </a:lnTo>
                  <a:lnTo>
                    <a:pt x="913" y="960"/>
                  </a:lnTo>
                  <a:lnTo>
                    <a:pt x="921" y="955"/>
                  </a:lnTo>
                  <a:lnTo>
                    <a:pt x="930" y="951"/>
                  </a:lnTo>
                  <a:lnTo>
                    <a:pt x="937" y="946"/>
                  </a:lnTo>
                  <a:lnTo>
                    <a:pt x="945" y="941"/>
                  </a:lnTo>
                  <a:lnTo>
                    <a:pt x="948" y="936"/>
                  </a:lnTo>
                  <a:lnTo>
                    <a:pt x="950" y="932"/>
                  </a:lnTo>
                  <a:lnTo>
                    <a:pt x="945" y="922"/>
                  </a:lnTo>
                  <a:lnTo>
                    <a:pt x="937" y="914"/>
                  </a:lnTo>
                  <a:lnTo>
                    <a:pt x="929" y="907"/>
                  </a:lnTo>
                  <a:lnTo>
                    <a:pt x="919" y="905"/>
                  </a:lnTo>
                  <a:lnTo>
                    <a:pt x="854" y="1007"/>
                  </a:lnTo>
                  <a:lnTo>
                    <a:pt x="903" y="965"/>
                  </a:lnTo>
                  <a:lnTo>
                    <a:pt x="927" y="1007"/>
                  </a:lnTo>
                  <a:lnTo>
                    <a:pt x="873" y="1033"/>
                  </a:lnTo>
                  <a:lnTo>
                    <a:pt x="882" y="1051"/>
                  </a:lnTo>
                  <a:lnTo>
                    <a:pt x="958" y="1114"/>
                  </a:lnTo>
                  <a:lnTo>
                    <a:pt x="914" y="1130"/>
                  </a:lnTo>
                  <a:lnTo>
                    <a:pt x="910" y="1127"/>
                  </a:lnTo>
                  <a:lnTo>
                    <a:pt x="903" y="1118"/>
                  </a:lnTo>
                  <a:lnTo>
                    <a:pt x="894" y="1104"/>
                  </a:lnTo>
                  <a:lnTo>
                    <a:pt x="883" y="1088"/>
                  </a:lnTo>
                  <a:lnTo>
                    <a:pt x="873" y="1074"/>
                  </a:lnTo>
                  <a:lnTo>
                    <a:pt x="865" y="1060"/>
                  </a:lnTo>
                  <a:lnTo>
                    <a:pt x="857" y="1050"/>
                  </a:lnTo>
                  <a:lnTo>
                    <a:pt x="852" y="1047"/>
                  </a:lnTo>
                  <a:lnTo>
                    <a:pt x="861" y="1173"/>
                  </a:lnTo>
                  <a:lnTo>
                    <a:pt x="857" y="1152"/>
                  </a:lnTo>
                  <a:lnTo>
                    <a:pt x="850" y="1118"/>
                  </a:lnTo>
                  <a:lnTo>
                    <a:pt x="843" y="1081"/>
                  </a:lnTo>
                  <a:lnTo>
                    <a:pt x="836" y="1055"/>
                  </a:lnTo>
                  <a:lnTo>
                    <a:pt x="817" y="1058"/>
                  </a:lnTo>
                  <a:lnTo>
                    <a:pt x="792" y="1077"/>
                  </a:lnTo>
                  <a:lnTo>
                    <a:pt x="811" y="1040"/>
                  </a:lnTo>
                  <a:lnTo>
                    <a:pt x="770" y="1034"/>
                  </a:lnTo>
                  <a:lnTo>
                    <a:pt x="769" y="1012"/>
                  </a:lnTo>
                  <a:lnTo>
                    <a:pt x="772" y="1012"/>
                  </a:lnTo>
                  <a:lnTo>
                    <a:pt x="777" y="1013"/>
                  </a:lnTo>
                  <a:lnTo>
                    <a:pt x="782" y="1015"/>
                  </a:lnTo>
                  <a:lnTo>
                    <a:pt x="790" y="1016"/>
                  </a:lnTo>
                  <a:lnTo>
                    <a:pt x="796" y="1017"/>
                  </a:lnTo>
                  <a:lnTo>
                    <a:pt x="801" y="1018"/>
                  </a:lnTo>
                  <a:lnTo>
                    <a:pt x="806" y="1019"/>
                  </a:lnTo>
                  <a:lnTo>
                    <a:pt x="809" y="1021"/>
                  </a:lnTo>
                  <a:lnTo>
                    <a:pt x="804" y="1017"/>
                  </a:lnTo>
                  <a:lnTo>
                    <a:pt x="792" y="1011"/>
                  </a:lnTo>
                  <a:lnTo>
                    <a:pt x="775" y="1002"/>
                  </a:lnTo>
                  <a:lnTo>
                    <a:pt x="755" y="992"/>
                  </a:lnTo>
                  <a:lnTo>
                    <a:pt x="734" y="983"/>
                  </a:lnTo>
                  <a:lnTo>
                    <a:pt x="717" y="974"/>
                  </a:lnTo>
                  <a:lnTo>
                    <a:pt x="705" y="968"/>
                  </a:lnTo>
                  <a:lnTo>
                    <a:pt x="700" y="965"/>
                  </a:lnTo>
                  <a:lnTo>
                    <a:pt x="726" y="926"/>
                  </a:lnTo>
                  <a:lnTo>
                    <a:pt x="733" y="930"/>
                  </a:lnTo>
                  <a:lnTo>
                    <a:pt x="744" y="939"/>
                  </a:lnTo>
                  <a:lnTo>
                    <a:pt x="759" y="951"/>
                  </a:lnTo>
                  <a:lnTo>
                    <a:pt x="776" y="964"/>
                  </a:lnTo>
                  <a:lnTo>
                    <a:pt x="792" y="978"/>
                  </a:lnTo>
                  <a:lnTo>
                    <a:pt x="806" y="989"/>
                  </a:lnTo>
                  <a:lnTo>
                    <a:pt x="816" y="996"/>
                  </a:lnTo>
                  <a:lnTo>
                    <a:pt x="819" y="999"/>
                  </a:lnTo>
                  <a:lnTo>
                    <a:pt x="758" y="900"/>
                  </a:lnTo>
                  <a:lnTo>
                    <a:pt x="814" y="878"/>
                  </a:lnTo>
                  <a:lnTo>
                    <a:pt x="838" y="1000"/>
                  </a:lnTo>
                  <a:lnTo>
                    <a:pt x="860" y="878"/>
                  </a:lnTo>
                  <a:lnTo>
                    <a:pt x="854" y="877"/>
                  </a:lnTo>
                  <a:lnTo>
                    <a:pt x="848" y="877"/>
                  </a:lnTo>
                  <a:lnTo>
                    <a:pt x="841" y="875"/>
                  </a:lnTo>
                  <a:lnTo>
                    <a:pt x="835" y="875"/>
                  </a:lnTo>
                  <a:lnTo>
                    <a:pt x="829" y="877"/>
                  </a:lnTo>
                  <a:lnTo>
                    <a:pt x="824" y="877"/>
                  </a:lnTo>
                  <a:lnTo>
                    <a:pt x="819" y="878"/>
                  </a:lnTo>
                  <a:lnTo>
                    <a:pt x="814" y="878"/>
                  </a:lnTo>
                  <a:lnTo>
                    <a:pt x="758" y="900"/>
                  </a:lnTo>
                  <a:lnTo>
                    <a:pt x="749" y="906"/>
                  </a:lnTo>
                  <a:lnTo>
                    <a:pt x="738" y="914"/>
                  </a:lnTo>
                  <a:lnTo>
                    <a:pt x="729" y="921"/>
                  </a:lnTo>
                  <a:lnTo>
                    <a:pt x="726" y="926"/>
                  </a:lnTo>
                  <a:lnTo>
                    <a:pt x="700" y="965"/>
                  </a:lnTo>
                  <a:lnTo>
                    <a:pt x="697" y="971"/>
                  </a:lnTo>
                  <a:lnTo>
                    <a:pt x="695" y="980"/>
                  </a:lnTo>
                  <a:lnTo>
                    <a:pt x="692" y="990"/>
                  </a:lnTo>
                  <a:lnTo>
                    <a:pt x="690" y="999"/>
                  </a:lnTo>
                  <a:lnTo>
                    <a:pt x="694" y="999"/>
                  </a:lnTo>
                  <a:lnTo>
                    <a:pt x="701" y="1001"/>
                  </a:lnTo>
                  <a:lnTo>
                    <a:pt x="713" y="1002"/>
                  </a:lnTo>
                  <a:lnTo>
                    <a:pt x="728" y="1005"/>
                  </a:lnTo>
                  <a:lnTo>
                    <a:pt x="742" y="1008"/>
                  </a:lnTo>
                  <a:lnTo>
                    <a:pt x="754" y="1010"/>
                  </a:lnTo>
                  <a:lnTo>
                    <a:pt x="764" y="1012"/>
                  </a:lnTo>
                  <a:lnTo>
                    <a:pt x="769" y="1012"/>
                  </a:lnTo>
                  <a:lnTo>
                    <a:pt x="770" y="1034"/>
                  </a:lnTo>
                  <a:lnTo>
                    <a:pt x="763" y="1033"/>
                  </a:lnTo>
                  <a:lnTo>
                    <a:pt x="750" y="1033"/>
                  </a:lnTo>
                  <a:lnTo>
                    <a:pt x="738" y="1033"/>
                  </a:lnTo>
                  <a:lnTo>
                    <a:pt x="723" y="1034"/>
                  </a:lnTo>
                  <a:lnTo>
                    <a:pt x="710" y="1034"/>
                  </a:lnTo>
                  <a:lnTo>
                    <a:pt x="699" y="1035"/>
                  </a:lnTo>
                  <a:lnTo>
                    <a:pt x="690" y="1035"/>
                  </a:lnTo>
                  <a:lnTo>
                    <a:pt x="688" y="1035"/>
                  </a:lnTo>
                  <a:lnTo>
                    <a:pt x="689" y="1043"/>
                  </a:lnTo>
                  <a:lnTo>
                    <a:pt x="691" y="1050"/>
                  </a:lnTo>
                  <a:lnTo>
                    <a:pt x="694" y="1058"/>
                  </a:lnTo>
                  <a:lnTo>
                    <a:pt x="695" y="1065"/>
                  </a:lnTo>
                  <a:lnTo>
                    <a:pt x="811" y="1040"/>
                  </a:lnTo>
                  <a:lnTo>
                    <a:pt x="792" y="1077"/>
                  </a:lnTo>
                  <a:lnTo>
                    <a:pt x="785" y="1081"/>
                  </a:lnTo>
                  <a:lnTo>
                    <a:pt x="776" y="1087"/>
                  </a:lnTo>
                  <a:lnTo>
                    <a:pt x="766" y="1096"/>
                  </a:lnTo>
                  <a:lnTo>
                    <a:pt x="755" y="1104"/>
                  </a:lnTo>
                  <a:lnTo>
                    <a:pt x="745" y="1112"/>
                  </a:lnTo>
                  <a:lnTo>
                    <a:pt x="736" y="1119"/>
                  </a:lnTo>
                  <a:lnTo>
                    <a:pt x="729" y="1124"/>
                  </a:lnTo>
                  <a:lnTo>
                    <a:pt x="726" y="1125"/>
                  </a:lnTo>
                  <a:lnTo>
                    <a:pt x="729" y="1131"/>
                  </a:lnTo>
                  <a:lnTo>
                    <a:pt x="734" y="1136"/>
                  </a:lnTo>
                  <a:lnTo>
                    <a:pt x="740" y="1141"/>
                  </a:lnTo>
                  <a:lnTo>
                    <a:pt x="747" y="1146"/>
                  </a:lnTo>
                  <a:lnTo>
                    <a:pt x="753" y="1150"/>
                  </a:lnTo>
                  <a:lnTo>
                    <a:pt x="758" y="1152"/>
                  </a:lnTo>
                  <a:lnTo>
                    <a:pt x="761" y="1155"/>
                  </a:lnTo>
                  <a:lnTo>
                    <a:pt x="763" y="1156"/>
                  </a:lnTo>
                  <a:lnTo>
                    <a:pt x="766" y="1154"/>
                  </a:lnTo>
                  <a:lnTo>
                    <a:pt x="774" y="1145"/>
                  </a:lnTo>
                  <a:lnTo>
                    <a:pt x="781" y="1130"/>
                  </a:lnTo>
                  <a:lnTo>
                    <a:pt x="790" y="1113"/>
                  </a:lnTo>
                  <a:lnTo>
                    <a:pt x="798" y="1096"/>
                  </a:lnTo>
                  <a:lnTo>
                    <a:pt x="806" y="1079"/>
                  </a:lnTo>
                  <a:lnTo>
                    <a:pt x="813" y="1065"/>
                  </a:lnTo>
                  <a:lnTo>
                    <a:pt x="817" y="1058"/>
                  </a:lnTo>
                  <a:lnTo>
                    <a:pt x="836" y="1055"/>
                  </a:lnTo>
                  <a:lnTo>
                    <a:pt x="833" y="1076"/>
                  </a:lnTo>
                  <a:lnTo>
                    <a:pt x="827" y="1114"/>
                  </a:lnTo>
                  <a:lnTo>
                    <a:pt x="820" y="1152"/>
                  </a:lnTo>
                  <a:lnTo>
                    <a:pt x="819" y="1173"/>
                  </a:lnTo>
                  <a:lnTo>
                    <a:pt x="824" y="1173"/>
                  </a:lnTo>
                  <a:lnTo>
                    <a:pt x="829" y="1173"/>
                  </a:lnTo>
                  <a:lnTo>
                    <a:pt x="833" y="1175"/>
                  </a:lnTo>
                  <a:lnTo>
                    <a:pt x="838" y="1175"/>
                  </a:lnTo>
                  <a:lnTo>
                    <a:pt x="848" y="1255"/>
                  </a:lnTo>
                  <a:lnTo>
                    <a:pt x="797" y="1255"/>
                  </a:lnTo>
                  <a:lnTo>
                    <a:pt x="749" y="1200"/>
                  </a:lnTo>
                  <a:lnTo>
                    <a:pt x="747" y="1199"/>
                  </a:lnTo>
                  <a:lnTo>
                    <a:pt x="742" y="1194"/>
                  </a:lnTo>
                  <a:lnTo>
                    <a:pt x="734" y="1188"/>
                  </a:lnTo>
                  <a:lnTo>
                    <a:pt x="724" y="1178"/>
                  </a:lnTo>
                  <a:lnTo>
                    <a:pt x="715" y="1168"/>
                  </a:lnTo>
                  <a:lnTo>
                    <a:pt x="705" y="1156"/>
                  </a:lnTo>
                  <a:lnTo>
                    <a:pt x="697" y="1144"/>
                  </a:lnTo>
                  <a:lnTo>
                    <a:pt x="691" y="1130"/>
                  </a:lnTo>
                  <a:lnTo>
                    <a:pt x="685" y="1136"/>
                  </a:lnTo>
                  <a:lnTo>
                    <a:pt x="683" y="1144"/>
                  </a:lnTo>
                  <a:lnTo>
                    <a:pt x="680" y="1154"/>
                  </a:lnTo>
                  <a:lnTo>
                    <a:pt x="678" y="1161"/>
                  </a:lnTo>
                  <a:lnTo>
                    <a:pt x="669" y="1165"/>
                  </a:lnTo>
                  <a:lnTo>
                    <a:pt x="651" y="1167"/>
                  </a:lnTo>
                  <a:lnTo>
                    <a:pt x="625" y="1168"/>
                  </a:lnTo>
                  <a:lnTo>
                    <a:pt x="595" y="1170"/>
                  </a:lnTo>
                  <a:lnTo>
                    <a:pt x="563" y="1171"/>
                  </a:lnTo>
                  <a:lnTo>
                    <a:pt x="531" y="1171"/>
                  </a:lnTo>
                  <a:lnTo>
                    <a:pt x="504" y="1171"/>
                  </a:lnTo>
                  <a:lnTo>
                    <a:pt x="482" y="1171"/>
                  </a:lnTo>
                  <a:lnTo>
                    <a:pt x="475" y="1179"/>
                  </a:lnTo>
                  <a:lnTo>
                    <a:pt x="467" y="1187"/>
                  </a:lnTo>
                  <a:lnTo>
                    <a:pt x="459" y="1194"/>
                  </a:lnTo>
                  <a:lnTo>
                    <a:pt x="450" y="1200"/>
                  </a:lnTo>
                  <a:lnTo>
                    <a:pt x="749" y="1200"/>
                  </a:lnTo>
                  <a:lnTo>
                    <a:pt x="797" y="1255"/>
                  </a:lnTo>
                  <a:lnTo>
                    <a:pt x="779" y="1255"/>
                  </a:lnTo>
                  <a:lnTo>
                    <a:pt x="747" y="1256"/>
                  </a:lnTo>
                  <a:lnTo>
                    <a:pt x="704" y="1256"/>
                  </a:lnTo>
                  <a:lnTo>
                    <a:pt x="651" y="1256"/>
                  </a:lnTo>
                  <a:lnTo>
                    <a:pt x="590" y="1256"/>
                  </a:lnTo>
                  <a:lnTo>
                    <a:pt x="525" y="1256"/>
                  </a:lnTo>
                  <a:lnTo>
                    <a:pt x="456" y="1256"/>
                  </a:lnTo>
                  <a:lnTo>
                    <a:pt x="386" y="1256"/>
                  </a:lnTo>
                  <a:lnTo>
                    <a:pt x="316" y="1256"/>
                  </a:lnTo>
                  <a:lnTo>
                    <a:pt x="249" y="1256"/>
                  </a:lnTo>
                  <a:lnTo>
                    <a:pt x="187" y="1255"/>
                  </a:lnTo>
                  <a:lnTo>
                    <a:pt x="131" y="1255"/>
                  </a:lnTo>
                  <a:lnTo>
                    <a:pt x="85" y="1255"/>
                  </a:lnTo>
                  <a:lnTo>
                    <a:pt x="49" y="1255"/>
                  </a:lnTo>
                  <a:lnTo>
                    <a:pt x="27" y="1255"/>
                  </a:lnTo>
                  <a:lnTo>
                    <a:pt x="18" y="1255"/>
                  </a:lnTo>
                  <a:lnTo>
                    <a:pt x="18" y="1200"/>
                  </a:lnTo>
                  <a:lnTo>
                    <a:pt x="268" y="1200"/>
                  </a:lnTo>
                  <a:lnTo>
                    <a:pt x="259" y="1192"/>
                  </a:lnTo>
                  <a:lnTo>
                    <a:pt x="252" y="1183"/>
                  </a:lnTo>
                  <a:lnTo>
                    <a:pt x="243" y="1175"/>
                  </a:lnTo>
                  <a:lnTo>
                    <a:pt x="236" y="1166"/>
                  </a:lnTo>
                  <a:lnTo>
                    <a:pt x="229" y="1157"/>
                  </a:lnTo>
                  <a:lnTo>
                    <a:pt x="222" y="1147"/>
                  </a:lnTo>
                  <a:lnTo>
                    <a:pt x="216" y="1138"/>
                  </a:lnTo>
                  <a:lnTo>
                    <a:pt x="213" y="1128"/>
                  </a:lnTo>
                  <a:lnTo>
                    <a:pt x="200" y="1102"/>
                  </a:lnTo>
                  <a:lnTo>
                    <a:pt x="194" y="1071"/>
                  </a:lnTo>
                  <a:lnTo>
                    <a:pt x="190" y="1040"/>
                  </a:lnTo>
                  <a:lnTo>
                    <a:pt x="188" y="1017"/>
                  </a:lnTo>
                  <a:lnTo>
                    <a:pt x="222" y="1007"/>
                  </a:lnTo>
                  <a:lnTo>
                    <a:pt x="225" y="1016"/>
                  </a:lnTo>
                  <a:lnTo>
                    <a:pt x="226" y="1042"/>
                  </a:lnTo>
                  <a:lnTo>
                    <a:pt x="226" y="1048"/>
                  </a:lnTo>
                  <a:lnTo>
                    <a:pt x="229" y="1055"/>
                  </a:lnTo>
                  <a:lnTo>
                    <a:pt x="231" y="1061"/>
                  </a:lnTo>
                  <a:lnTo>
                    <a:pt x="233" y="1066"/>
                  </a:lnTo>
                  <a:lnTo>
                    <a:pt x="240" y="1065"/>
                  </a:lnTo>
                  <a:lnTo>
                    <a:pt x="247" y="1064"/>
                  </a:lnTo>
                  <a:lnTo>
                    <a:pt x="256" y="1061"/>
                  </a:lnTo>
                  <a:lnTo>
                    <a:pt x="264" y="1059"/>
                  </a:lnTo>
                  <a:lnTo>
                    <a:pt x="272" y="1056"/>
                  </a:lnTo>
                  <a:lnTo>
                    <a:pt x="279" y="1054"/>
                  </a:lnTo>
                  <a:lnTo>
                    <a:pt x="285" y="1051"/>
                  </a:lnTo>
                  <a:lnTo>
                    <a:pt x="289" y="1048"/>
                  </a:lnTo>
                  <a:lnTo>
                    <a:pt x="305" y="1077"/>
                  </a:lnTo>
                  <a:lnTo>
                    <a:pt x="297" y="1079"/>
                  </a:lnTo>
                  <a:lnTo>
                    <a:pt x="289" y="1080"/>
                  </a:lnTo>
                  <a:lnTo>
                    <a:pt x="280" y="1081"/>
                  </a:lnTo>
                  <a:lnTo>
                    <a:pt x="272" y="1083"/>
                  </a:lnTo>
                  <a:lnTo>
                    <a:pt x="262" y="1086"/>
                  </a:lnTo>
                  <a:lnTo>
                    <a:pt x="254" y="1088"/>
                  </a:lnTo>
                  <a:lnTo>
                    <a:pt x="246" y="1091"/>
                  </a:lnTo>
                  <a:lnTo>
                    <a:pt x="238" y="1093"/>
                  </a:lnTo>
                  <a:lnTo>
                    <a:pt x="240" y="1102"/>
                  </a:lnTo>
                  <a:lnTo>
                    <a:pt x="242" y="1109"/>
                  </a:lnTo>
                  <a:lnTo>
                    <a:pt x="245" y="1115"/>
                  </a:lnTo>
                  <a:lnTo>
                    <a:pt x="251" y="1122"/>
                  </a:lnTo>
                  <a:lnTo>
                    <a:pt x="267" y="1146"/>
                  </a:lnTo>
                  <a:lnTo>
                    <a:pt x="270" y="1151"/>
                  </a:lnTo>
                  <a:lnTo>
                    <a:pt x="279" y="1159"/>
                  </a:lnTo>
                  <a:lnTo>
                    <a:pt x="290" y="1166"/>
                  </a:lnTo>
                  <a:lnTo>
                    <a:pt x="300" y="1173"/>
                  </a:lnTo>
                  <a:lnTo>
                    <a:pt x="342" y="1191"/>
                  </a:lnTo>
                  <a:lnTo>
                    <a:pt x="347" y="1191"/>
                  </a:lnTo>
                  <a:lnTo>
                    <a:pt x="352" y="1191"/>
                  </a:lnTo>
                  <a:lnTo>
                    <a:pt x="358" y="1191"/>
                  </a:lnTo>
                  <a:lnTo>
                    <a:pt x="364" y="1191"/>
                  </a:lnTo>
                  <a:lnTo>
                    <a:pt x="370" y="1189"/>
                  </a:lnTo>
                  <a:lnTo>
                    <a:pt x="376" y="1188"/>
                  </a:lnTo>
                  <a:lnTo>
                    <a:pt x="380" y="1186"/>
                  </a:lnTo>
                  <a:lnTo>
                    <a:pt x="382" y="1182"/>
                  </a:lnTo>
                  <a:lnTo>
                    <a:pt x="377" y="1173"/>
                  </a:lnTo>
                  <a:lnTo>
                    <a:pt x="371" y="1165"/>
                  </a:lnTo>
                  <a:lnTo>
                    <a:pt x="364" y="1159"/>
                  </a:lnTo>
                  <a:lnTo>
                    <a:pt x="357" y="1152"/>
                  </a:lnTo>
                  <a:lnTo>
                    <a:pt x="353" y="1161"/>
                  </a:lnTo>
                  <a:lnTo>
                    <a:pt x="348" y="1173"/>
                  </a:lnTo>
                  <a:lnTo>
                    <a:pt x="344" y="1186"/>
                  </a:lnTo>
                  <a:lnTo>
                    <a:pt x="342" y="1191"/>
                  </a:lnTo>
                  <a:lnTo>
                    <a:pt x="300" y="1173"/>
                  </a:lnTo>
                  <a:lnTo>
                    <a:pt x="307" y="1157"/>
                  </a:lnTo>
                  <a:lnTo>
                    <a:pt x="317" y="1140"/>
                  </a:lnTo>
                  <a:lnTo>
                    <a:pt x="323" y="1122"/>
                  </a:lnTo>
                  <a:lnTo>
                    <a:pt x="326" y="1104"/>
                  </a:lnTo>
                  <a:lnTo>
                    <a:pt x="318" y="1108"/>
                  </a:lnTo>
                  <a:lnTo>
                    <a:pt x="310" y="1114"/>
                  </a:lnTo>
                  <a:lnTo>
                    <a:pt x="301" y="1120"/>
                  </a:lnTo>
                  <a:lnTo>
                    <a:pt x="291" y="1128"/>
                  </a:lnTo>
                  <a:lnTo>
                    <a:pt x="281" y="1134"/>
                  </a:lnTo>
                  <a:lnTo>
                    <a:pt x="274" y="1140"/>
                  </a:lnTo>
                  <a:lnTo>
                    <a:pt x="269" y="1144"/>
                  </a:lnTo>
                  <a:lnTo>
                    <a:pt x="267" y="1146"/>
                  </a:lnTo>
                  <a:lnTo>
                    <a:pt x="251" y="1122"/>
                  </a:lnTo>
                  <a:lnTo>
                    <a:pt x="257" y="1117"/>
                  </a:lnTo>
                  <a:lnTo>
                    <a:pt x="263" y="1113"/>
                  </a:lnTo>
                  <a:lnTo>
                    <a:pt x="270" y="1108"/>
                  </a:lnTo>
                  <a:lnTo>
                    <a:pt x="278" y="1103"/>
                  </a:lnTo>
                  <a:lnTo>
                    <a:pt x="285" y="1098"/>
                  </a:lnTo>
                  <a:lnTo>
                    <a:pt x="293" y="1092"/>
                  </a:lnTo>
                  <a:lnTo>
                    <a:pt x="299" y="1087"/>
                  </a:lnTo>
                  <a:lnTo>
                    <a:pt x="305" y="1082"/>
                  </a:lnTo>
                  <a:lnTo>
                    <a:pt x="305" y="1077"/>
                  </a:lnTo>
                  <a:lnTo>
                    <a:pt x="289" y="1048"/>
                  </a:lnTo>
                  <a:lnTo>
                    <a:pt x="283" y="1047"/>
                  </a:lnTo>
                  <a:lnTo>
                    <a:pt x="275" y="1044"/>
                  </a:lnTo>
                  <a:lnTo>
                    <a:pt x="267" y="1043"/>
                  </a:lnTo>
                  <a:lnTo>
                    <a:pt x="258" y="1042"/>
                  </a:lnTo>
                  <a:lnTo>
                    <a:pt x="248" y="1042"/>
                  </a:lnTo>
                  <a:lnTo>
                    <a:pt x="240" y="1040"/>
                  </a:lnTo>
                  <a:lnTo>
                    <a:pt x="232" y="1040"/>
                  </a:lnTo>
                  <a:lnTo>
                    <a:pt x="226" y="1042"/>
                  </a:lnTo>
                  <a:lnTo>
                    <a:pt x="225" y="1016"/>
                  </a:lnTo>
                  <a:lnTo>
                    <a:pt x="230" y="1017"/>
                  </a:lnTo>
                  <a:lnTo>
                    <a:pt x="238" y="1016"/>
                  </a:lnTo>
                  <a:lnTo>
                    <a:pt x="248" y="1013"/>
                  </a:lnTo>
                  <a:lnTo>
                    <a:pt x="258" y="1010"/>
                  </a:lnTo>
                  <a:lnTo>
                    <a:pt x="268" y="1006"/>
                  </a:lnTo>
                  <a:lnTo>
                    <a:pt x="277" y="1001"/>
                  </a:lnTo>
                  <a:lnTo>
                    <a:pt x="283" y="997"/>
                  </a:lnTo>
                  <a:lnTo>
                    <a:pt x="285" y="994"/>
                  </a:lnTo>
                  <a:lnTo>
                    <a:pt x="222" y="996"/>
                  </a:lnTo>
                  <a:lnTo>
                    <a:pt x="222" y="1007"/>
                  </a:lnTo>
                  <a:lnTo>
                    <a:pt x="188" y="1017"/>
                  </a:lnTo>
                  <a:lnTo>
                    <a:pt x="161" y="1016"/>
                  </a:lnTo>
                  <a:lnTo>
                    <a:pt x="154" y="1024"/>
                  </a:lnTo>
                  <a:lnTo>
                    <a:pt x="142" y="1031"/>
                  </a:lnTo>
                  <a:lnTo>
                    <a:pt x="131" y="1034"/>
                  </a:lnTo>
                  <a:lnTo>
                    <a:pt x="126" y="1035"/>
                  </a:lnTo>
                  <a:lnTo>
                    <a:pt x="129" y="1128"/>
                  </a:lnTo>
                  <a:lnTo>
                    <a:pt x="92" y="1131"/>
                  </a:lnTo>
                  <a:lnTo>
                    <a:pt x="92" y="1112"/>
                  </a:lnTo>
                  <a:lnTo>
                    <a:pt x="91" y="1070"/>
                  </a:lnTo>
                  <a:lnTo>
                    <a:pt x="90" y="1026"/>
                  </a:lnTo>
                  <a:lnTo>
                    <a:pt x="91" y="1005"/>
                  </a:lnTo>
                  <a:lnTo>
                    <a:pt x="101" y="999"/>
                  </a:lnTo>
                  <a:lnTo>
                    <a:pt x="108" y="991"/>
                  </a:lnTo>
                  <a:lnTo>
                    <a:pt x="114" y="981"/>
                  </a:lnTo>
                  <a:lnTo>
                    <a:pt x="114" y="970"/>
                  </a:lnTo>
                  <a:lnTo>
                    <a:pt x="115" y="900"/>
                  </a:lnTo>
                  <a:lnTo>
                    <a:pt x="117" y="742"/>
                  </a:lnTo>
                  <a:lnTo>
                    <a:pt x="117" y="579"/>
                  </a:lnTo>
                  <a:lnTo>
                    <a:pt x="114" y="490"/>
                  </a:lnTo>
                  <a:lnTo>
                    <a:pt x="171" y="485"/>
                  </a:lnTo>
                  <a:lnTo>
                    <a:pt x="168" y="523"/>
                  </a:lnTo>
                  <a:lnTo>
                    <a:pt x="170" y="574"/>
                  </a:lnTo>
                  <a:lnTo>
                    <a:pt x="172" y="618"/>
                  </a:lnTo>
                  <a:lnTo>
                    <a:pt x="173" y="637"/>
                  </a:lnTo>
                  <a:lnTo>
                    <a:pt x="183" y="638"/>
                  </a:lnTo>
                  <a:lnTo>
                    <a:pt x="194" y="638"/>
                  </a:lnTo>
                  <a:lnTo>
                    <a:pt x="204" y="638"/>
                  </a:lnTo>
                  <a:lnTo>
                    <a:pt x="214" y="638"/>
                  </a:lnTo>
                  <a:lnTo>
                    <a:pt x="224" y="637"/>
                  </a:lnTo>
                  <a:lnTo>
                    <a:pt x="233" y="637"/>
                  </a:lnTo>
                  <a:lnTo>
                    <a:pt x="245" y="637"/>
                  </a:lnTo>
                  <a:lnTo>
                    <a:pt x="254" y="637"/>
                  </a:lnTo>
                  <a:lnTo>
                    <a:pt x="254" y="485"/>
                  </a:lnTo>
                  <a:lnTo>
                    <a:pt x="322" y="485"/>
                  </a:lnTo>
                  <a:lnTo>
                    <a:pt x="325" y="515"/>
                  </a:lnTo>
                  <a:lnTo>
                    <a:pt x="323" y="544"/>
                  </a:lnTo>
                  <a:lnTo>
                    <a:pt x="323" y="574"/>
                  </a:lnTo>
                  <a:lnTo>
                    <a:pt x="325" y="601"/>
                  </a:lnTo>
                  <a:lnTo>
                    <a:pt x="327" y="598"/>
                  </a:lnTo>
                  <a:lnTo>
                    <a:pt x="332" y="591"/>
                  </a:lnTo>
                  <a:lnTo>
                    <a:pt x="338" y="581"/>
                  </a:lnTo>
                  <a:lnTo>
                    <a:pt x="347" y="570"/>
                  </a:lnTo>
                  <a:lnTo>
                    <a:pt x="355" y="559"/>
                  </a:lnTo>
                  <a:lnTo>
                    <a:pt x="365" y="549"/>
                  </a:lnTo>
                  <a:lnTo>
                    <a:pt x="376" y="543"/>
                  </a:lnTo>
                  <a:lnTo>
                    <a:pt x="387" y="541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 rot="19839000">
            <a:off x="2641320" y="51238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e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91160" y="1666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Gestão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228600" y="990720"/>
            <a:ext cx="7848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lvl="1" marL="146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Planejamento de Projeto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belece planos exequíveis para realização das atividades de engenharia e de gestão do projeto d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processo Planejamento do Projeto de Software envolve  desenvolver   estimativas para o trabalho a ser executado, estabelecer os compromissos necessários e definir o plano para executar o trabal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991160" y="1666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Gestão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1066680"/>
            <a:ext cx="8763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98360" indent="-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companhamento de Projeto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8360" indent="-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3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nece visibilidade do progresso real, de modo que a gerência possa tomar decisões efetivas sobre as ações corretivas a  serem implementadas nos pl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3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3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Acompanhamento do Projeto de Software envolve a monitoração e a  revisão das realizações e resultados atuais contra as estimativas, compromissos e planos documentados, e o ajuste desses planos e/ou do  desempenho do projeto com base nessas realizações e resultado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991160" y="1666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Gestão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80880" y="12193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estimativas de prazo e custo freqüentemente são impreci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838080" y="4226040"/>
            <a:ext cx="1981440" cy="194616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1441800" y="3111480"/>
            <a:ext cx="589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Qual método que você  usa pa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timar o prazo do seu trabalh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57080" y="6095880"/>
            <a:ext cx="756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onceito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olístico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nilateral para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ipificação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tru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7467480" y="3048120"/>
            <a:ext cx="1371600" cy="120636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991160" y="1666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Gestão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295280" y="1295280"/>
            <a:ext cx="106704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38080" y="2209680"/>
            <a:ext cx="198144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5800" y="3124080"/>
            <a:ext cx="2133720" cy="297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657600" y="5257800"/>
            <a:ext cx="4952880" cy="1066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343400" y="1219320"/>
            <a:ext cx="38098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95680" y="2057400"/>
            <a:ext cx="3810240" cy="457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114800" y="2971800"/>
            <a:ext cx="3809880" cy="18288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914400" y="3146400"/>
            <a:ext cx="1981080" cy="34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stimativa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 tamanho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 esforço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 custo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 prazo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 recursos computacionais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 ris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634640" y="2073240"/>
            <a:ext cx="337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(Re) Planejamento do Proj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96160" y="3006720"/>
            <a:ext cx="3666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Acompanhamento do Proj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 resultados parciais x estimad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 acompanhamento das ativid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 ações corretiv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 replanej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895480" y="2301480"/>
            <a:ext cx="1600200" cy="1219320"/>
          </a:xfrm>
          <a:prstGeom prst="line">
            <a:avLst/>
          </a:prstGeom>
          <a:ln w="572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715000" y="2540160"/>
            <a:ext cx="0" cy="457200"/>
          </a:xfrm>
          <a:prstGeom prst="line">
            <a:avLst/>
          </a:prstGeom>
          <a:ln w="572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19920" y="4816440"/>
            <a:ext cx="0" cy="457200"/>
          </a:xfrm>
          <a:prstGeom prst="line">
            <a:avLst/>
          </a:prstGeom>
          <a:ln w="572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57600" y="527832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Análise de resultados (histórico do projet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 resultados finais (estimado x realizado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- lições aprend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95480" y="4572000"/>
            <a:ext cx="685800" cy="1158840"/>
          </a:xfrm>
          <a:prstGeom prst="line">
            <a:avLst/>
          </a:prstGeom>
          <a:ln w="572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248520" y="2530440"/>
            <a:ext cx="0" cy="457200"/>
          </a:xfrm>
          <a:prstGeom prst="line">
            <a:avLst/>
          </a:prstGeom>
          <a:ln w="57240">
            <a:solidFill>
              <a:srgbClr val="00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67040" y="2174760"/>
            <a:ext cx="156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Requisi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336560" y="1235160"/>
            <a:ext cx="357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lanejamento Inicial do Proj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19920" y="1692360"/>
            <a:ext cx="0" cy="380880"/>
          </a:xfrm>
          <a:prstGeom prst="line">
            <a:avLst/>
          </a:prstGeom>
          <a:ln w="572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438280" y="1447920"/>
            <a:ext cx="1905120" cy="0"/>
          </a:xfrm>
          <a:prstGeom prst="line">
            <a:avLst/>
          </a:prstGeom>
          <a:ln w="572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2682720"/>
            <a:ext cx="0" cy="457200"/>
          </a:xfrm>
          <a:prstGeom prst="line">
            <a:avLst/>
          </a:prstGeom>
          <a:ln w="572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372320" y="1260360"/>
            <a:ext cx="90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Vis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828800" y="1768320"/>
            <a:ext cx="0" cy="441360"/>
          </a:xfrm>
          <a:prstGeom prst="line">
            <a:avLst/>
          </a:prstGeom>
          <a:ln w="572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991160" y="1666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Gestão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533600" y="1339920"/>
            <a:ext cx="22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evendo o Futur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1219320" cy="1227240"/>
          </a:xfrm>
          <a:prstGeom prst="rect">
            <a:avLst/>
          </a:prstGeom>
          <a:ln w="0">
            <a:noFill/>
          </a:ln>
        </p:spPr>
      </p:pic>
      <p:grpSp>
        <p:nvGrpSpPr>
          <p:cNvPr id="818" name=""/>
          <p:cNvGrpSpPr/>
          <p:nvPr/>
        </p:nvGrpSpPr>
        <p:grpSpPr>
          <a:xfrm>
            <a:off x="300600" y="2500200"/>
            <a:ext cx="2948400" cy="2173680"/>
            <a:chOff x="300600" y="2500200"/>
            <a:chExt cx="2948400" cy="2173680"/>
          </a:xfrm>
        </p:grpSpPr>
        <p:sp>
          <p:nvSpPr>
            <p:cNvPr id="819" name=""/>
            <p:cNvSpPr/>
            <p:nvPr/>
          </p:nvSpPr>
          <p:spPr>
            <a:xfrm>
              <a:off x="739800" y="2678040"/>
              <a:ext cx="1875240" cy="4597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ima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24120" y="3411360"/>
              <a:ext cx="1569240" cy="4597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diç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0600" y="4120560"/>
              <a:ext cx="2905560" cy="4597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ções Aprendid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636920" y="3091320"/>
              <a:ext cx="0" cy="29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36920" y="3800520"/>
              <a:ext cx="0" cy="29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4" name=""/>
            <p:cNvCxnSpPr>
              <a:stCxn id="821" idx="2"/>
              <a:endCxn id="819" idx="0"/>
            </p:cNvCxnSpPr>
            <p:nvPr/>
          </p:nvCxnSpPr>
          <p:spPr>
            <a:xfrm flipV="1" rot="16200000">
              <a:off x="793800" y="3549240"/>
              <a:ext cx="1842120" cy="75960"/>
            </a:xfrm>
            <a:prstGeom prst="bentConnector5">
              <a:avLst>
                <a:gd name="adj1" fmla="val -9010"/>
                <a:gd name="adj2" fmla="val -1979523"/>
                <a:gd name="adj3" fmla="val 10901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25" name=""/>
          <p:cNvGrpSpPr/>
          <p:nvPr/>
        </p:nvGrpSpPr>
        <p:grpSpPr>
          <a:xfrm>
            <a:off x="4509720" y="990720"/>
            <a:ext cx="4104000" cy="1008720"/>
            <a:chOff x="4509720" y="990720"/>
            <a:chExt cx="4104000" cy="1008720"/>
          </a:xfrm>
        </p:grpSpPr>
        <p:sp>
          <p:nvSpPr>
            <p:cNvPr id="826" name=""/>
            <p:cNvSpPr/>
            <p:nvPr/>
          </p:nvSpPr>
          <p:spPr>
            <a:xfrm>
              <a:off x="4509720" y="1219320"/>
              <a:ext cx="1197360" cy="42912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99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 Narrow"/>
                </a:rPr>
                <a:t>Tamanh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891040" y="990720"/>
              <a:ext cx="272268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Pontos por Fun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Pontos por Casos de U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Linhas de Códig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592880" y="2286000"/>
            <a:ext cx="3289680" cy="703800"/>
            <a:chOff x="4592880" y="2286000"/>
            <a:chExt cx="3289680" cy="703800"/>
          </a:xfrm>
        </p:grpSpPr>
        <p:sp>
          <p:nvSpPr>
            <p:cNvPr id="829" name=""/>
            <p:cNvSpPr/>
            <p:nvPr/>
          </p:nvSpPr>
          <p:spPr>
            <a:xfrm>
              <a:off x="4592880" y="2362320"/>
              <a:ext cx="1031040" cy="42912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99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 Narrow"/>
                </a:rPr>
                <a:t>Esforç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66920" y="2286000"/>
              <a:ext cx="20156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ão-de-ob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(Homem-Hora/Di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795920" y="5867280"/>
            <a:ext cx="4119480" cy="1008720"/>
            <a:chOff x="4795920" y="5867280"/>
            <a:chExt cx="4119480" cy="1008720"/>
          </a:xfrm>
        </p:grpSpPr>
        <p:sp>
          <p:nvSpPr>
            <p:cNvPr id="832" name=""/>
            <p:cNvSpPr/>
            <p:nvPr/>
          </p:nvSpPr>
          <p:spPr>
            <a:xfrm>
              <a:off x="4795920" y="6019920"/>
              <a:ext cx="828360" cy="42912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99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 Narrow"/>
                </a:rPr>
                <a:t>Cust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67280" y="5867280"/>
              <a:ext cx="304812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ão-de-obra, Equipamento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reinamento, Viagens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821480" y="4572000"/>
            <a:ext cx="3312360" cy="1008720"/>
            <a:chOff x="4821480" y="4572000"/>
            <a:chExt cx="3312360" cy="1008720"/>
          </a:xfrm>
        </p:grpSpPr>
        <p:sp>
          <p:nvSpPr>
            <p:cNvPr id="835" name=""/>
            <p:cNvSpPr/>
            <p:nvPr/>
          </p:nvSpPr>
          <p:spPr>
            <a:xfrm>
              <a:off x="4821480" y="4800600"/>
              <a:ext cx="802440" cy="42912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99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 Narrow"/>
                </a:rPr>
                <a:t>Praz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65120" y="4572000"/>
              <a:ext cx="226872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ronogr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(Atividades, Marco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pendências, ..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747960" y="3276720"/>
            <a:ext cx="4605840" cy="1008720"/>
            <a:chOff x="3747960" y="3276720"/>
            <a:chExt cx="4605840" cy="1008720"/>
          </a:xfrm>
        </p:grpSpPr>
        <p:sp>
          <p:nvSpPr>
            <p:cNvPr id="838" name=""/>
            <p:cNvSpPr/>
            <p:nvPr/>
          </p:nvSpPr>
          <p:spPr>
            <a:xfrm>
              <a:off x="3747960" y="3352680"/>
              <a:ext cx="1959120" cy="7642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99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 Narrow"/>
                </a:rPr>
                <a:t>Recurs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 Narrow"/>
                </a:rPr>
                <a:t>Computacionai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65840" y="3276720"/>
              <a:ext cx="248796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mória, Terminai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rocessadores, Red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oftware, Periféricos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1676880" y="5486400"/>
            <a:ext cx="1380240" cy="5508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 Narrow"/>
              </a:rPr>
              <a:t>RIS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24160" y="762120"/>
            <a:ext cx="83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As Estimativas são a base para o Planej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do Projeto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2568600" y="1981080"/>
            <a:ext cx="5124960" cy="3657240"/>
            <a:chOff x="2568600" y="1981080"/>
            <a:chExt cx="5124960" cy="3657240"/>
          </a:xfrm>
        </p:grpSpPr>
        <p:sp>
          <p:nvSpPr>
            <p:cNvPr id="845" name=""/>
            <p:cNvSpPr/>
            <p:nvPr/>
          </p:nvSpPr>
          <p:spPr>
            <a:xfrm>
              <a:off x="2568600" y="4574520"/>
              <a:ext cx="4083480" cy="1063800"/>
            </a:xfrm>
            <a:prstGeom prst="cube">
              <a:avLst>
                <a:gd name="adj" fmla="val 25000"/>
              </a:avLst>
            </a:prstGeom>
            <a:solidFill>
              <a:srgbClr val="ff9999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0000"/>
                  </a:solidFill>
                  <a:latin typeface="Times New Roman"/>
                </a:rPr>
                <a:t>ESTIMATIV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00360" y="2512800"/>
              <a:ext cx="460800" cy="226080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14880" y="2978280"/>
              <a:ext cx="592560" cy="186192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59160" y="2778840"/>
              <a:ext cx="526680" cy="192816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00360" y="1981080"/>
              <a:ext cx="4083120" cy="1197000"/>
            </a:xfrm>
            <a:prstGeom prst="ellipse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3531600" y="1981080"/>
              <a:ext cx="2263680" cy="1122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Planejamento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73840" y="32763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Cust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57320" y="3874680"/>
              <a:ext cx="16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Tamanh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926960" y="3342960"/>
              <a:ext cx="134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Esforç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571920" y="4273920"/>
              <a:ext cx="412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Recursos Computaciona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685800" y="5638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ocumentar as estimativas de software a serem usadas no acompanhamento do projeto de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38080" y="2482920"/>
            <a:ext cx="7772400" cy="50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Aft>
                <a:spcPts val="2001"/>
              </a:spcAft>
              <a:buClr>
                <a:srgbClr val="1488c8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ndicar a </a:t>
            </a: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qualidade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do Prod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2001"/>
              </a:spcAft>
              <a:buClr>
                <a:srgbClr val="1488c8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valiar a </a:t>
            </a: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produtividade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do pro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2001"/>
              </a:spcAft>
              <a:buClr>
                <a:srgbClr val="1488c8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elhorar a </a:t>
            </a: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gerência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de projetos e relacionamento com 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2001"/>
              </a:spcAft>
              <a:buClr>
                <a:srgbClr val="1488c8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rmar uma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Baseline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ara </a:t>
            </a: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estim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2001"/>
              </a:spcAft>
              <a:buClr>
                <a:srgbClr val="1488c8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Gerenciar </a:t>
            </a: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contratos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de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softw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988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 Black"/>
              </a:rPr>
              <a:t>Por Que Med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689040"/>
            <a:ext cx="1228680" cy="1749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87520" y="152280"/>
            <a:ext cx="44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MEDIÇÕE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0" y="9730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ções para Estimat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05040" y="2901960"/>
            <a:ext cx="1190520" cy="74916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04920" y="2901960"/>
            <a:ext cx="1761840" cy="6732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73240" y="320040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00960" y="3032280"/>
            <a:ext cx="1686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ej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648160" y="3048120"/>
            <a:ext cx="1317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75680" y="1965240"/>
            <a:ext cx="147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l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902040" y="320040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533840" y="2901960"/>
            <a:ext cx="1190520" cy="6732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508280" y="2879640"/>
            <a:ext cx="1305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lh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30840" y="327672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59960" y="4038480"/>
            <a:ext cx="1593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502800" y="4070520"/>
            <a:ext cx="2135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termedi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476760" y="4070520"/>
            <a:ext cx="1710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an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6462720" y="2973240"/>
          <a:ext cx="110808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720" y="2973240"/>
                    <a:ext cx="11080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2368440" y="1281240"/>
            <a:ext cx="1359000" cy="67284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76160" y="14400"/>
            <a:ext cx="712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ções para Mudança de Escopo Ger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98280" y="1281240"/>
            <a:ext cx="1495440" cy="74916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5600" y="1411200"/>
            <a:ext cx="154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361240" y="1219320"/>
            <a:ext cx="148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069320" y="625320"/>
            <a:ext cx="147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l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670280" y="1357200"/>
            <a:ext cx="1419480" cy="67320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32120" y="1258920"/>
            <a:ext cx="152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l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6095880" y="1655640"/>
            <a:ext cx="838440" cy="2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7209000" y="1428840"/>
          <a:ext cx="110808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1428840"/>
                    <a:ext cx="11080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7" name=""/>
          <p:cNvSpPr/>
          <p:nvPr/>
        </p:nvSpPr>
        <p:spPr>
          <a:xfrm>
            <a:off x="1523880" y="157968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733920" y="1655640"/>
            <a:ext cx="914400" cy="2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2440" y="2424240"/>
            <a:ext cx="8750520" cy="44424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41000" y="2401920"/>
            <a:ext cx="120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P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22080" y="2401920"/>
            <a:ext cx="120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 P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860360" y="2401920"/>
            <a:ext cx="120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0 P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99000" y="2401920"/>
            <a:ext cx="1209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5 P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035800" y="2981160"/>
            <a:ext cx="2505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a para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dados modif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P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quivo adici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0 P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lta adici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7 P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5313240"/>
            <a:ext cx="838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12400" y="5299200"/>
            <a:ext cx="1861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for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on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117160" y="5648400"/>
            <a:ext cx="1765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 1 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 2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 $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37040" y="5594400"/>
            <a:ext cx="1920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+ 0.5 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+ 1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+ $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613560" y="567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297920" y="5572080"/>
            <a:ext cx="1553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+ 0.25 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+ 2.5 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+ $1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372440" y="2981160"/>
            <a:ext cx="1459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sumár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ici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 P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856400" y="3057480"/>
            <a:ext cx="16999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a tab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ici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0 P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nco de Dados Histórico de Proje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35680" y="2514600"/>
            <a:ext cx="836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ém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nformaçõ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evantes de projetos real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52280" y="2590920"/>
            <a:ext cx="381240" cy="38088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82520" y="4900680"/>
            <a:ext cx="380880" cy="38088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4840" y="4815000"/>
            <a:ext cx="71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ilizado par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estimativ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 futuros pro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52280" y="5891040"/>
            <a:ext cx="381240" cy="38124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880" y="5805360"/>
            <a:ext cx="70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ilizado par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nálise e melhori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o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7840" y="3549600"/>
            <a:ext cx="78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ontém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baselines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e esforço, tempo, custo e ou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tributos relev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52280" y="3625920"/>
            <a:ext cx="381240" cy="38088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nco de Dados Histórico de Proje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041560" y="3124080"/>
            <a:ext cx="4952880" cy="3505320"/>
          </a:xfrm>
          <a:prstGeom prst="can">
            <a:avLst>
              <a:gd name="adj" fmla="val 25000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2346480" y="4800600"/>
            <a:ext cx="1095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s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2193840" y="5410080"/>
            <a:ext cx="2638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dutivida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8" name=""/>
          <p:cNvSpPr/>
          <p:nvPr/>
        </p:nvSpPr>
        <p:spPr>
          <a:xfrm>
            <a:off x="2272320" y="42670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ma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786200" y="43434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ron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491280" y="60958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gu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70360" y="4114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lata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13360" y="57150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346840" y="3200400"/>
            <a:ext cx="17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isão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404600" y="34290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o do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70988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Computacion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Cr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2422440" y="1601640"/>
            <a:ext cx="39528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ase de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hecimentos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2057400" y="533520"/>
            <a:ext cx="51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Contagem Empírica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520280" y="1371600"/>
            <a:ext cx="57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ado no Esquema Lógico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hecimento das Fun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609480" y="2487600"/>
            <a:ext cx="7696440" cy="414180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03400" y="1108080"/>
            <a:ext cx="75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: Desenvolvimento de um Portal para um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uncionalidades: Controle de Acesso, Notícias, FAQ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78360" y="1981080"/>
            <a:ext cx="60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e de Acesso: 30 P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: Usuário – 7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: Controle de Acesso – 4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EEs: Cadastrar Usuário, Alterar Senha – 12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: Notificação Alterar Senha – 4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: Consultar Usuário – 3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01400" y="4483080"/>
            <a:ext cx="50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otícias: 25 P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I: Noticia – 7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EEs: Cadastrar Noticia – 9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CEs: Lista e Detalhes Notícias – 6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E: Consulta Notícia  Usuário – 3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04920" y="1143000"/>
            <a:ext cx="460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AQs: 25 P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I: FAQ – 7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EEs: Cadastrar FAQ – 9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CEs: Lista e Detalhes FAQ – 6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E: Consulta FAQ Usuário – 3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6920" y="3200400"/>
            <a:ext cx="65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ar Acessos ao Site: 12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: Arquivo de Controle de  Acesso ao site – 7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: Relatório Estatístico de Controle– 5 P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05640" y="47242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tor de Ajuste = 1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48640" y="533412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F = 92 * 1,08 = 99,3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668680" y="594360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00 P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0" y="1006560"/>
            <a:ext cx="9372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Tahoma"/>
              </a:rPr>
              <a:t>Estimativa de Esforç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295280" y="1690560"/>
            <a:ext cx="67914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al é o índice de Produtividade ??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5486400" y="3727440"/>
            <a:ext cx="3124080" cy="305424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1600200" y="914400"/>
            <a:ext cx="584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 é a Produtividade do Java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0" name=""/>
          <p:cNvSpPr/>
          <p:nvPr/>
        </p:nvSpPr>
        <p:spPr>
          <a:xfrm>
            <a:off x="457200" y="1905120"/>
            <a:ext cx="900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 banco de dados do (ISBSG) possui apenas 4 novos desenvolvimentos, com dados confiáveis, cuja principal linguagem de programação é JA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 de melhor produtividade está próximo de 10 H/P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 de pior produtividade, um pouco abaixo de 60 H/P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gamos que a média seja um pouco menos de 30 H/P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 a mediana, próxima de 20 H/P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sso não nos diz qual valor deve ser utilizado em um cas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257800" cy="311940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685800" y="4267080"/>
            <a:ext cx="80010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 preciso conhecer outros atributos dos projetos, para saber por que um projeto tem a produtividade próxima de 60 H/PF, enquanto outro a tem próxima de 10 H/P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lém disso, seria necessário saber em que faixa de produtividade a nossa organização está oper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609480" y="1905120"/>
            <a:ext cx="1114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SBS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63960" y="152280"/>
            <a:ext cx="65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MEDIÇÕES QUALIDADE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505320"/>
            <a:ext cx="4359240" cy="890640"/>
          </a:xfrm>
          <a:prstGeom prst="rect">
            <a:avLst/>
          </a:prstGeom>
          <a:solidFill>
            <a:srgbClr val="ccec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84000" y="3586320"/>
            <a:ext cx="274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étricas, Model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5080" y="3882960"/>
            <a:ext cx="277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ções e Anál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9720" y="2657520"/>
            <a:ext cx="1325520" cy="706320"/>
          </a:xfrm>
          <a:prstGeom prst="rect">
            <a:avLst/>
          </a:prstGeom>
          <a:solidFill>
            <a:srgbClr val="ccffcc"/>
          </a:solidFill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0840" y="2687760"/>
            <a:ext cx="104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co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1560" y="2984400"/>
            <a:ext cx="96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04920" y="2657520"/>
            <a:ext cx="1325520" cy="706320"/>
          </a:xfrm>
          <a:prstGeom prst="rect">
            <a:avLst/>
          </a:prstGeom>
          <a:solidFill>
            <a:srgbClr val="ccffcc"/>
          </a:solidFill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8680" y="2657520"/>
            <a:ext cx="1430280" cy="706320"/>
          </a:xfrm>
          <a:prstGeom prst="rect">
            <a:avLst/>
          </a:prstGeom>
          <a:solidFill>
            <a:srgbClr val="ccffcc"/>
          </a:solidFill>
          <a:ln w="507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94560" y="2687760"/>
            <a:ext cx="118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lh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1920" y="2984400"/>
            <a:ext cx="1466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Pro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90640" y="2816280"/>
            <a:ext cx="144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eople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4600" y="1292400"/>
            <a:ext cx="4359240" cy="1263600"/>
          </a:xfrm>
          <a:prstGeom prst="ellipse">
            <a:avLst/>
          </a:prstGeom>
          <a:solidFill>
            <a:srgbClr val="ffccff"/>
          </a:solidFill>
          <a:ln w="507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0800" y="1521000"/>
            <a:ext cx="372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otal Qualit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66840" y="1928880"/>
            <a:ext cx="268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lhoria Contí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09480" y="4876920"/>
            <a:ext cx="2381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elo CM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66720" y="5715000"/>
            <a:ext cx="2381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elo CMMI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733920" y="5105520"/>
            <a:ext cx="11905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SM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00600" y="762120"/>
            <a:ext cx="2209680" cy="1981080"/>
            <a:chOff x="4800600" y="762120"/>
            <a:chExt cx="2209680" cy="1981080"/>
          </a:xfrm>
        </p:grpSpPr>
        <p:grpSp>
          <p:nvGrpSpPr>
            <p:cNvPr id="100" name=""/>
            <p:cNvGrpSpPr/>
            <p:nvPr/>
          </p:nvGrpSpPr>
          <p:grpSpPr>
            <a:xfrm>
              <a:off x="4800600" y="762120"/>
              <a:ext cx="2209680" cy="1981080"/>
              <a:chOff x="4800600" y="762120"/>
              <a:chExt cx="2209680" cy="1981080"/>
            </a:xfrm>
          </p:grpSpPr>
          <p:sp>
            <p:nvSpPr>
              <p:cNvPr id="101" name=""/>
              <p:cNvSpPr/>
              <p:nvPr/>
            </p:nvSpPr>
            <p:spPr>
              <a:xfrm>
                <a:off x="4800600" y="1555560"/>
                <a:ext cx="841320" cy="1095120"/>
              </a:xfrm>
              <a:custGeom>
                <a:avLst/>
                <a:gdLst/>
                <a:ahLst/>
                <a:rect l="l" t="t" r="r" b="b"/>
                <a:pathLst>
                  <a:path w="548" h="784">
                    <a:moveTo>
                      <a:pt x="495" y="781"/>
                    </a:moveTo>
                    <a:lnTo>
                      <a:pt x="507" y="783"/>
                    </a:lnTo>
                    <a:lnTo>
                      <a:pt x="547" y="679"/>
                    </a:lnTo>
                    <a:lnTo>
                      <a:pt x="536" y="675"/>
                    </a:lnTo>
                    <a:lnTo>
                      <a:pt x="527" y="672"/>
                    </a:lnTo>
                    <a:lnTo>
                      <a:pt x="518" y="668"/>
                    </a:lnTo>
                    <a:lnTo>
                      <a:pt x="507" y="664"/>
                    </a:lnTo>
                    <a:lnTo>
                      <a:pt x="496" y="660"/>
                    </a:lnTo>
                    <a:lnTo>
                      <a:pt x="486" y="656"/>
                    </a:lnTo>
                    <a:lnTo>
                      <a:pt x="478" y="652"/>
                    </a:lnTo>
                    <a:lnTo>
                      <a:pt x="467" y="647"/>
                    </a:lnTo>
                    <a:lnTo>
                      <a:pt x="458" y="643"/>
                    </a:lnTo>
                    <a:lnTo>
                      <a:pt x="448" y="638"/>
                    </a:lnTo>
                    <a:lnTo>
                      <a:pt x="439" y="633"/>
                    </a:lnTo>
                    <a:lnTo>
                      <a:pt x="429" y="627"/>
                    </a:lnTo>
                    <a:lnTo>
                      <a:pt x="420" y="621"/>
                    </a:lnTo>
                    <a:lnTo>
                      <a:pt x="413" y="617"/>
                    </a:lnTo>
                    <a:lnTo>
                      <a:pt x="406" y="612"/>
                    </a:lnTo>
                    <a:lnTo>
                      <a:pt x="397" y="607"/>
                    </a:lnTo>
                    <a:lnTo>
                      <a:pt x="389" y="600"/>
                    </a:lnTo>
                    <a:lnTo>
                      <a:pt x="380" y="594"/>
                    </a:lnTo>
                    <a:lnTo>
                      <a:pt x="372" y="588"/>
                    </a:lnTo>
                    <a:lnTo>
                      <a:pt x="367" y="584"/>
                    </a:lnTo>
                    <a:lnTo>
                      <a:pt x="360" y="579"/>
                    </a:lnTo>
                    <a:lnTo>
                      <a:pt x="351" y="571"/>
                    </a:lnTo>
                    <a:lnTo>
                      <a:pt x="342" y="563"/>
                    </a:lnTo>
                    <a:lnTo>
                      <a:pt x="330" y="553"/>
                    </a:lnTo>
                    <a:lnTo>
                      <a:pt x="320" y="544"/>
                    </a:lnTo>
                    <a:lnTo>
                      <a:pt x="309" y="534"/>
                    </a:lnTo>
                    <a:lnTo>
                      <a:pt x="299" y="524"/>
                    </a:lnTo>
                    <a:lnTo>
                      <a:pt x="289" y="511"/>
                    </a:lnTo>
                    <a:lnTo>
                      <a:pt x="281" y="502"/>
                    </a:lnTo>
                    <a:lnTo>
                      <a:pt x="272" y="492"/>
                    </a:lnTo>
                    <a:lnTo>
                      <a:pt x="264" y="480"/>
                    </a:lnTo>
                    <a:lnTo>
                      <a:pt x="254" y="467"/>
                    </a:lnTo>
                    <a:lnTo>
                      <a:pt x="244" y="454"/>
                    </a:lnTo>
                    <a:lnTo>
                      <a:pt x="236" y="441"/>
                    </a:lnTo>
                    <a:lnTo>
                      <a:pt x="227" y="427"/>
                    </a:lnTo>
                    <a:lnTo>
                      <a:pt x="219" y="412"/>
                    </a:lnTo>
                    <a:lnTo>
                      <a:pt x="212" y="398"/>
                    </a:lnTo>
                    <a:lnTo>
                      <a:pt x="205" y="384"/>
                    </a:lnTo>
                    <a:lnTo>
                      <a:pt x="199" y="371"/>
                    </a:lnTo>
                    <a:lnTo>
                      <a:pt x="193" y="359"/>
                    </a:lnTo>
                    <a:lnTo>
                      <a:pt x="187" y="345"/>
                    </a:lnTo>
                    <a:lnTo>
                      <a:pt x="183" y="331"/>
                    </a:lnTo>
                    <a:lnTo>
                      <a:pt x="178" y="318"/>
                    </a:lnTo>
                    <a:lnTo>
                      <a:pt x="173" y="303"/>
                    </a:lnTo>
                    <a:lnTo>
                      <a:pt x="169" y="290"/>
                    </a:lnTo>
                    <a:lnTo>
                      <a:pt x="165" y="274"/>
                    </a:lnTo>
                    <a:lnTo>
                      <a:pt x="161" y="258"/>
                    </a:lnTo>
                    <a:lnTo>
                      <a:pt x="157" y="243"/>
                    </a:lnTo>
                    <a:lnTo>
                      <a:pt x="155" y="226"/>
                    </a:lnTo>
                    <a:lnTo>
                      <a:pt x="152" y="210"/>
                    </a:lnTo>
                    <a:lnTo>
                      <a:pt x="151" y="195"/>
                    </a:lnTo>
                    <a:lnTo>
                      <a:pt x="149" y="180"/>
                    </a:lnTo>
                    <a:lnTo>
                      <a:pt x="149" y="161"/>
                    </a:lnTo>
                    <a:lnTo>
                      <a:pt x="149" y="146"/>
                    </a:lnTo>
                    <a:lnTo>
                      <a:pt x="149" y="128"/>
                    </a:lnTo>
                    <a:lnTo>
                      <a:pt x="187" y="128"/>
                    </a:lnTo>
                    <a:lnTo>
                      <a:pt x="98" y="0"/>
                    </a:lnTo>
                    <a:lnTo>
                      <a:pt x="0" y="128"/>
                    </a:lnTo>
                    <a:lnTo>
                      <a:pt x="37" y="128"/>
                    </a:lnTo>
                    <a:lnTo>
                      <a:pt x="37" y="148"/>
                    </a:lnTo>
                    <a:lnTo>
                      <a:pt x="38" y="167"/>
                    </a:lnTo>
                    <a:lnTo>
                      <a:pt x="39" y="186"/>
                    </a:lnTo>
                    <a:lnTo>
                      <a:pt x="40" y="203"/>
                    </a:lnTo>
                    <a:lnTo>
                      <a:pt x="42" y="218"/>
                    </a:lnTo>
                    <a:lnTo>
                      <a:pt x="44" y="234"/>
                    </a:lnTo>
                    <a:lnTo>
                      <a:pt x="47" y="251"/>
                    </a:lnTo>
                    <a:lnTo>
                      <a:pt x="49" y="266"/>
                    </a:lnTo>
                    <a:lnTo>
                      <a:pt x="52" y="280"/>
                    </a:lnTo>
                    <a:lnTo>
                      <a:pt x="55" y="296"/>
                    </a:lnTo>
                    <a:lnTo>
                      <a:pt x="60" y="315"/>
                    </a:lnTo>
                    <a:lnTo>
                      <a:pt x="64" y="330"/>
                    </a:lnTo>
                    <a:lnTo>
                      <a:pt x="69" y="345"/>
                    </a:lnTo>
                    <a:lnTo>
                      <a:pt x="74" y="360"/>
                    </a:lnTo>
                    <a:lnTo>
                      <a:pt x="80" y="377"/>
                    </a:lnTo>
                    <a:lnTo>
                      <a:pt x="86" y="392"/>
                    </a:lnTo>
                    <a:lnTo>
                      <a:pt x="92" y="407"/>
                    </a:lnTo>
                    <a:lnTo>
                      <a:pt x="98" y="421"/>
                    </a:lnTo>
                    <a:lnTo>
                      <a:pt x="106" y="437"/>
                    </a:lnTo>
                    <a:lnTo>
                      <a:pt x="114" y="452"/>
                    </a:lnTo>
                    <a:lnTo>
                      <a:pt x="121" y="466"/>
                    </a:lnTo>
                    <a:lnTo>
                      <a:pt x="129" y="480"/>
                    </a:lnTo>
                    <a:lnTo>
                      <a:pt x="136" y="493"/>
                    </a:lnTo>
                    <a:lnTo>
                      <a:pt x="145" y="506"/>
                    </a:lnTo>
                    <a:lnTo>
                      <a:pt x="153" y="518"/>
                    </a:lnTo>
                    <a:lnTo>
                      <a:pt x="162" y="532"/>
                    </a:lnTo>
                    <a:lnTo>
                      <a:pt x="172" y="546"/>
                    </a:lnTo>
                    <a:lnTo>
                      <a:pt x="182" y="558"/>
                    </a:lnTo>
                    <a:lnTo>
                      <a:pt x="192" y="570"/>
                    </a:lnTo>
                    <a:lnTo>
                      <a:pt x="202" y="582"/>
                    </a:lnTo>
                    <a:lnTo>
                      <a:pt x="211" y="593"/>
                    </a:lnTo>
                    <a:lnTo>
                      <a:pt x="220" y="602"/>
                    </a:lnTo>
                    <a:lnTo>
                      <a:pt x="232" y="615"/>
                    </a:lnTo>
                    <a:lnTo>
                      <a:pt x="244" y="626"/>
                    </a:lnTo>
                    <a:lnTo>
                      <a:pt x="253" y="635"/>
                    </a:lnTo>
                    <a:lnTo>
                      <a:pt x="265" y="645"/>
                    </a:lnTo>
                    <a:lnTo>
                      <a:pt x="276" y="655"/>
                    </a:lnTo>
                    <a:lnTo>
                      <a:pt x="289" y="665"/>
                    </a:lnTo>
                    <a:lnTo>
                      <a:pt x="301" y="675"/>
                    </a:lnTo>
                    <a:lnTo>
                      <a:pt x="312" y="683"/>
                    </a:lnTo>
                    <a:lnTo>
                      <a:pt x="325" y="694"/>
                    </a:lnTo>
                    <a:lnTo>
                      <a:pt x="336" y="701"/>
                    </a:lnTo>
                    <a:lnTo>
                      <a:pt x="347" y="709"/>
                    </a:lnTo>
                    <a:lnTo>
                      <a:pt x="355" y="713"/>
                    </a:lnTo>
                    <a:lnTo>
                      <a:pt x="362" y="719"/>
                    </a:lnTo>
                    <a:lnTo>
                      <a:pt x="368" y="723"/>
                    </a:lnTo>
                    <a:lnTo>
                      <a:pt x="373" y="726"/>
                    </a:lnTo>
                    <a:lnTo>
                      <a:pt x="380" y="730"/>
                    </a:lnTo>
                    <a:lnTo>
                      <a:pt x="388" y="733"/>
                    </a:lnTo>
                    <a:lnTo>
                      <a:pt x="396" y="737"/>
                    </a:lnTo>
                    <a:lnTo>
                      <a:pt x="404" y="741"/>
                    </a:lnTo>
                    <a:lnTo>
                      <a:pt x="410" y="745"/>
                    </a:lnTo>
                    <a:lnTo>
                      <a:pt x="418" y="749"/>
                    </a:lnTo>
                    <a:lnTo>
                      <a:pt x="426" y="753"/>
                    </a:lnTo>
                    <a:lnTo>
                      <a:pt x="434" y="756"/>
                    </a:lnTo>
                    <a:lnTo>
                      <a:pt x="443" y="761"/>
                    </a:lnTo>
                    <a:lnTo>
                      <a:pt x="450" y="764"/>
                    </a:lnTo>
                    <a:lnTo>
                      <a:pt x="457" y="767"/>
                    </a:lnTo>
                    <a:lnTo>
                      <a:pt x="465" y="770"/>
                    </a:lnTo>
                    <a:lnTo>
                      <a:pt x="473" y="773"/>
                    </a:lnTo>
                    <a:lnTo>
                      <a:pt x="481" y="776"/>
                    </a:lnTo>
                    <a:lnTo>
                      <a:pt x="488" y="778"/>
                    </a:lnTo>
                    <a:lnTo>
                      <a:pt x="495" y="781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67160" y="847080"/>
                <a:ext cx="843120" cy="1093680"/>
              </a:xfrm>
              <a:custGeom>
                <a:avLst/>
                <a:gdLst/>
                <a:ahLst/>
                <a:rect l="l" t="t" r="r" b="b"/>
                <a:pathLst>
                  <a:path w="549" h="783">
                    <a:moveTo>
                      <a:pt x="53" y="3"/>
                    </a:moveTo>
                    <a:lnTo>
                      <a:pt x="41" y="0"/>
                    </a:lnTo>
                    <a:lnTo>
                      <a:pt x="0" y="103"/>
                    </a:lnTo>
                    <a:lnTo>
                      <a:pt x="12" y="108"/>
                    </a:lnTo>
                    <a:lnTo>
                      <a:pt x="21" y="111"/>
                    </a:lnTo>
                    <a:lnTo>
                      <a:pt x="29" y="114"/>
                    </a:lnTo>
                    <a:lnTo>
                      <a:pt x="41" y="118"/>
                    </a:lnTo>
                    <a:lnTo>
                      <a:pt x="51" y="122"/>
                    </a:lnTo>
                    <a:lnTo>
                      <a:pt x="61" y="126"/>
                    </a:lnTo>
                    <a:lnTo>
                      <a:pt x="70" y="130"/>
                    </a:lnTo>
                    <a:lnTo>
                      <a:pt x="80" y="135"/>
                    </a:lnTo>
                    <a:lnTo>
                      <a:pt x="89" y="139"/>
                    </a:lnTo>
                    <a:lnTo>
                      <a:pt x="99" y="145"/>
                    </a:lnTo>
                    <a:lnTo>
                      <a:pt x="109" y="150"/>
                    </a:lnTo>
                    <a:lnTo>
                      <a:pt x="119" y="156"/>
                    </a:lnTo>
                    <a:lnTo>
                      <a:pt x="127" y="161"/>
                    </a:lnTo>
                    <a:lnTo>
                      <a:pt x="135" y="166"/>
                    </a:lnTo>
                    <a:lnTo>
                      <a:pt x="142" y="171"/>
                    </a:lnTo>
                    <a:lnTo>
                      <a:pt x="150" y="176"/>
                    </a:lnTo>
                    <a:lnTo>
                      <a:pt x="159" y="182"/>
                    </a:lnTo>
                    <a:lnTo>
                      <a:pt x="167" y="188"/>
                    </a:lnTo>
                    <a:lnTo>
                      <a:pt x="176" y="194"/>
                    </a:lnTo>
                    <a:lnTo>
                      <a:pt x="182" y="198"/>
                    </a:lnTo>
                    <a:lnTo>
                      <a:pt x="189" y="204"/>
                    </a:lnTo>
                    <a:lnTo>
                      <a:pt x="198" y="211"/>
                    </a:lnTo>
                    <a:lnTo>
                      <a:pt x="207" y="220"/>
                    </a:lnTo>
                    <a:lnTo>
                      <a:pt x="218" y="229"/>
                    </a:lnTo>
                    <a:lnTo>
                      <a:pt x="229" y="239"/>
                    </a:lnTo>
                    <a:lnTo>
                      <a:pt x="240" y="249"/>
                    </a:lnTo>
                    <a:lnTo>
                      <a:pt x="250" y="259"/>
                    </a:lnTo>
                    <a:lnTo>
                      <a:pt x="260" y="271"/>
                    </a:lnTo>
                    <a:lnTo>
                      <a:pt x="268" y="281"/>
                    </a:lnTo>
                    <a:lnTo>
                      <a:pt x="276" y="292"/>
                    </a:lnTo>
                    <a:lnTo>
                      <a:pt x="285" y="303"/>
                    </a:lnTo>
                    <a:lnTo>
                      <a:pt x="295" y="315"/>
                    </a:lnTo>
                    <a:lnTo>
                      <a:pt x="304" y="329"/>
                    </a:lnTo>
                    <a:lnTo>
                      <a:pt x="312" y="341"/>
                    </a:lnTo>
                    <a:lnTo>
                      <a:pt x="321" y="356"/>
                    </a:lnTo>
                    <a:lnTo>
                      <a:pt x="330" y="371"/>
                    </a:lnTo>
                    <a:lnTo>
                      <a:pt x="337" y="385"/>
                    </a:lnTo>
                    <a:lnTo>
                      <a:pt x="344" y="398"/>
                    </a:lnTo>
                    <a:lnTo>
                      <a:pt x="349" y="411"/>
                    </a:lnTo>
                    <a:lnTo>
                      <a:pt x="354" y="424"/>
                    </a:lnTo>
                    <a:lnTo>
                      <a:pt x="360" y="438"/>
                    </a:lnTo>
                    <a:lnTo>
                      <a:pt x="365" y="451"/>
                    </a:lnTo>
                    <a:lnTo>
                      <a:pt x="370" y="465"/>
                    </a:lnTo>
                    <a:lnTo>
                      <a:pt x="375" y="480"/>
                    </a:lnTo>
                    <a:lnTo>
                      <a:pt x="379" y="493"/>
                    </a:lnTo>
                    <a:lnTo>
                      <a:pt x="383" y="509"/>
                    </a:lnTo>
                    <a:lnTo>
                      <a:pt x="387" y="524"/>
                    </a:lnTo>
                    <a:lnTo>
                      <a:pt x="390" y="540"/>
                    </a:lnTo>
                    <a:lnTo>
                      <a:pt x="393" y="556"/>
                    </a:lnTo>
                    <a:lnTo>
                      <a:pt x="396" y="573"/>
                    </a:lnTo>
                    <a:lnTo>
                      <a:pt x="397" y="588"/>
                    </a:lnTo>
                    <a:lnTo>
                      <a:pt x="398" y="604"/>
                    </a:lnTo>
                    <a:lnTo>
                      <a:pt x="399" y="622"/>
                    </a:lnTo>
                    <a:lnTo>
                      <a:pt x="399" y="637"/>
                    </a:lnTo>
                    <a:lnTo>
                      <a:pt x="399" y="655"/>
                    </a:lnTo>
                    <a:lnTo>
                      <a:pt x="360" y="655"/>
                    </a:lnTo>
                    <a:lnTo>
                      <a:pt x="450" y="782"/>
                    </a:lnTo>
                    <a:lnTo>
                      <a:pt x="548" y="655"/>
                    </a:lnTo>
                    <a:lnTo>
                      <a:pt x="511" y="655"/>
                    </a:lnTo>
                    <a:lnTo>
                      <a:pt x="511" y="635"/>
                    </a:lnTo>
                    <a:lnTo>
                      <a:pt x="510" y="617"/>
                    </a:lnTo>
                    <a:lnTo>
                      <a:pt x="509" y="598"/>
                    </a:lnTo>
                    <a:lnTo>
                      <a:pt x="507" y="581"/>
                    </a:lnTo>
                    <a:lnTo>
                      <a:pt x="506" y="564"/>
                    </a:lnTo>
                    <a:lnTo>
                      <a:pt x="504" y="549"/>
                    </a:lnTo>
                    <a:lnTo>
                      <a:pt x="501" y="532"/>
                    </a:lnTo>
                    <a:lnTo>
                      <a:pt x="498" y="517"/>
                    </a:lnTo>
                    <a:lnTo>
                      <a:pt x="496" y="502"/>
                    </a:lnTo>
                    <a:lnTo>
                      <a:pt x="492" y="487"/>
                    </a:lnTo>
                    <a:lnTo>
                      <a:pt x="487" y="467"/>
                    </a:lnTo>
                    <a:lnTo>
                      <a:pt x="483" y="452"/>
                    </a:lnTo>
                    <a:lnTo>
                      <a:pt x="479" y="437"/>
                    </a:lnTo>
                    <a:lnTo>
                      <a:pt x="474" y="423"/>
                    </a:lnTo>
                    <a:lnTo>
                      <a:pt x="468" y="406"/>
                    </a:lnTo>
                    <a:lnTo>
                      <a:pt x="462" y="390"/>
                    </a:lnTo>
                    <a:lnTo>
                      <a:pt x="455" y="376"/>
                    </a:lnTo>
                    <a:lnTo>
                      <a:pt x="449" y="362"/>
                    </a:lnTo>
                    <a:lnTo>
                      <a:pt x="441" y="345"/>
                    </a:lnTo>
                    <a:lnTo>
                      <a:pt x="434" y="330"/>
                    </a:lnTo>
                    <a:lnTo>
                      <a:pt x="427" y="316"/>
                    </a:lnTo>
                    <a:lnTo>
                      <a:pt x="419" y="303"/>
                    </a:lnTo>
                    <a:lnTo>
                      <a:pt x="411" y="290"/>
                    </a:lnTo>
                    <a:lnTo>
                      <a:pt x="403" y="277"/>
                    </a:lnTo>
                    <a:lnTo>
                      <a:pt x="395" y="264"/>
                    </a:lnTo>
                    <a:lnTo>
                      <a:pt x="385" y="250"/>
                    </a:lnTo>
                    <a:lnTo>
                      <a:pt x="376" y="237"/>
                    </a:lnTo>
                    <a:lnTo>
                      <a:pt x="366" y="224"/>
                    </a:lnTo>
                    <a:lnTo>
                      <a:pt x="356" y="212"/>
                    </a:lnTo>
                    <a:lnTo>
                      <a:pt x="347" y="201"/>
                    </a:lnTo>
                    <a:lnTo>
                      <a:pt x="337" y="190"/>
                    </a:lnTo>
                    <a:lnTo>
                      <a:pt x="329" y="180"/>
                    </a:lnTo>
                    <a:lnTo>
                      <a:pt x="317" y="168"/>
                    </a:lnTo>
                    <a:lnTo>
                      <a:pt x="305" y="157"/>
                    </a:lnTo>
                    <a:lnTo>
                      <a:pt x="295" y="147"/>
                    </a:lnTo>
                    <a:lnTo>
                      <a:pt x="284" y="137"/>
                    </a:lnTo>
                    <a:lnTo>
                      <a:pt x="272" y="128"/>
                    </a:lnTo>
                    <a:lnTo>
                      <a:pt x="260" y="118"/>
                    </a:lnTo>
                    <a:lnTo>
                      <a:pt x="248" y="108"/>
                    </a:lnTo>
                    <a:lnTo>
                      <a:pt x="236" y="99"/>
                    </a:lnTo>
                    <a:lnTo>
                      <a:pt x="223" y="89"/>
                    </a:lnTo>
                    <a:lnTo>
                      <a:pt x="212" y="81"/>
                    </a:lnTo>
                    <a:lnTo>
                      <a:pt x="201" y="74"/>
                    </a:lnTo>
                    <a:lnTo>
                      <a:pt x="193" y="69"/>
                    </a:lnTo>
                    <a:lnTo>
                      <a:pt x="187" y="64"/>
                    </a:lnTo>
                    <a:lnTo>
                      <a:pt x="180" y="60"/>
                    </a:lnTo>
                    <a:lnTo>
                      <a:pt x="174" y="57"/>
                    </a:lnTo>
                    <a:lnTo>
                      <a:pt x="167" y="54"/>
                    </a:lnTo>
                    <a:lnTo>
                      <a:pt x="159" y="50"/>
                    </a:lnTo>
                    <a:lnTo>
                      <a:pt x="151" y="45"/>
                    </a:lnTo>
                    <a:lnTo>
                      <a:pt x="144" y="41"/>
                    </a:lnTo>
                    <a:lnTo>
                      <a:pt x="138" y="38"/>
                    </a:lnTo>
                    <a:lnTo>
                      <a:pt x="130" y="34"/>
                    </a:lnTo>
                    <a:lnTo>
                      <a:pt x="122" y="30"/>
                    </a:lnTo>
                    <a:lnTo>
                      <a:pt x="114" y="27"/>
                    </a:lnTo>
                    <a:lnTo>
                      <a:pt x="105" y="23"/>
                    </a:lnTo>
                    <a:lnTo>
                      <a:pt x="97" y="20"/>
                    </a:lnTo>
                    <a:lnTo>
                      <a:pt x="91" y="17"/>
                    </a:lnTo>
                    <a:lnTo>
                      <a:pt x="82" y="14"/>
                    </a:lnTo>
                    <a:lnTo>
                      <a:pt x="74" y="10"/>
                    </a:lnTo>
                    <a:lnTo>
                      <a:pt x="66" y="8"/>
                    </a:lnTo>
                    <a:lnTo>
                      <a:pt x="60" y="6"/>
                    </a:lnTo>
                    <a:lnTo>
                      <a:pt x="53" y="3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14000" y="762120"/>
                <a:ext cx="1199160" cy="750240"/>
              </a:xfrm>
              <a:custGeom>
                <a:avLst/>
                <a:gdLst/>
                <a:ahLst/>
                <a:rect l="l" t="t" r="r" b="b"/>
                <a:pathLst>
                  <a:path w="781" h="537">
                    <a:moveTo>
                      <a:pt x="0" y="495"/>
                    </a:moveTo>
                    <a:lnTo>
                      <a:pt x="106" y="536"/>
                    </a:lnTo>
                    <a:lnTo>
                      <a:pt x="109" y="527"/>
                    </a:lnTo>
                    <a:lnTo>
                      <a:pt x="112" y="518"/>
                    </a:lnTo>
                    <a:lnTo>
                      <a:pt x="116" y="506"/>
                    </a:lnTo>
                    <a:lnTo>
                      <a:pt x="120" y="496"/>
                    </a:lnTo>
                    <a:lnTo>
                      <a:pt x="124" y="486"/>
                    </a:lnTo>
                    <a:lnTo>
                      <a:pt x="128" y="478"/>
                    </a:lnTo>
                    <a:lnTo>
                      <a:pt x="133" y="467"/>
                    </a:lnTo>
                    <a:lnTo>
                      <a:pt x="137" y="458"/>
                    </a:lnTo>
                    <a:lnTo>
                      <a:pt x="143" y="448"/>
                    </a:lnTo>
                    <a:lnTo>
                      <a:pt x="147" y="438"/>
                    </a:lnTo>
                    <a:lnTo>
                      <a:pt x="153" y="429"/>
                    </a:lnTo>
                    <a:lnTo>
                      <a:pt x="159" y="420"/>
                    </a:lnTo>
                    <a:lnTo>
                      <a:pt x="164" y="412"/>
                    </a:lnTo>
                    <a:lnTo>
                      <a:pt x="168" y="405"/>
                    </a:lnTo>
                    <a:lnTo>
                      <a:pt x="174" y="397"/>
                    </a:lnTo>
                    <a:lnTo>
                      <a:pt x="180" y="389"/>
                    </a:lnTo>
                    <a:lnTo>
                      <a:pt x="186" y="380"/>
                    </a:lnTo>
                    <a:lnTo>
                      <a:pt x="192" y="372"/>
                    </a:lnTo>
                    <a:lnTo>
                      <a:pt x="196" y="366"/>
                    </a:lnTo>
                    <a:lnTo>
                      <a:pt x="202" y="358"/>
                    </a:lnTo>
                    <a:lnTo>
                      <a:pt x="209" y="349"/>
                    </a:lnTo>
                    <a:lnTo>
                      <a:pt x="217" y="340"/>
                    </a:lnTo>
                    <a:lnTo>
                      <a:pt x="227" y="329"/>
                    </a:lnTo>
                    <a:lnTo>
                      <a:pt x="236" y="319"/>
                    </a:lnTo>
                    <a:lnTo>
                      <a:pt x="247" y="308"/>
                    </a:lnTo>
                    <a:lnTo>
                      <a:pt x="257" y="298"/>
                    </a:lnTo>
                    <a:lnTo>
                      <a:pt x="269" y="287"/>
                    </a:lnTo>
                    <a:lnTo>
                      <a:pt x="279" y="279"/>
                    </a:lnTo>
                    <a:lnTo>
                      <a:pt x="289" y="271"/>
                    </a:lnTo>
                    <a:lnTo>
                      <a:pt x="299" y="262"/>
                    </a:lnTo>
                    <a:lnTo>
                      <a:pt x="312" y="253"/>
                    </a:lnTo>
                    <a:lnTo>
                      <a:pt x="326" y="243"/>
                    </a:lnTo>
                    <a:lnTo>
                      <a:pt x="338" y="235"/>
                    </a:lnTo>
                    <a:lnTo>
                      <a:pt x="352" y="226"/>
                    </a:lnTo>
                    <a:lnTo>
                      <a:pt x="367" y="217"/>
                    </a:lnTo>
                    <a:lnTo>
                      <a:pt x="382" y="211"/>
                    </a:lnTo>
                    <a:lnTo>
                      <a:pt x="395" y="204"/>
                    </a:lnTo>
                    <a:lnTo>
                      <a:pt x="408" y="198"/>
                    </a:lnTo>
                    <a:lnTo>
                      <a:pt x="420" y="192"/>
                    </a:lnTo>
                    <a:lnTo>
                      <a:pt x="435" y="186"/>
                    </a:lnTo>
                    <a:lnTo>
                      <a:pt x="448" y="181"/>
                    </a:lnTo>
                    <a:lnTo>
                      <a:pt x="462" y="177"/>
                    </a:lnTo>
                    <a:lnTo>
                      <a:pt x="477" y="172"/>
                    </a:lnTo>
                    <a:lnTo>
                      <a:pt x="490" y="168"/>
                    </a:lnTo>
                    <a:lnTo>
                      <a:pt x="505" y="164"/>
                    </a:lnTo>
                    <a:lnTo>
                      <a:pt x="521" y="159"/>
                    </a:lnTo>
                    <a:lnTo>
                      <a:pt x="537" y="156"/>
                    </a:lnTo>
                    <a:lnTo>
                      <a:pt x="553" y="153"/>
                    </a:lnTo>
                    <a:lnTo>
                      <a:pt x="570" y="151"/>
                    </a:lnTo>
                    <a:lnTo>
                      <a:pt x="585" y="149"/>
                    </a:lnTo>
                    <a:lnTo>
                      <a:pt x="601" y="148"/>
                    </a:lnTo>
                    <a:lnTo>
                      <a:pt x="619" y="147"/>
                    </a:lnTo>
                    <a:lnTo>
                      <a:pt x="634" y="147"/>
                    </a:lnTo>
                    <a:lnTo>
                      <a:pt x="652" y="147"/>
                    </a:lnTo>
                    <a:lnTo>
                      <a:pt x="652" y="186"/>
                    </a:lnTo>
                    <a:lnTo>
                      <a:pt x="780" y="96"/>
                    </a:lnTo>
                    <a:lnTo>
                      <a:pt x="652" y="0"/>
                    </a:lnTo>
                    <a:lnTo>
                      <a:pt x="652" y="37"/>
                    </a:lnTo>
                    <a:lnTo>
                      <a:pt x="632" y="37"/>
                    </a:lnTo>
                    <a:lnTo>
                      <a:pt x="614" y="37"/>
                    </a:lnTo>
                    <a:lnTo>
                      <a:pt x="594" y="39"/>
                    </a:lnTo>
                    <a:lnTo>
                      <a:pt x="577" y="40"/>
                    </a:lnTo>
                    <a:lnTo>
                      <a:pt x="561" y="41"/>
                    </a:lnTo>
                    <a:lnTo>
                      <a:pt x="546" y="44"/>
                    </a:lnTo>
                    <a:lnTo>
                      <a:pt x="529" y="46"/>
                    </a:lnTo>
                    <a:lnTo>
                      <a:pt x="514" y="49"/>
                    </a:lnTo>
                    <a:lnTo>
                      <a:pt x="499" y="52"/>
                    </a:lnTo>
                    <a:lnTo>
                      <a:pt x="484" y="55"/>
                    </a:lnTo>
                    <a:lnTo>
                      <a:pt x="464" y="60"/>
                    </a:lnTo>
                    <a:lnTo>
                      <a:pt x="449" y="64"/>
                    </a:lnTo>
                    <a:lnTo>
                      <a:pt x="434" y="69"/>
                    </a:lnTo>
                    <a:lnTo>
                      <a:pt x="420" y="73"/>
                    </a:lnTo>
                    <a:lnTo>
                      <a:pt x="403" y="80"/>
                    </a:lnTo>
                    <a:lnTo>
                      <a:pt x="387" y="86"/>
                    </a:lnTo>
                    <a:lnTo>
                      <a:pt x="373" y="91"/>
                    </a:lnTo>
                    <a:lnTo>
                      <a:pt x="359" y="97"/>
                    </a:lnTo>
                    <a:lnTo>
                      <a:pt x="342" y="105"/>
                    </a:lnTo>
                    <a:lnTo>
                      <a:pt x="327" y="113"/>
                    </a:lnTo>
                    <a:lnTo>
                      <a:pt x="313" y="119"/>
                    </a:lnTo>
                    <a:lnTo>
                      <a:pt x="299" y="128"/>
                    </a:lnTo>
                    <a:lnTo>
                      <a:pt x="287" y="134"/>
                    </a:lnTo>
                    <a:lnTo>
                      <a:pt x="275" y="143"/>
                    </a:lnTo>
                    <a:lnTo>
                      <a:pt x="262" y="151"/>
                    </a:lnTo>
                    <a:lnTo>
                      <a:pt x="248" y="161"/>
                    </a:lnTo>
                    <a:lnTo>
                      <a:pt x="234" y="170"/>
                    </a:lnTo>
                    <a:lnTo>
                      <a:pt x="222" y="181"/>
                    </a:lnTo>
                    <a:lnTo>
                      <a:pt x="210" y="191"/>
                    </a:lnTo>
                    <a:lnTo>
                      <a:pt x="198" y="200"/>
                    </a:lnTo>
                    <a:lnTo>
                      <a:pt x="187" y="210"/>
                    </a:lnTo>
                    <a:lnTo>
                      <a:pt x="178" y="219"/>
                    </a:lnTo>
                    <a:lnTo>
                      <a:pt x="166" y="230"/>
                    </a:lnTo>
                    <a:lnTo>
                      <a:pt x="155" y="242"/>
                    </a:lnTo>
                    <a:lnTo>
                      <a:pt x="145" y="252"/>
                    </a:lnTo>
                    <a:lnTo>
                      <a:pt x="135" y="264"/>
                    </a:lnTo>
                    <a:lnTo>
                      <a:pt x="126" y="275"/>
                    </a:lnTo>
                    <a:lnTo>
                      <a:pt x="115" y="287"/>
                    </a:lnTo>
                    <a:lnTo>
                      <a:pt x="106" y="300"/>
                    </a:lnTo>
                    <a:lnTo>
                      <a:pt x="97" y="311"/>
                    </a:lnTo>
                    <a:lnTo>
                      <a:pt x="87" y="324"/>
                    </a:lnTo>
                    <a:lnTo>
                      <a:pt x="79" y="335"/>
                    </a:lnTo>
                    <a:lnTo>
                      <a:pt x="72" y="346"/>
                    </a:lnTo>
                    <a:lnTo>
                      <a:pt x="67" y="353"/>
                    </a:lnTo>
                    <a:lnTo>
                      <a:pt x="62" y="361"/>
                    </a:lnTo>
                    <a:lnTo>
                      <a:pt x="58" y="367"/>
                    </a:lnTo>
                    <a:lnTo>
                      <a:pt x="55" y="373"/>
                    </a:lnTo>
                    <a:lnTo>
                      <a:pt x="51" y="380"/>
                    </a:lnTo>
                    <a:lnTo>
                      <a:pt x="47" y="388"/>
                    </a:lnTo>
                    <a:lnTo>
                      <a:pt x="43" y="396"/>
                    </a:lnTo>
                    <a:lnTo>
                      <a:pt x="39" y="403"/>
                    </a:lnTo>
                    <a:lnTo>
                      <a:pt x="36" y="409"/>
                    </a:lnTo>
                    <a:lnTo>
                      <a:pt x="32" y="417"/>
                    </a:lnTo>
                    <a:lnTo>
                      <a:pt x="28" y="425"/>
                    </a:lnTo>
                    <a:lnTo>
                      <a:pt x="24" y="434"/>
                    </a:lnTo>
                    <a:lnTo>
                      <a:pt x="20" y="442"/>
                    </a:lnTo>
                    <a:lnTo>
                      <a:pt x="17" y="450"/>
                    </a:lnTo>
                    <a:lnTo>
                      <a:pt x="13" y="457"/>
                    </a:lnTo>
                    <a:lnTo>
                      <a:pt x="11" y="465"/>
                    </a:lnTo>
                    <a:lnTo>
                      <a:pt x="7" y="473"/>
                    </a:lnTo>
                    <a:lnTo>
                      <a:pt x="5" y="481"/>
                    </a:lnTo>
                    <a:lnTo>
                      <a:pt x="3" y="487"/>
                    </a:lnTo>
                    <a:lnTo>
                      <a:pt x="0" y="495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03480" y="1990440"/>
                <a:ext cx="1200600" cy="752760"/>
              </a:xfrm>
              <a:custGeom>
                <a:avLst/>
                <a:gdLst/>
                <a:ahLst/>
                <a:rect l="l" t="t" r="r" b="b"/>
                <a:pathLst>
                  <a:path w="782" h="539">
                    <a:moveTo>
                      <a:pt x="781" y="41"/>
                    </a:moveTo>
                    <a:lnTo>
                      <a:pt x="675" y="0"/>
                    </a:lnTo>
                    <a:lnTo>
                      <a:pt x="672" y="9"/>
                    </a:lnTo>
                    <a:lnTo>
                      <a:pt x="668" y="18"/>
                    </a:lnTo>
                    <a:lnTo>
                      <a:pt x="664" y="30"/>
                    </a:lnTo>
                    <a:lnTo>
                      <a:pt x="660" y="40"/>
                    </a:lnTo>
                    <a:lnTo>
                      <a:pt x="656" y="50"/>
                    </a:lnTo>
                    <a:lnTo>
                      <a:pt x="652" y="58"/>
                    </a:lnTo>
                    <a:lnTo>
                      <a:pt x="648" y="69"/>
                    </a:lnTo>
                    <a:lnTo>
                      <a:pt x="644" y="78"/>
                    </a:lnTo>
                    <a:lnTo>
                      <a:pt x="639" y="88"/>
                    </a:lnTo>
                    <a:lnTo>
                      <a:pt x="634" y="98"/>
                    </a:lnTo>
                    <a:lnTo>
                      <a:pt x="628" y="107"/>
                    </a:lnTo>
                    <a:lnTo>
                      <a:pt x="622" y="116"/>
                    </a:lnTo>
                    <a:lnTo>
                      <a:pt x="618" y="123"/>
                    </a:lnTo>
                    <a:lnTo>
                      <a:pt x="613" y="131"/>
                    </a:lnTo>
                    <a:lnTo>
                      <a:pt x="608" y="139"/>
                    </a:lnTo>
                    <a:lnTo>
                      <a:pt x="601" y="147"/>
                    </a:lnTo>
                    <a:lnTo>
                      <a:pt x="595" y="156"/>
                    </a:lnTo>
                    <a:lnTo>
                      <a:pt x="589" y="164"/>
                    </a:lnTo>
                    <a:lnTo>
                      <a:pt x="585" y="170"/>
                    </a:lnTo>
                    <a:lnTo>
                      <a:pt x="580" y="178"/>
                    </a:lnTo>
                    <a:lnTo>
                      <a:pt x="572" y="187"/>
                    </a:lnTo>
                    <a:lnTo>
                      <a:pt x="564" y="196"/>
                    </a:lnTo>
                    <a:lnTo>
                      <a:pt x="554" y="207"/>
                    </a:lnTo>
                    <a:lnTo>
                      <a:pt x="545" y="217"/>
                    </a:lnTo>
                    <a:lnTo>
                      <a:pt x="535" y="228"/>
                    </a:lnTo>
                    <a:lnTo>
                      <a:pt x="525" y="238"/>
                    </a:lnTo>
                    <a:lnTo>
                      <a:pt x="512" y="249"/>
                    </a:lnTo>
                    <a:lnTo>
                      <a:pt x="503" y="257"/>
                    </a:lnTo>
                    <a:lnTo>
                      <a:pt x="493" y="265"/>
                    </a:lnTo>
                    <a:lnTo>
                      <a:pt x="481" y="274"/>
                    </a:lnTo>
                    <a:lnTo>
                      <a:pt x="468" y="283"/>
                    </a:lnTo>
                    <a:lnTo>
                      <a:pt x="455" y="293"/>
                    </a:lnTo>
                    <a:lnTo>
                      <a:pt x="442" y="301"/>
                    </a:lnTo>
                    <a:lnTo>
                      <a:pt x="428" y="310"/>
                    </a:lnTo>
                    <a:lnTo>
                      <a:pt x="413" y="319"/>
                    </a:lnTo>
                    <a:lnTo>
                      <a:pt x="399" y="325"/>
                    </a:lnTo>
                    <a:lnTo>
                      <a:pt x="385" y="332"/>
                    </a:lnTo>
                    <a:lnTo>
                      <a:pt x="372" y="338"/>
                    </a:lnTo>
                    <a:lnTo>
                      <a:pt x="360" y="344"/>
                    </a:lnTo>
                    <a:lnTo>
                      <a:pt x="346" y="350"/>
                    </a:lnTo>
                    <a:lnTo>
                      <a:pt x="332" y="355"/>
                    </a:lnTo>
                    <a:lnTo>
                      <a:pt x="319" y="359"/>
                    </a:lnTo>
                    <a:lnTo>
                      <a:pt x="304" y="364"/>
                    </a:lnTo>
                    <a:lnTo>
                      <a:pt x="291" y="368"/>
                    </a:lnTo>
                    <a:lnTo>
                      <a:pt x="275" y="372"/>
                    </a:lnTo>
                    <a:lnTo>
                      <a:pt x="259" y="376"/>
                    </a:lnTo>
                    <a:lnTo>
                      <a:pt x="244" y="380"/>
                    </a:lnTo>
                    <a:lnTo>
                      <a:pt x="227" y="383"/>
                    </a:lnTo>
                    <a:lnTo>
                      <a:pt x="210" y="385"/>
                    </a:lnTo>
                    <a:lnTo>
                      <a:pt x="195" y="387"/>
                    </a:lnTo>
                    <a:lnTo>
                      <a:pt x="180" y="388"/>
                    </a:lnTo>
                    <a:lnTo>
                      <a:pt x="161" y="389"/>
                    </a:lnTo>
                    <a:lnTo>
                      <a:pt x="146" y="389"/>
                    </a:lnTo>
                    <a:lnTo>
                      <a:pt x="128" y="389"/>
                    </a:lnTo>
                    <a:lnTo>
                      <a:pt x="128" y="350"/>
                    </a:lnTo>
                    <a:lnTo>
                      <a:pt x="0" y="440"/>
                    </a:lnTo>
                    <a:lnTo>
                      <a:pt x="128" y="538"/>
                    </a:lnTo>
                    <a:lnTo>
                      <a:pt x="128" y="500"/>
                    </a:lnTo>
                    <a:lnTo>
                      <a:pt x="149" y="500"/>
                    </a:lnTo>
                    <a:lnTo>
                      <a:pt x="167" y="500"/>
                    </a:lnTo>
                    <a:lnTo>
                      <a:pt x="186" y="498"/>
                    </a:lnTo>
                    <a:lnTo>
                      <a:pt x="203" y="497"/>
                    </a:lnTo>
                    <a:lnTo>
                      <a:pt x="219" y="495"/>
                    </a:lnTo>
                    <a:lnTo>
                      <a:pt x="235" y="493"/>
                    </a:lnTo>
                    <a:lnTo>
                      <a:pt x="252" y="491"/>
                    </a:lnTo>
                    <a:lnTo>
                      <a:pt x="267" y="488"/>
                    </a:lnTo>
                    <a:lnTo>
                      <a:pt x="281" y="485"/>
                    </a:lnTo>
                    <a:lnTo>
                      <a:pt x="297" y="482"/>
                    </a:lnTo>
                    <a:lnTo>
                      <a:pt x="316" y="477"/>
                    </a:lnTo>
                    <a:lnTo>
                      <a:pt x="331" y="473"/>
                    </a:lnTo>
                    <a:lnTo>
                      <a:pt x="346" y="468"/>
                    </a:lnTo>
                    <a:lnTo>
                      <a:pt x="361" y="464"/>
                    </a:lnTo>
                    <a:lnTo>
                      <a:pt x="378" y="457"/>
                    </a:lnTo>
                    <a:lnTo>
                      <a:pt x="393" y="451"/>
                    </a:lnTo>
                    <a:lnTo>
                      <a:pt x="408" y="445"/>
                    </a:lnTo>
                    <a:lnTo>
                      <a:pt x="422" y="439"/>
                    </a:lnTo>
                    <a:lnTo>
                      <a:pt x="438" y="431"/>
                    </a:lnTo>
                    <a:lnTo>
                      <a:pt x="453" y="423"/>
                    </a:lnTo>
                    <a:lnTo>
                      <a:pt x="467" y="417"/>
                    </a:lnTo>
                    <a:lnTo>
                      <a:pt x="481" y="408"/>
                    </a:lnTo>
                    <a:lnTo>
                      <a:pt x="493" y="402"/>
                    </a:lnTo>
                    <a:lnTo>
                      <a:pt x="507" y="393"/>
                    </a:lnTo>
                    <a:lnTo>
                      <a:pt x="519" y="385"/>
                    </a:lnTo>
                    <a:lnTo>
                      <a:pt x="533" y="375"/>
                    </a:lnTo>
                    <a:lnTo>
                      <a:pt x="547" y="366"/>
                    </a:lnTo>
                    <a:lnTo>
                      <a:pt x="559" y="355"/>
                    </a:lnTo>
                    <a:lnTo>
                      <a:pt x="571" y="345"/>
                    </a:lnTo>
                    <a:lnTo>
                      <a:pt x="583" y="336"/>
                    </a:lnTo>
                    <a:lnTo>
                      <a:pt x="594" y="326"/>
                    </a:lnTo>
                    <a:lnTo>
                      <a:pt x="603" y="317"/>
                    </a:lnTo>
                    <a:lnTo>
                      <a:pt x="616" y="306"/>
                    </a:lnTo>
                    <a:lnTo>
                      <a:pt x="627" y="293"/>
                    </a:lnTo>
                    <a:lnTo>
                      <a:pt x="636" y="284"/>
                    </a:lnTo>
                    <a:lnTo>
                      <a:pt x="646" y="272"/>
                    </a:lnTo>
                    <a:lnTo>
                      <a:pt x="655" y="261"/>
                    </a:lnTo>
                    <a:lnTo>
                      <a:pt x="665" y="249"/>
                    </a:lnTo>
                    <a:lnTo>
                      <a:pt x="675" y="236"/>
                    </a:lnTo>
                    <a:lnTo>
                      <a:pt x="683" y="225"/>
                    </a:lnTo>
                    <a:lnTo>
                      <a:pt x="694" y="212"/>
                    </a:lnTo>
                    <a:lnTo>
                      <a:pt x="701" y="201"/>
                    </a:lnTo>
                    <a:lnTo>
                      <a:pt x="709" y="190"/>
                    </a:lnTo>
                    <a:lnTo>
                      <a:pt x="713" y="183"/>
                    </a:lnTo>
                    <a:lnTo>
                      <a:pt x="719" y="175"/>
                    </a:lnTo>
                    <a:lnTo>
                      <a:pt x="723" y="169"/>
                    </a:lnTo>
                    <a:lnTo>
                      <a:pt x="726" y="163"/>
                    </a:lnTo>
                    <a:lnTo>
                      <a:pt x="730" y="156"/>
                    </a:lnTo>
                    <a:lnTo>
                      <a:pt x="733" y="148"/>
                    </a:lnTo>
                    <a:lnTo>
                      <a:pt x="737" y="140"/>
                    </a:lnTo>
                    <a:lnTo>
                      <a:pt x="741" y="133"/>
                    </a:lnTo>
                    <a:lnTo>
                      <a:pt x="745" y="127"/>
                    </a:lnTo>
                    <a:lnTo>
                      <a:pt x="749" y="119"/>
                    </a:lnTo>
                    <a:lnTo>
                      <a:pt x="753" y="111"/>
                    </a:lnTo>
                    <a:lnTo>
                      <a:pt x="756" y="102"/>
                    </a:lnTo>
                    <a:lnTo>
                      <a:pt x="761" y="94"/>
                    </a:lnTo>
                    <a:lnTo>
                      <a:pt x="764" y="86"/>
                    </a:lnTo>
                    <a:lnTo>
                      <a:pt x="767" y="79"/>
                    </a:lnTo>
                    <a:lnTo>
                      <a:pt x="770" y="71"/>
                    </a:lnTo>
                    <a:lnTo>
                      <a:pt x="773" y="63"/>
                    </a:lnTo>
                    <a:lnTo>
                      <a:pt x="776" y="55"/>
                    </a:lnTo>
                    <a:lnTo>
                      <a:pt x="778" y="49"/>
                    </a:lnTo>
                    <a:lnTo>
                      <a:pt x="781" y="4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035760" y="1107000"/>
              <a:ext cx="52632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63040" y="1844640"/>
              <a:ext cx="5889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26840" y="1777680"/>
              <a:ext cx="5889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98480" y="1107000"/>
              <a:ext cx="5889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42680" y="1792800"/>
              <a:ext cx="1409400" cy="0"/>
            </a:xfrm>
            <a:prstGeom prst="line">
              <a:avLst/>
            </a:prstGeom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2920" y="1324800"/>
              <a:ext cx="0" cy="1014120"/>
            </a:xfrm>
            <a:prstGeom prst="line">
              <a:avLst/>
            </a:prstGeom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7543800" y="1219320"/>
            <a:ext cx="76212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MI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184000" y="1219320"/>
            <a:ext cx="36860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Client/Serv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6,7</a:t>
            </a: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 H/P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We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4,4</a:t>
            </a: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 H/P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e-Business We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7,5</a:t>
            </a: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 H/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609480" y="762120"/>
            <a:ext cx="41529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ais Números 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0" name=""/>
          <p:cNvSpPr/>
          <p:nvPr/>
        </p:nvSpPr>
        <p:spPr>
          <a:xfrm>
            <a:off x="5181480" y="1143000"/>
            <a:ext cx="3657600" cy="175248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63920" y="21337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cc"/>
                </a:solidFill>
                <a:latin typeface="Times New Roman"/>
              </a:rPr>
              <a:t>David Consult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372320" y="259092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ês = 12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533520" y="3124080"/>
          <a:ext cx="5105160" cy="349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510516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5" name=""/>
          <p:cNvSpPr/>
          <p:nvPr/>
        </p:nvSpPr>
        <p:spPr>
          <a:xfrm>
            <a:off x="5791320" y="3657600"/>
            <a:ext cx="3047760" cy="24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édia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esceu para um número próximo a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e a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ediana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, para algo em torno de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152280" y="1905120"/>
            <a:ext cx="883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 aproveitarmos o fato de JAVA e C++ serem linguagens algo semelhantes (ambas orientadas a objeto, sintaxe um pouco parecida), poderemos encontrar cerca de 20 projetos no banco de dados do ISBSG, misturando JAVA e C++. A produtividade média desses projetos ficará entre 17 e 18 H/PF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Vamos reconhecer que a produtividade </a:t>
            </a: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média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dos projetos que utilizam JAVA deve estar entre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5 e 20 H/PF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. Mas não é essa a quest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empresas têm utilizado o número mágic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048120" y="990720"/>
            <a:ext cx="220968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clusão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0" y="914400"/>
            <a:ext cx="9372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ahoma"/>
              </a:rPr>
              <a:t>Exemplo de Estimativa de Esforç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1828800"/>
            <a:ext cx="883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EXEMPLO: PORT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59960" y="2971800"/>
            <a:ext cx="65113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licação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pe Experiente na Plataforma e no Negó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envolvimento/Reutilização de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 R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40240" y="23623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guagem 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07840" y="5257800"/>
            <a:ext cx="70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Índice de Produtividade: 8 horas para produzir 1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916200" y="5881680"/>
            <a:ext cx="44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sforço = 100 * 8 = 800 </a:t>
            </a:r>
            <a:r>
              <a:rPr b="1" lang="pt-BR" sz="2800" spc="-1" strike="noStrike">
                <a:solidFill>
                  <a:srgbClr val="000080"/>
                </a:solidFill>
                <a:latin typeface="Times New Roman"/>
              </a:rPr>
              <a:t>H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240" y="685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31640" y="152280"/>
            <a:ext cx="81788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 Black"/>
              </a:rPr>
              <a:t>Estimativas de Esforç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741040" y="68580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stimativas por F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71629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457200" y="5410080"/>
            <a:ext cx="8305920" cy="9907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1006560"/>
            <a:ext cx="9372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Tahoma"/>
              </a:rPr>
              <a:t>Estimativa de Praz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4960" y="2286000"/>
            <a:ext cx="80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- Estimativa de Esforç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- Tamanho da Equi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- Consideração: 6 horas de trabalho/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0120" y="5653080"/>
            <a:ext cx="81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azo (em dias) = Esforço (horas) /(Tam. equipe *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-152280" y="930240"/>
            <a:ext cx="9372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Tahoma"/>
              </a:rPr>
              <a:t>Exemplo de Estimativa de Praz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24160" y="3244680"/>
            <a:ext cx="7189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e: 1,5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tividade: 6 horas /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zo = 800  /(1,5 * 6)  =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89 dias úte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proximadamente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4,1 mes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35120" y="2174760"/>
            <a:ext cx="49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ocação de Equi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0" y="11430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Tahoma"/>
              </a:rPr>
              <a:t>Evitando a Região Impossí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1676520" y="1917720"/>
          <a:ext cx="647676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17720"/>
                    <a:ext cx="647676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2057400" y="510552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) Td é o tempo ótimo de desenvolv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2) To é o tempo que acarreta o menor cus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3) To = 2 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4) É impossível terminar em menos que 0,75 * 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609480" y="7621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ndo Prazos e Recursos a partir do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523880" y="1752480"/>
            <a:ext cx="6477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Usando a Aproximação de Capers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57400" y="3581280"/>
            <a:ext cx="6172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828800" y="2895480"/>
            <a:ext cx="5791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286000" y="3276720"/>
            <a:ext cx="5715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1) Td é o tempo ótimo de desenvolvimento, em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2) V é o volume em Pontos de Fun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3) t é um expoente que depende do ambiente computacional consid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362320" y="243828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cc"/>
                </a:solidFill>
                <a:latin typeface="Times New Roman"/>
              </a:rPr>
              <a:t>Td (meses) = V ** 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9" name=""/>
          <p:cNvGraphicFramePr/>
          <p:nvPr/>
        </p:nvGraphicFramePr>
        <p:xfrm>
          <a:off x="-1905120" y="2971800"/>
          <a:ext cx="1188720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2971800"/>
                    <a:ext cx="118872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1" name=""/>
          <p:cNvSpPr/>
          <p:nvPr/>
        </p:nvSpPr>
        <p:spPr>
          <a:xfrm>
            <a:off x="609480" y="7621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ndo Prazos e Recursos a partir do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286000" y="16765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Usando a Aproximação de Capers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828800" y="2895480"/>
            <a:ext cx="5791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362320" y="22860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cc"/>
                </a:solidFill>
                <a:latin typeface="Times New Roman"/>
              </a:rPr>
              <a:t>Td (meses) = V ** 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58000" y="228600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4,6 m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600" y="1920960"/>
            <a:ext cx="304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gião Impossív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0 - 3,5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52280" y="1082520"/>
            <a:ext cx="8839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ahoma"/>
              </a:rPr>
              <a:t>Estimativa de Cu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33520" y="228600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- Projetos Internos: Custo hora dos profissionais alocados e outros recur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- Projetos Terceirizados: Custo/PF +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outros cu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1080" y="1447920"/>
            <a:ext cx="55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 Processo de Medições de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316240"/>
            <a:ext cx="7086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necer uma base para melhoria contínua do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icar qualidade e produtiv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r integrado com o ciclo de vi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r o impacto de vários métodos, ferramentas, e técnicas de melh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61560" y="152280"/>
            <a:ext cx="68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ROCESSO DE MEDIÇÕE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2748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52280" y="1387440"/>
            <a:ext cx="8991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ahoma"/>
              </a:rPr>
              <a:t>Estimativa de  Recursos Comput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4920" y="2438280"/>
            <a:ext cx="8610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Nome do Recurso Comput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Descr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Responsável pela Disponibi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Data Lim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Parâ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Cu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Crí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553760" y="166680"/>
            <a:ext cx="61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Estimativas de Projeto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207600" y="166680"/>
            <a:ext cx="23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525320" y="2028960"/>
            <a:ext cx="5097240" cy="3762000"/>
            <a:chOff x="1525320" y="2028960"/>
            <a:chExt cx="5097240" cy="3762000"/>
          </a:xfrm>
        </p:grpSpPr>
        <p:grpSp>
          <p:nvGrpSpPr>
            <p:cNvPr id="1033" name=""/>
            <p:cNvGrpSpPr/>
            <p:nvPr/>
          </p:nvGrpSpPr>
          <p:grpSpPr>
            <a:xfrm>
              <a:off x="3270240" y="2438640"/>
              <a:ext cx="3352320" cy="3352320"/>
              <a:chOff x="3270240" y="2438640"/>
              <a:chExt cx="3352320" cy="3352320"/>
            </a:xfrm>
          </p:grpSpPr>
          <p:sp>
            <p:nvSpPr>
              <p:cNvPr id="1034" name=""/>
              <p:cNvSpPr/>
              <p:nvPr/>
            </p:nvSpPr>
            <p:spPr>
              <a:xfrm rot="5400000">
                <a:off x="3270240" y="2438640"/>
                <a:ext cx="1676160" cy="1676160"/>
              </a:xfrm>
              <a:prstGeom prst="rect">
                <a:avLst/>
              </a:prstGeom>
              <a:solidFill>
                <a:srgbClr val="66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5400000">
                <a:off x="4946400" y="2438640"/>
                <a:ext cx="1676160" cy="1676160"/>
              </a:xfrm>
              <a:prstGeom prst="rect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5400000">
                <a:off x="3270240" y="4114800"/>
                <a:ext cx="1676160" cy="167616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5400000">
                <a:off x="4946400" y="4114800"/>
                <a:ext cx="1676160" cy="1676160"/>
              </a:xfrm>
              <a:prstGeom prst="rect">
                <a:avLst/>
              </a:prstGeom>
              <a:solidFill>
                <a:srgbClr val="c1ce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3498480" y="2028960"/>
              <a:ext cx="141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onsciê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50240" y="3096000"/>
              <a:ext cx="137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etê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525320" y="484380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ompetê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74640" y="2028960"/>
              <a:ext cx="128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ciê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3992400" y="2817720"/>
            <a:ext cx="1874880" cy="425520"/>
            <a:chOff x="3992400" y="2817720"/>
            <a:chExt cx="1874880" cy="425520"/>
          </a:xfrm>
        </p:grpSpPr>
        <p:sp>
          <p:nvSpPr>
            <p:cNvPr id="1043" name=""/>
            <p:cNvSpPr/>
            <p:nvPr/>
          </p:nvSpPr>
          <p:spPr>
            <a:xfrm>
              <a:off x="4033800" y="2817720"/>
              <a:ext cx="1833480" cy="379440"/>
            </a:xfrm>
            <a:custGeom>
              <a:avLst/>
              <a:gdLst/>
              <a:ahLst/>
              <a:rect l="l" t="t" r="r" b="b"/>
              <a:pathLst>
                <a:path w="1155" h="239">
                  <a:moveTo>
                    <a:pt x="1155" y="239"/>
                  </a:moveTo>
                  <a:cubicBezTo>
                    <a:pt x="1136" y="223"/>
                    <a:pt x="1084" y="172"/>
                    <a:pt x="1041" y="143"/>
                  </a:cubicBezTo>
                  <a:cubicBezTo>
                    <a:pt x="998" y="114"/>
                    <a:pt x="947" y="86"/>
                    <a:pt x="897" y="65"/>
                  </a:cubicBezTo>
                  <a:cubicBezTo>
                    <a:pt x="847" y="44"/>
                    <a:pt x="791" y="26"/>
                    <a:pt x="737" y="15"/>
                  </a:cubicBezTo>
                  <a:cubicBezTo>
                    <a:pt x="683" y="4"/>
                    <a:pt x="629" y="0"/>
                    <a:pt x="574" y="1"/>
                  </a:cubicBezTo>
                  <a:cubicBezTo>
                    <a:pt x="519" y="2"/>
                    <a:pt x="463" y="7"/>
                    <a:pt x="408" y="19"/>
                  </a:cubicBezTo>
                  <a:cubicBezTo>
                    <a:pt x="353" y="31"/>
                    <a:pt x="292" y="50"/>
                    <a:pt x="241" y="73"/>
                  </a:cubicBezTo>
                  <a:cubicBezTo>
                    <a:pt x="190" y="96"/>
                    <a:pt x="141" y="128"/>
                    <a:pt x="101" y="156"/>
                  </a:cubicBezTo>
                  <a:cubicBezTo>
                    <a:pt x="61" y="184"/>
                    <a:pt x="21" y="222"/>
                    <a:pt x="0" y="23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92400" y="3179520"/>
              <a:ext cx="6696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0"/>
                  </a:moveTo>
                  <a:lnTo>
                    <a:pt x="0" y="4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4952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4038480" y="4984920"/>
            <a:ext cx="1874880" cy="424800"/>
            <a:chOff x="4038480" y="4984920"/>
            <a:chExt cx="1874880" cy="424800"/>
          </a:xfrm>
        </p:grpSpPr>
        <p:sp>
          <p:nvSpPr>
            <p:cNvPr id="1047" name=""/>
            <p:cNvSpPr/>
            <p:nvPr/>
          </p:nvSpPr>
          <p:spPr>
            <a:xfrm flipH="1" flipV="1">
              <a:off x="4038120" y="5030280"/>
              <a:ext cx="1833480" cy="379080"/>
            </a:xfrm>
            <a:custGeom>
              <a:avLst/>
              <a:gdLst/>
              <a:ahLst/>
              <a:rect l="l" t="t" r="r" b="b"/>
              <a:pathLst>
                <a:path w="1155" h="239">
                  <a:moveTo>
                    <a:pt x="1155" y="239"/>
                  </a:moveTo>
                  <a:cubicBezTo>
                    <a:pt x="1136" y="223"/>
                    <a:pt x="1084" y="172"/>
                    <a:pt x="1041" y="143"/>
                  </a:cubicBezTo>
                  <a:cubicBezTo>
                    <a:pt x="998" y="114"/>
                    <a:pt x="947" y="86"/>
                    <a:pt x="897" y="65"/>
                  </a:cubicBezTo>
                  <a:cubicBezTo>
                    <a:pt x="847" y="44"/>
                    <a:pt x="791" y="26"/>
                    <a:pt x="737" y="15"/>
                  </a:cubicBezTo>
                  <a:cubicBezTo>
                    <a:pt x="683" y="4"/>
                    <a:pt x="629" y="0"/>
                    <a:pt x="574" y="1"/>
                  </a:cubicBezTo>
                  <a:cubicBezTo>
                    <a:pt x="519" y="2"/>
                    <a:pt x="463" y="7"/>
                    <a:pt x="408" y="19"/>
                  </a:cubicBezTo>
                  <a:cubicBezTo>
                    <a:pt x="353" y="31"/>
                    <a:pt x="292" y="50"/>
                    <a:pt x="241" y="73"/>
                  </a:cubicBezTo>
                  <a:cubicBezTo>
                    <a:pt x="190" y="96"/>
                    <a:pt x="141" y="128"/>
                    <a:pt x="101" y="156"/>
                  </a:cubicBezTo>
                  <a:cubicBezTo>
                    <a:pt x="61" y="184"/>
                    <a:pt x="21" y="222"/>
                    <a:pt x="0" y="23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 flipV="1">
              <a:off x="5846400" y="4984920"/>
              <a:ext cx="6696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0"/>
                  </a:moveTo>
                  <a:lnTo>
                    <a:pt x="0" y="4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5823000" y="3154320"/>
            <a:ext cx="425520" cy="1874880"/>
            <a:chOff x="5823000" y="3154320"/>
            <a:chExt cx="425520" cy="1874880"/>
          </a:xfrm>
        </p:grpSpPr>
        <p:sp>
          <p:nvSpPr>
            <p:cNvPr id="1050" name=""/>
            <p:cNvSpPr/>
            <p:nvPr/>
          </p:nvSpPr>
          <p:spPr>
            <a:xfrm rot="5400000">
              <a:off x="5141880" y="3922560"/>
              <a:ext cx="1833480" cy="379440"/>
            </a:xfrm>
            <a:custGeom>
              <a:avLst/>
              <a:gdLst/>
              <a:ahLst/>
              <a:rect l="l" t="t" r="r" b="b"/>
              <a:pathLst>
                <a:path w="1155" h="239">
                  <a:moveTo>
                    <a:pt x="1155" y="239"/>
                  </a:moveTo>
                  <a:cubicBezTo>
                    <a:pt x="1136" y="223"/>
                    <a:pt x="1084" y="172"/>
                    <a:pt x="1041" y="143"/>
                  </a:cubicBezTo>
                  <a:cubicBezTo>
                    <a:pt x="998" y="114"/>
                    <a:pt x="947" y="86"/>
                    <a:pt x="897" y="65"/>
                  </a:cubicBezTo>
                  <a:cubicBezTo>
                    <a:pt x="847" y="44"/>
                    <a:pt x="791" y="26"/>
                    <a:pt x="737" y="15"/>
                  </a:cubicBezTo>
                  <a:cubicBezTo>
                    <a:pt x="683" y="4"/>
                    <a:pt x="629" y="0"/>
                    <a:pt x="574" y="1"/>
                  </a:cubicBezTo>
                  <a:cubicBezTo>
                    <a:pt x="519" y="2"/>
                    <a:pt x="463" y="7"/>
                    <a:pt x="408" y="19"/>
                  </a:cubicBezTo>
                  <a:cubicBezTo>
                    <a:pt x="353" y="31"/>
                    <a:pt x="292" y="50"/>
                    <a:pt x="241" y="73"/>
                  </a:cubicBezTo>
                  <a:cubicBezTo>
                    <a:pt x="190" y="96"/>
                    <a:pt x="141" y="128"/>
                    <a:pt x="101" y="156"/>
                  </a:cubicBezTo>
                  <a:cubicBezTo>
                    <a:pt x="61" y="184"/>
                    <a:pt x="21" y="222"/>
                    <a:pt x="0" y="23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5400000">
              <a:off x="5821200" y="3155760"/>
              <a:ext cx="6696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0"/>
                  </a:moveTo>
                  <a:lnTo>
                    <a:pt x="0" y="4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3654360" y="3198960"/>
            <a:ext cx="426960" cy="1874160"/>
            <a:chOff x="3654360" y="3198960"/>
            <a:chExt cx="426960" cy="1874160"/>
          </a:xfrm>
        </p:grpSpPr>
        <p:sp>
          <p:nvSpPr>
            <p:cNvPr id="1053" name=""/>
            <p:cNvSpPr/>
            <p:nvPr/>
          </p:nvSpPr>
          <p:spPr>
            <a:xfrm flipH="1" flipV="1" rot="5400000">
              <a:off x="2927520" y="3925800"/>
              <a:ext cx="1833120" cy="379440"/>
            </a:xfrm>
            <a:custGeom>
              <a:avLst/>
              <a:gdLst/>
              <a:ahLst/>
              <a:rect l="l" t="t" r="r" b="b"/>
              <a:pathLst>
                <a:path w="1155" h="239">
                  <a:moveTo>
                    <a:pt x="1155" y="239"/>
                  </a:moveTo>
                  <a:cubicBezTo>
                    <a:pt x="1136" y="223"/>
                    <a:pt x="1084" y="172"/>
                    <a:pt x="1041" y="143"/>
                  </a:cubicBezTo>
                  <a:cubicBezTo>
                    <a:pt x="998" y="114"/>
                    <a:pt x="947" y="86"/>
                    <a:pt x="897" y="65"/>
                  </a:cubicBezTo>
                  <a:cubicBezTo>
                    <a:pt x="847" y="44"/>
                    <a:pt x="791" y="26"/>
                    <a:pt x="737" y="15"/>
                  </a:cubicBezTo>
                  <a:cubicBezTo>
                    <a:pt x="683" y="4"/>
                    <a:pt x="629" y="0"/>
                    <a:pt x="574" y="1"/>
                  </a:cubicBezTo>
                  <a:cubicBezTo>
                    <a:pt x="519" y="2"/>
                    <a:pt x="463" y="7"/>
                    <a:pt x="408" y="19"/>
                  </a:cubicBezTo>
                  <a:cubicBezTo>
                    <a:pt x="353" y="31"/>
                    <a:pt x="292" y="50"/>
                    <a:pt x="241" y="73"/>
                  </a:cubicBezTo>
                  <a:cubicBezTo>
                    <a:pt x="190" y="96"/>
                    <a:pt x="141" y="128"/>
                    <a:pt x="101" y="156"/>
                  </a:cubicBezTo>
                  <a:cubicBezTo>
                    <a:pt x="61" y="184"/>
                    <a:pt x="21" y="222"/>
                    <a:pt x="0" y="23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 flipV="1" rot="5400000">
              <a:off x="4016520" y="5008320"/>
              <a:ext cx="6624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0"/>
                  </a:moveTo>
                  <a:lnTo>
                    <a:pt x="0" y="4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0" y="914400"/>
            <a:ext cx="9366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cesso de Absor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2209680" y="533520"/>
            <a:ext cx="381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tes Referenciado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7" name=""/>
          <p:cNvSpPr/>
          <p:nvPr/>
        </p:nvSpPr>
        <p:spPr>
          <a:xfrm>
            <a:off x="1070280" y="1752480"/>
            <a:ext cx="6640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cc"/>
                </a:solidFill>
                <a:latin typeface="Times New Roman"/>
              </a:rPr>
              <a:t>Análise de Pontos por Fun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BFPUG: </a:t>
            </a:r>
            <a:r>
              <a:rPr b="1" lang="pt-BR" sz="4000" spc="-1" strike="noStrike">
                <a:solidFill>
                  <a:srgbClr val="003399"/>
                </a:solidFill>
                <a:latin typeface="Times New Roman"/>
              </a:rPr>
              <a:t>www.bfpug.com.b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IFPUG: </a:t>
            </a:r>
            <a:r>
              <a:rPr b="1" lang="pt-BR" sz="4000" spc="-1" strike="noStrike">
                <a:solidFill>
                  <a:srgbClr val="003399"/>
                </a:solidFill>
                <a:latin typeface="Times New Roman"/>
              </a:rPr>
              <a:t>www.ifpug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cc"/>
                </a:solidFill>
                <a:latin typeface="Times New Roman"/>
              </a:rPr>
              <a:t>Modelo CM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99"/>
                </a:solidFill>
                <a:latin typeface="Times New Roman"/>
              </a:rPr>
              <a:t>www.sei.cmu.ed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 txBox="1"/>
          <p:nvPr/>
        </p:nvSpPr>
        <p:spPr>
          <a:xfrm>
            <a:off x="2286000" y="3049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ografia Básic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9" name=""/>
          <p:cNvSpPr/>
          <p:nvPr/>
        </p:nvSpPr>
        <p:spPr>
          <a:xfrm>
            <a:off x="250920" y="1052640"/>
            <a:ext cx="859608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FPUG. </a:t>
            </a:r>
            <a:r>
              <a:rPr b="1" lang="en-US" sz="2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ounting Practices Manual. </a:t>
            </a:r>
            <a:r>
              <a:rPr b="1" lang="pt-BR" sz="2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ersão 4.2,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  <a:ea typeface="Arial"/>
              </a:rPr>
              <a:t>GARMUS &amp; HERON. Function Point Analysis – Measurement Practices for Sucessful Software Projects, Addison-Wesley 2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JONES. Applied Software Measurement, Assuring Productiv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nd Quality. Prentice Hall, Second Edition, 199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EMARCO. Controle de Projetos de Software. Editora Camp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cc"/>
                </a:solidFill>
                <a:latin typeface="Times New Roman"/>
                <a:ea typeface="Arial"/>
              </a:rPr>
              <a:t>MCGARRY et al., “Practical Software Measurement - Objective Information for Decision Makers” - Addison Wesley, 20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454200" y="15228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ON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345200" y="220968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laudia Haz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46360" y="307980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Sc. Qualidade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41680" y="3627360"/>
            <a:ext cx="51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ertified Function Point Speci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44200" y="416088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ora de Qualidade de 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2000" y="4680000"/>
            <a:ext cx="37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laudinhah@yahoo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734280" y="531504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el: 9124-65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8" name=""/>
          <p:cNvGraphicFramePr/>
          <p:nvPr/>
        </p:nvGraphicFramePr>
        <p:xfrm>
          <a:off x="685800" y="2313000"/>
          <a:ext cx="261936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13000"/>
                    <a:ext cx="261936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5600" y="1066680"/>
            <a:ext cx="8340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66"/>
                </a:solidFill>
                <a:latin typeface="Times New Roman"/>
              </a:rPr>
              <a:t>PROBLEM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i="1" lang="pt-BR" sz="2800" spc="-1" strike="noStrike">
                <a:solidFill>
                  <a:srgbClr val="ff0066"/>
                </a:solidFill>
                <a:latin typeface="Times New Roman"/>
              </a:rPr>
              <a:t>Blindly Jump into a Software Measurement Progra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1720" y="2438280"/>
            <a:ext cx="228600" cy="228600"/>
          </a:xfrm>
          <a:prstGeom prst="rect">
            <a:avLst/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81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88920" y="226368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verk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3451320"/>
            <a:ext cx="228600" cy="228600"/>
          </a:xfrm>
          <a:prstGeom prst="rect">
            <a:avLst/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81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0920" y="327672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easurement Dys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6400" y="2717640"/>
            <a:ext cx="519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uitos dados, desperdício de esforç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82440" y="3703680"/>
            <a:ext cx="816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Avaliação de pessoas- </a:t>
            </a: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Tell-Them-What-They-Want-to-Hea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1720" y="4441680"/>
            <a:ext cx="228600" cy="228600"/>
          </a:xfrm>
          <a:prstGeom prst="rect">
            <a:avLst/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81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87480" y="426708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easurement Mism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87120" y="4768920"/>
            <a:ext cx="621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didas erradas, ambíguas ou inconsistent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200" y="5508720"/>
            <a:ext cx="228600" cy="228600"/>
          </a:xfrm>
          <a:prstGeom prst="rect">
            <a:avLst/>
          </a:prstGeom>
          <a:gradFill rotWithShape="0">
            <a:gsLst>
              <a:gs pos="0">
                <a:srgbClr val="75002f"/>
              </a:gs>
              <a:gs pos="50000">
                <a:srgbClr val="ff0066"/>
              </a:gs>
              <a:gs pos="100000">
                <a:srgbClr val="75002f"/>
              </a:gs>
            </a:gsLst>
            <a:lin ang="81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21680" y="533412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cess Mism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19160" y="5835600"/>
            <a:ext cx="603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didas que reforçam os processos errad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1560" y="152280"/>
            <a:ext cx="68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PROCESSO DE MEDIÇÕES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2T14:58:50Z</dcterms:created>
  <dc:creator>Claudia Hazan</dc:creator>
  <dc:description/>
  <dc:language>en-US</dc:language>
  <cp:lastModifiedBy> home</cp:lastModifiedBy>
  <dcterms:modified xsi:type="dcterms:W3CDTF">2005-05-22T00:52:02Z</dcterms:modified>
  <cp:revision>23</cp:revision>
  <dc:subject/>
  <dc:title>Apresentação do PowerPoint</dc:title>
</cp:coreProperties>
</file>